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F3E-681D-4850-972C-F969F2D0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289-A5A8-4D3E-8CE4-0B76E461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F81-F8ED-4D49-A6F8-0DAC65F0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ADD-E07A-47F6-9E6F-A45CDC6B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662-3E8E-4AA2-9073-2E41D1C1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C11-858F-4554-AE93-CD41FBFE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D5E-BFEC-4443-9EB1-50E2F768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504-C2F5-4122-82B0-168334E1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667-1B98-468D-A09F-F798A57E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85E-BFC4-42F5-9B6D-7CFD4CEB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CEA-8F65-4CCB-91FE-26C8308D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B55-5954-4A22-B94E-A074040A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CF9C-4261-4E15-A27F-D61F0D925CF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FDAA-EDD5-4190-B847-17C740D2B3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haojing@sttri.com.cn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6DEB-A04B-4B6F-8B6D-378DC375B74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6200" y="149076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urrent Burst Gap related Drafts</a:t>
            </a:r>
            <a:br>
              <a:rPr sz="4000"/>
            </a:b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16120" y="4107960"/>
            <a:ext cx="7386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Jing Zhao (zhaojing@sttri.com.c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unshine Zhang(Zhangyx@sttri.com.c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4255-264C-4248-84FC-2CA282F09FF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6120" y="639360"/>
            <a:ext cx="82296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wo Burst Gap draf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burst-gap-loss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burst-gap-discard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One Burst Gap related draft (Discard Dra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discard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One Burst Gap Summary dra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zorn-xrblock-rtcp-xr-al-stat-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card draft discusses discard basic metr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wo Burst Gap drafts discusses burst gap related basic metr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urst Gap Summary draft add dependency to both Discard draft and two burst Gap draf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ur drafts all focus on transport related terminal metr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0 version contains a few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llow consensus to draft-ietf-avtcore-mon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D229-014B-4CE9-ABA5-C1F80D079AE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mmon Changes since 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1920" y="1287360"/>
            <a:ext cx="83408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move tag field in Block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d SSRC field in the Block pay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move the reference to tag field that is related to measurement identity d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ix typo on the New XR Block Type val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ference up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2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tric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内容占位符 5" descr=""/>
          <p:cNvPicPr/>
          <p:nvPr/>
        </p:nvPicPr>
        <p:blipFill>
          <a:blip r:embed="rId1"/>
          <a:stretch/>
        </p:blipFill>
        <p:spPr>
          <a:xfrm>
            <a:off x="476280" y="1311120"/>
            <a:ext cx="6431040" cy="4596120"/>
          </a:xfrm>
          <a:prstGeom prst="rect">
            <a:avLst/>
          </a:prstGeom>
          <a:ln w="0">
            <a:noFill/>
          </a:ln>
        </p:spPr>
      </p:pic>
      <p:sp>
        <p:nvSpPr>
          <p:cNvPr id="5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50A8-E47D-45F1-B585-12D4315E80A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页脚占位符 4"/>
          <p:cNvSpPr/>
          <p:nvPr/>
        </p:nvSpPr>
        <p:spPr>
          <a:xfrm>
            <a:off x="3097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45960" y="1519200"/>
            <a:ext cx="143028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1. No dependency between three metric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2. Uses a time window to differentiate packet loss and packet disc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3. Uses Gmin or Threshold to distinguish Gap and Burs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4. Discard metric is used to calculate gap discard rate defined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Burst Gap Loss Summary XR Block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raft-zorn-xrblock-rtcp-xr-al-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示 9" descr=""/>
          <p:cNvPicPr/>
          <p:nvPr/>
        </p:nvPicPr>
        <p:blipFill>
          <a:blip r:embed="rId2"/>
          <a:stretch/>
        </p:blipFill>
        <p:spPr>
          <a:xfrm>
            <a:off x="5668920" y="1378080"/>
            <a:ext cx="3140280" cy="2243160"/>
          </a:xfrm>
          <a:prstGeom prst="rect">
            <a:avLst/>
          </a:prstGeom>
          <a:ln w="0">
            <a:noFill/>
          </a:ln>
        </p:spPr>
      </p:pic>
      <p:pic>
        <p:nvPicPr>
          <p:cNvPr id="60" name="图示 10" descr=""/>
          <p:cNvPicPr/>
          <p:nvPr/>
        </p:nvPicPr>
        <p:blipFill>
          <a:blip r:embed="rId3"/>
          <a:stretch/>
        </p:blipFill>
        <p:spPr>
          <a:xfrm>
            <a:off x="5662440" y="3597120"/>
            <a:ext cx="3146760" cy="231012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6043680" y="96840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endency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2640" y="-36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ssue- combined loss/disca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14440" y="68724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comment is applied to burst gap loss draft and burst gap discard dra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ption 1: 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 combined loss/discard draft is more useful for QoE assess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ost of measurement results in two draft are redund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.g., Threshold. Sum of Burst duration, Total packet expected in the burst,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ggestion proposed by A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mbined to a single burst-gap-loss-discard draf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ption 2: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re may be some cases in which reporting only loss may be use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parated as burst-gap-loss-discard and burst-gap-loss draf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commendation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 some case, we need combining, in some case we don’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ggestion in the Option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flicts with principle developed in MONARCH d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reak the following rul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ain a single metric or a small number of metrics relevant to 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ingle parameter 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lete redundant data from burst Gap discard draft and only keep packet discard in burst metr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mbine Loss/discard is required, sent toge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EF0C-883C-49FB-84AC-387548E84796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1289160" y="2249640"/>
            <a:ext cx="6105240" cy="2438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ssue – early vs late discard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538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is comment is applied to both burst gap discard draft and discard dr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dentify early vs late discards help to determine what the cause was. (Alan Cla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 some case, only later discard is re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t will be useful in sender driven congestion control and Multipath RTP case. (Varun Sin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 there any consensus to distinct early discard from late disc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37D6-998B-4FC6-9384-9A7B45E3FD6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2819520" y="2543040"/>
            <a:ext cx="3504960" cy="1771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6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mments on potential extension to burst gap draf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se proposed extensions are applied to burst gap loss draft and burst gap discard dra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there a need to add Time Since Last Burst into burst gap draf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elpful to know when the last substantial loss/discard burst occurred relative to the repor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t we may estimate time such last burst based on measurement interval carried in the measurement information XR Blo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there a need to add Max burst length  into burst gap draf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ax burst length is important as this is  the period that impacted the user 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represents the “worst” period from a QoE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there a need to add average burst and gap loss/discard rates without keeping and reporting sums/ sums of squares of burst du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8E58-9310-44BE-ACAD-EC8414050D1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EB78-3CE8-4D20-8CE4-E5794C091FE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GLC to the following draf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burst-gap-loss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burst-gap-discard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discard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w53375</cp:lastModifiedBy>
  <dcterms:modified xsi:type="dcterms:W3CDTF">2011-11-14T15:36:57Z</dcterms:modified>
  <cp:revision>986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KNFqyg4rxkcLIOL74+MLYfUB8wQ53TxOc6cVOQD5QVjbU6NOQkL/ud5EdkTTwxDjUsiww8mN
YztvOGr/gZedkfdIXRacqvTkjSfx4myrIURpW5L1UB6iMyzs/uFRmIAoUAFzTPXCEuf/aLoX
aJ5KreigL6BNgWwJk+jt4RmT/m6IcgAV6ZHS4cHlSeu0HGpjLuJgmDgela+6rsPnEOGo9KIa
SgRv18TnuLV/dvIi7PRT+</vt:lpwstr>
  </property>
  <property fmtid="{D5CDD505-2E9C-101B-9397-08002B2CF9AE}" pid="3" name="_ms_pID_7253431">
    <vt:lpwstr>MkUgBmoqvGQMNVkYVTNtSORZnUabmrD5fNgt1DgGOZUNPyXG/Jj
UeMj6IU//T/i2BeXckMhoPPV9ktdo+EIyDoRbhP1M398NATk2g9MCZ5urlm1WGywG7O1Yk3/
AG6gxHVp6A3Y4/Y9HmJCTJe6K470Wd40h87OgTsnvPpWo2xW7PrJ/6zaKgePpntXz05jc7uZ
uRL2sav7A9lnz83vUdwuMB4XnLoHlcY7IqwBucZAXx</vt:lpwstr>
  </property>
  <property fmtid="{D5CDD505-2E9C-101B-9397-08002B2CF9AE}" pid="4" name="_ms_pID_7253432">
    <vt:lpwstr>v7AW4Dq6FnrWp0YQY=</vt:lpwstr>
  </property>
  <property fmtid="{D5CDD505-2E9C-101B-9397-08002B2CF9AE}" pid="5" name="sflag">
    <vt:lpwstr>1321284651</vt:lpwstr>
  </property>
</Properties>
</file>