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CD5-FBF9-4344-9D3C-F62AA5DE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71A-1F8E-49A2-8E26-9A168B7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490-FD38-4918-8648-77E5F5D3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0FD-58D7-438C-B3A7-8197723A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01A-90FA-45C5-B040-BF05A74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91A-C92B-4381-925D-F1C5539E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413-AFA3-4B10-B8A0-4B62190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F6A-937A-4497-8EDE-864B5FA3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412-7491-4A29-A0FC-0E6398A6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2CC-2966-4135-930D-1983F5C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EBE-1FAB-41E2-98E3-30A7181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B6F-B893-4E9C-AE69-D9B18F9B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A192-04BF-4F3E-9C47-C998D3BCCF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A108-B771-4D3C-9291-83B1649D76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ojing@sttri.com.c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5D3F-799B-4A07-8643-27A426E145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7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urrent Burst Gap related Drafts</a:t>
            </a:r>
            <a:br>
              <a:rPr sz="40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Jing Zhao (zhaojing@sttri.com.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nshine Zhang(Zhangyx@sttri.com.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86B8-FBFC-4232-AD5A-56183E9642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6120" y="63936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wo Burst Gap draf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loss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discard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e Burst Gap related draft (Discard Dra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discard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e Burst Gap Summary d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zorn-xrblock-rtcp-xr-al-stat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card draft discusses discard basic met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wo Burst Gap drafts discusses burst gap related basic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rst Gap Summary draft add dependency to both Discard draft and two burst Gap dra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r drafts all focus on transport related terminal metr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 version contains a few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576F-4DCD-484A-8E8C-ADB9F449B4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mmon Changes since 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move tag field in Block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SSRC field in the Block pay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move the reference to tag field that is related to measurement identity d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x typo on the New XR Block Type val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5" descr=""/>
          <p:cNvPicPr/>
          <p:nvPr/>
        </p:nvPicPr>
        <p:blipFill>
          <a:blip r:embed="rId1"/>
          <a:stretch/>
        </p:blipFill>
        <p:spPr>
          <a:xfrm>
            <a:off x="476280" y="1311120"/>
            <a:ext cx="6431040" cy="4596120"/>
          </a:xfrm>
          <a:prstGeom prst="rect">
            <a:avLst/>
          </a:prstGeom>
          <a:ln w="0">
            <a:noFill/>
          </a:ln>
        </p:spPr>
      </p:pic>
      <p:sp>
        <p:nvSpPr>
          <p:cNvPr id="5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D2BD-5371-44E2-B9F4-CD383D2134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4"/>
          <p:cNvSpPr/>
          <p:nvPr/>
        </p:nvSpPr>
        <p:spPr>
          <a:xfrm>
            <a:off x="3097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45960" y="1519200"/>
            <a:ext cx="143028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. No dependency between three metric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. Uses a time window to differentiate packet loss and packet disc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3. Uses Gmin or Threshold to distinguish Gap and Bur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. Discard metric is used to calculate gap discard rate defin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urst Gap Loss Summary XR Block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raft-zorn-xrblock-rtcp-xr-al-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示 9" descr=""/>
          <p:cNvPicPr/>
          <p:nvPr/>
        </p:nvPicPr>
        <p:blipFill>
          <a:blip r:embed="rId2"/>
          <a:stretch/>
        </p:blipFill>
        <p:spPr>
          <a:xfrm>
            <a:off x="5668920" y="1378080"/>
            <a:ext cx="3140280" cy="2243160"/>
          </a:xfrm>
          <a:prstGeom prst="rect">
            <a:avLst/>
          </a:prstGeom>
          <a:ln w="0">
            <a:noFill/>
          </a:ln>
        </p:spPr>
      </p:pic>
      <p:pic>
        <p:nvPicPr>
          <p:cNvPr id="60" name="图示 10" descr=""/>
          <p:cNvPicPr/>
          <p:nvPr/>
        </p:nvPicPr>
        <p:blipFill>
          <a:blip r:embed="rId3"/>
          <a:stretch/>
        </p:blipFill>
        <p:spPr>
          <a:xfrm>
            <a:off x="5662440" y="3597120"/>
            <a:ext cx="3146760" cy="2310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6043680" y="96840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endency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640" y="-36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sue- combined loss/disc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4440" y="68724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comment is applied to burst gap loss draft and burst gap discard dra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ption 1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combined loss/discard draft is more useful for QoE assess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st of measurement results in two draft are redu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.g., Threshold. Sum of Burst duration, Total packet expected in the burst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ggestion proposed by A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bined to a single burst-gap-loss-discard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ption 2: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re may be some cases in which reporting only loss may be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parated as burst-gap-loss-discard and burst-gap-loss dra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commendatio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 some case, we need combining, in some case we 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ggestion in the Option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flicts with principle developed in MONARCH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reak the following ru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ain a single metric or a small number of metrics relevant to 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ngle parameter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lete redundant data from burst Gap discard draft and only keep packet discard in burst met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bine Loss/discard is required, sent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77B-3CDD-451B-8656-0D2861ACEC9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289160" y="2249640"/>
            <a:ext cx="6105240" cy="243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sue – early vs late discard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538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comment is applied to both burst gap discard draft and discard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entify early vs late discards help to determine what the cause was. (Alan Cl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 some case, only later discard is re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 will be useful in sender driven congestion control and Multipath RTP case. (Varun Sin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there any consensus to distinct early discard from late disc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52E-7D4A-41C0-B220-9DC2D0B0E2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2819520" y="2543040"/>
            <a:ext cx="3504960" cy="17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6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ments on potential extension to burst gap draf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se proposed extensions are applied to burst gap loss draft and burst gap discard dra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re a need to add Time Since Last Burst into burst gap draf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lpful to know when the last substantial loss/discard burst occurred relative to the repo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t we may estimate time such last burst based on measurement interval carried in the measurement information XR Blo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re a need to add Max burst length  into burst gap d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x burst length is important as this is  the period that impacted the user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represents the “worst” period from a QoE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there a need to add average burst and gap loss/discard rates without keeping and reporting sums/ sums of squares of burst du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75A-95F5-42E8-B274-61E83C3555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39E-9C15-4B76-A0D3-158A9DCB0D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 to the following draf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loss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burst-gap-discard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discard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w53375</cp:lastModifiedBy>
  <dcterms:modified xsi:type="dcterms:W3CDTF">2011-11-14T15:36:57Z</dcterms:modified>
  <cp:revision>986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KNFqyg4rxkcLIOL74+MLYfUB8wQ53TxOc6cVOQD5QVjbU6NOQkL/ud5EdkTTwxDjUsiww8mN
YztvOGr/gZedkfdIXRacqvTkjSfx4myrIURpW5L1UB6iMyzs/uFRmIAoUAFzTPXCEuf/aLoX
aJ5KreigL6BNgWwJk+jt4RmT/m6IcgAV6ZHS4cHlSeu0HGpjLuJgmDgela+6rsPnEOGo9KIa
SgRv18TnuLV/dvIi7PRT+</vt:lpwstr>
  </property>
  <property fmtid="{D5CDD505-2E9C-101B-9397-08002B2CF9AE}" pid="3" name="_ms_pID_7253431">
    <vt:lpwstr>MkUgBmoqvGQMNVkYVTNtSORZnUabmrD5fNgt1DgGOZUNPyXG/Jj
UeMj6IU//T/i2BeXckMhoPPV9ktdo+EIyDoRbhP1M398NATk2g9MCZ5urlm1WGywG7O1Yk3/
AG6gxHVp6A3Y4/Y9HmJCTJe6K470Wd40h87OgTsnvPpWo2xW7PrJ/6zaKgePpntXz05jc7uZ
uRL2sav7A9lnz83vUdwuMB4XnLoHlcY7IqwBucZAXx</vt:lpwstr>
  </property>
  <property fmtid="{D5CDD505-2E9C-101B-9397-08002B2CF9AE}" pid="4" name="_ms_pID_7253432">
    <vt:lpwstr>v7AW4Dq6FnrWp0YQY=</vt:lpwstr>
  </property>
  <property fmtid="{D5CDD505-2E9C-101B-9397-08002B2CF9AE}" pid="5" name="sflag">
    <vt:lpwstr>1321284651</vt:lpwstr>
  </property>
</Properties>
</file>