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0D7-9C04-413F-8E63-F0C2A150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A38-313C-408D-9F04-C15BFB74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A0D-6CB5-41F6-A0FD-9B60C517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28B-28A1-46FE-8F11-CE4FDF85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C2E-4EFD-4700-876D-F0FA33B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BF4-DA78-4617-A53A-E24B8FC0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CBE-9577-4C32-AFC9-72E398CD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AE7-70F1-4FC8-B1BF-D27DE2B7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219-A772-4D3E-A805-C94B6497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9F8-7755-49C9-98DD-C821097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FC2-9A12-4449-BFEB-78D2D64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87E-AFA3-4F74-A6AE-6659DCA7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C44B-5B70-4B5C-85CC-361C99C89C3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6F8-0B4E-4469-ACA6-5355F96334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121F-C2EC-482C-A08A-A61353B7962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7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Report Block for Delay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delay-00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89120" y="4118040"/>
            <a:ext cx="7386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evin Gross (kevin.gross@comcast.n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. Hunt (r.geoff.hunt@gmail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an Clark (alan.d.clark@telchemy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E54-F116-4006-94B2-28285B8FEB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the metric for packet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metric belong to transport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0 version received comments o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0 version contains a few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llow consensus to draft-ietf-avtcore-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move tag field in Block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SSRC field in the Block pay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move the reference to tag field that is related to measurement identity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2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5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4668840" cy="4668840"/>
          </a:xfrm>
          <a:prstGeom prst="rect">
            <a:avLst/>
          </a:prstGeom>
          <a:ln w="0">
            <a:noFill/>
          </a:ln>
        </p:spPr>
      </p:pic>
      <p:sp>
        <p:nvSpPr>
          <p:cNvPr id="5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8978-4E00-4FC3-AB73-C55882DB0D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4"/>
          <p:cNvSpPr/>
          <p:nvPr/>
        </p:nvSpPr>
        <p:spPr>
          <a:xfrm>
            <a:off x="3097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箭头 6"/>
          <p:cNvSpPr/>
          <p:nvPr/>
        </p:nvSpPr>
        <p:spPr>
          <a:xfrm>
            <a:off x="4829040" y="4448160"/>
            <a:ext cx="773280" cy="2919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大括号 7"/>
          <p:cNvSpPr/>
          <p:nvPr/>
        </p:nvSpPr>
        <p:spPr>
          <a:xfrm>
            <a:off x="4952880" y="1712880"/>
            <a:ext cx="293760" cy="3889440"/>
          </a:xfrm>
          <a:custGeom>
            <a:avLst/>
            <a:gdLst>
              <a:gd name="textAreaLeft" fmla="*/ 0 w 293760"/>
              <a:gd name="textAreaRight" fmla="*/ 106200 w 293760"/>
              <a:gd name="textAreaTop" fmla="*/ 7560 h 3889440"/>
              <a:gd name="textAreaBottom" fmla="*/ 38818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"/>
                  <a:pt x="10800" y="136"/>
                </a:cubicBezTo>
                <a:lnTo>
                  <a:pt x="10800" y="10664"/>
                </a:lnTo>
                <a:cubicBezTo>
                  <a:pt x="10800" y="10732"/>
                  <a:pt x="16200" y="10800"/>
                  <a:pt x="21600" y="10800"/>
                </a:cubicBezTo>
                <a:cubicBezTo>
                  <a:pt x="16200" y="10800"/>
                  <a:pt x="10800" y="10868"/>
                  <a:pt x="10800" y="10936"/>
                </a:cubicBezTo>
                <a:lnTo>
                  <a:pt x="10800" y="21464"/>
                </a:lnTo>
                <a:cubicBezTo>
                  <a:pt x="10800" y="2153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0"/>
          <p:cNvGrpSpPr/>
          <p:nvPr/>
        </p:nvGrpSpPr>
        <p:grpSpPr>
          <a:xfrm>
            <a:off x="5735520" y="3914640"/>
            <a:ext cx="2849760" cy="1828800"/>
            <a:chOff x="5735520" y="3914640"/>
            <a:chExt cx="2849760" cy="1828800"/>
          </a:xfrm>
        </p:grpSpPr>
        <p:sp>
          <p:nvSpPr>
            <p:cNvPr id="57" name="圆角矩形 11"/>
            <p:cNvSpPr/>
            <p:nvPr/>
          </p:nvSpPr>
          <p:spPr>
            <a:xfrm>
              <a:off x="5735520" y="3920760"/>
              <a:ext cx="2849760" cy="18226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4"/>
            <p:cNvSpPr/>
            <p:nvPr/>
          </p:nvSpPr>
          <p:spPr>
            <a:xfrm>
              <a:off x="5760720" y="3914640"/>
              <a:ext cx="27673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End  System Delay =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accumulation and encoding dela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the jitter buffer 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Decoding 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playout buffer dela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3"/>
          <p:cNvGrpSpPr/>
          <p:nvPr/>
        </p:nvGrpSpPr>
        <p:grpSpPr>
          <a:xfrm>
            <a:off x="6143760" y="1600200"/>
            <a:ext cx="1987560" cy="1249200"/>
            <a:chOff x="6143760" y="1600200"/>
            <a:chExt cx="1987560" cy="1249200"/>
          </a:xfrm>
        </p:grpSpPr>
        <p:sp>
          <p:nvSpPr>
            <p:cNvPr id="60" name="圆角矩形 14"/>
            <p:cNvSpPr/>
            <p:nvPr/>
          </p:nvSpPr>
          <p:spPr>
            <a:xfrm>
              <a:off x="6143760" y="1600200"/>
              <a:ext cx="1987560" cy="12492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4"/>
            <p:cNvSpPr/>
            <p:nvPr/>
          </p:nvSpPr>
          <p:spPr>
            <a:xfrm>
              <a:off x="6172200" y="1758960"/>
              <a:ext cx="19306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Network Round Trip delay =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Overal Round trip 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-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end system 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956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ment from avtcore on One way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11000" y="1671120"/>
            <a:ext cx="6218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twork Round Trip delay T0 = One way delay T1 from Source to Receiver + One way delay T2 from Receiver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this always true when we say one way delay T1= ½ Network Round Trip Delay 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not true if the way in two directions is not symmetri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244-3FA7-45C3-8065-299BCC7EB16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示 5" descr=""/>
          <p:cNvPicPr/>
          <p:nvPr/>
        </p:nvPicPr>
        <p:blipFill>
          <a:blip r:embed="rId1"/>
          <a:stretch/>
        </p:blipFill>
        <p:spPr>
          <a:xfrm>
            <a:off x="974880" y="1305000"/>
            <a:ext cx="1049040" cy="4419360"/>
          </a:xfrm>
          <a:prstGeom prst="rect">
            <a:avLst/>
          </a:prstGeom>
          <a:ln w="0">
            <a:noFill/>
          </a:ln>
        </p:spPr>
      </p:pic>
      <p:sp>
        <p:nvSpPr>
          <p:cNvPr id="67" name="直接连接符 9"/>
          <p:cNvSpPr/>
          <p:nvPr/>
        </p:nvSpPr>
        <p:spPr>
          <a:xfrm>
            <a:off x="284040" y="2023920"/>
            <a:ext cx="719280" cy="9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0"/>
          <p:cNvSpPr/>
          <p:nvPr/>
        </p:nvSpPr>
        <p:spPr>
          <a:xfrm>
            <a:off x="258840" y="5194440"/>
            <a:ext cx="718920" cy="9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箭头连接符 12"/>
          <p:cNvCxnSpPr/>
          <p:nvPr/>
        </p:nvCxnSpPr>
        <p:spPr>
          <a:xfrm flipH="1">
            <a:off x="523080" y="2068560"/>
            <a:ext cx="10440" cy="305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0" name="直接箭头连接符 14"/>
          <p:cNvCxnSpPr/>
          <p:nvPr/>
        </p:nvCxnSpPr>
        <p:spPr>
          <a:xfrm flipV="1">
            <a:off x="753840" y="2068200"/>
            <a:ext cx="27720" cy="3107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1" name="TextBox 15"/>
          <p:cNvSpPr/>
          <p:nvPr/>
        </p:nvSpPr>
        <p:spPr>
          <a:xfrm>
            <a:off x="224280" y="2992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633960" y="3720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 for one way delay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48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 we have measurement method for one way asymmetric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.g., NTP timestamp in SR –arrival time of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blem to the proposed measurement method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guarantee wall clock is synchron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 accuracy you expect such measur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 we need one way delay to this XR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 1:Y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 have use case in IDMS draf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 this is not unspecified in any existing XR Block doc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 2: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 general way to calculate one way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licated calculation if synchronization is not guarante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5269-E6E7-447F-A538-130CD68F3DB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DB3F-9904-4941-AFF8-BAEBD85095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ed another revision if the open issue is confi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 if there is no open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Administrator</cp:lastModifiedBy>
  <dcterms:modified xsi:type="dcterms:W3CDTF">2011-11-11T10:16:47Z</dcterms:modified>
  <cp:revision>997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+CVEacRq6gKMRiVCylyS6QePKcweJcQ7eWuoFDZR/orI+LwebVJsUPEopykr0o63CjhGOarl
x7jBq4sQWvVgQzzdVDqIbvpuVlxNPChJ9lfgcNQIB6eT8eWVY71ZEvkdwxCPv6NNqEk0keve
9LUwtf8uV+A+U7t79oZTZbEgZ60dnu2HqSHo163jGBNL+ZKoyrU4dfhOzfM4sd4Y7R5nSrbC
peasF5opyvbPR5d1LNHhj</vt:lpwstr>
  </property>
  <property fmtid="{D5CDD505-2E9C-101B-9397-08002B2CF9AE}" pid="3" name="_ms_pID_7253431">
    <vt:lpwstr>i7oDhShHSHR6ZjvWp6UI9Lionz+IqWkxyEbrxSczcZvQH+vcwND
Qq/phRamYjZWL6jSYh/SxD1k92NFNatwgqaKhSjQHWtN3vHrWUUimk+4ooY5ucxMZ9ruxMdg
0u4=</vt:lpwstr>
  </property>
  <property fmtid="{D5CDD505-2E9C-101B-9397-08002B2CF9AE}" pid="4" name="sflag">
    <vt:lpwstr>1321006382</vt:lpwstr>
  </property>
</Properties>
</file>