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96D-65DE-4DA0-9C70-0E4BB2E8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4C2-3611-42E4-B24C-8931EBA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E3F-33BE-478D-BE15-D97390B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AE1-73A8-4360-815C-7152E33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C68-CD9B-469F-8B8E-EE6323C4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93B-64CD-4475-9430-9797582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44A-EA76-4D4D-A964-1F7A0F7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D89-EA2F-414E-8499-3840D05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444-B38B-4A8E-826B-F1673314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26C-A83E-4E29-8AF9-18AEFEB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080-9A4F-44CC-A4E1-E9110720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09B-0563-4531-99E9-1B5D9D3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D2F3-B37E-4054-8544-8BDA6006E5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20C-0872-4BA8-81A5-10236D8F15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95C-E228-4866-86FE-AAB92570B91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layered Stream statistics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xia-xrblock-rtcp-xr-layered-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Jinwei xia (xiajinwei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42D-6533-4A5F-8B9E-D3993B1D64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xia-xrblock-rtcp-xr-layered-statistics-01 is split from draft-wu-avt-rtcp-xr-quality-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ght after split of a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summary statistics for layered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metric block is more applicable to the case when each layer is sent in its RTP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he layer dependency field in the format of this metric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ear unused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1155600" y="3624120"/>
            <a:ext cx="6540480" cy="206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136520" y="1479600"/>
            <a:ext cx="6170760" cy="182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F1A5-E53C-4FC8-B19A-2EA79A6118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标注 8"/>
          <p:cNvSpPr/>
          <p:nvPr/>
        </p:nvSpPr>
        <p:spPr>
          <a:xfrm>
            <a:off x="6981840" y="2030400"/>
            <a:ext cx="1830240" cy="2873520"/>
          </a:xfrm>
          <a:prstGeom prst="wedgeRectCallout">
            <a:avLst>
              <a:gd name="adj1" fmla="val -49819"/>
              <a:gd name="adj2" fmla="val -73851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hallenge: when base layer and enhance layer are encapsulated in the same RTP stream, it is a challenge to distinguish the statistics on losses and duplicates in both 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ayered stream summary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Lost Layered Component Pa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dentify layer it measured by looking at NAL unit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count the lost packets in the specific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umber of lost packets is measured in the same way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ed in section 4.6 of RFC36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Dup Layered Component Pa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dentify layer it measured by looking at NAL unit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count the duplicated packets in the specific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umber of dup packets is measured in the same way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ed in section 4.6 of RFC36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3955-6D0C-4C0F-9962-218338DAE0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Xiajinwei</cp:lastModifiedBy>
  <dcterms:modified xsi:type="dcterms:W3CDTF">2011-11-10T03:01:00Z</dcterms:modified>
  <cp:revision>942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ifvPI5fDAlLKpFBXcHY3PffYXQIJjrYO75hwliyko33zf0D8PvNJ9MFRJipFlfNy2rRBO47E
6n1sYurloGbHte4oHEBM9ktzIPjgjFdCOSBFSMQ6ClvkYQfNc9HeXSoW3ORY+MHNU5sE/u9O
2ffdJdPGDpW37Y+UvV707yBVhEs2JTrcTrC0nuvUgWOKTji7tvhJAzd8gcEcawqBGmiQ+G48
Ct7qAyfZoPgzAcfz3hSZ4</vt:lpwstr>
  </property>
  <property fmtid="{D5CDD505-2E9C-101B-9397-08002B2CF9AE}" pid="3" name="_ms_pID_7253431">
    <vt:lpwstr>p0IqpL0Kgrx5JBOMpHNjk5ivBwL2GFtPXN3XGWvNiyW1o7vayKh
pAF5nB1t0txCYnhqLJIzHW2NTy7PnIhr1iUHfwaZGhRenEm0P73rON/wEwh586PGAnHqO4pw
Gr0fS74CuqbZp0eSe3OITEOOJTLr1z2co1bInrHWTd1tA5Lk28Gd5DmlNWF+/AWxGOM=</vt:lpwstr>
  </property>
  <property fmtid="{D5CDD505-2E9C-101B-9397-08002B2CF9AE}" pid="4" name="sflag">
    <vt:lpwstr>1320892842</vt:lpwstr>
  </property>
</Properties>
</file>