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5F6-CEBF-4E28-80B8-FE27A5F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381-59A4-46E8-871E-1E94012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E95-D78B-4306-8DF2-211E6CBC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96E-097A-4648-B2D7-777E93CD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85D-C282-4339-BF6F-DDB5AB2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151-ECDF-4326-B2DF-65E19F73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B41-1691-4677-99B6-0BB8DB06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A11-BCE1-450C-A72E-263C241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FC0-2B5F-480F-8DF5-17329728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958-BA08-4F38-8390-A4262DD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02A-30D1-45C0-B1FF-042B308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5C6-D6F0-424A-B657-A077259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11A-B2B5-4486-A4A6-802EF70617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3F6-3290-44A9-8400-8EB7A9AED1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167A-228F-451D-B317-467A3F6A33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layered Stream statistics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xia-xrblock-rtcp-xr-layered-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Jinwei xia (xiajinwe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7A8-D99D-46A3-B042-195C979EDDB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xia-xrblock-rtcp-xr-layered-statistics-01 is split from draft-wu-avt-rtcp-xr-quality-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ght after split of a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summary statistics for layered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metric block is more applicable to the case when each layer is sent in its RTP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he layer dependency field in the format of this metric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ear unused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1155600" y="3624120"/>
            <a:ext cx="6540480" cy="206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136520" y="1479600"/>
            <a:ext cx="6170760" cy="182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20C2-C52E-423D-BE0B-4F01164547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标注 8"/>
          <p:cNvSpPr/>
          <p:nvPr/>
        </p:nvSpPr>
        <p:spPr>
          <a:xfrm>
            <a:off x="6981840" y="2030400"/>
            <a:ext cx="1830240" cy="2873520"/>
          </a:xfrm>
          <a:prstGeom prst="wedgeRectCallout">
            <a:avLst>
              <a:gd name="adj1" fmla="val -49819"/>
              <a:gd name="adj2" fmla="val -73851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hallenge: when base layer and enhance layer are encapsulated in the same RTP stream, it is a challenge to distinguish the statistics on losses and duplicates in both 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ayered stream summary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Lost Layered Component Pa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dentify layer it measured by looking at NAL unit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count the lost packets in the specific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umber of lost packets is measured in the same way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ed in section 4.6 of RFC36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Dup Layered Component Pa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dentify layer it measured by looking at NAL unit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count the duplicated packets in the specific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umber of dup packets is measured in the same way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ed in section 4.6 of RFC36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305B-F321-4854-BC15-012B9DDA8BC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Xiajinwei</cp:lastModifiedBy>
  <dcterms:modified xsi:type="dcterms:W3CDTF">2011-11-10T03:01:00Z</dcterms:modified>
  <cp:revision>942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ifvPI5fDAlLKpFBXcHY3PffYXQIJjrYO75hwliyko33zf0D8PvNJ9MFRJipFlfNy2rRBO47E
6n1sYurloGbHte4oHEBM9ktzIPjgjFdCOSBFSMQ6ClvkYQfNc9HeXSoW3ORY+MHNU5sE/u9O
2ffdJdPGDpW37Y+UvV707yBVhEs2JTrcTrC0nuvUgWOKTji7tvhJAzd8gcEcawqBGmiQ+G48
Ct7qAyfZoPgzAcfz3hSZ4</vt:lpwstr>
  </property>
  <property fmtid="{D5CDD505-2E9C-101B-9397-08002B2CF9AE}" pid="3" name="_ms_pID_7253431">
    <vt:lpwstr>p0IqpL0Kgrx5JBOMpHNjk5ivBwL2GFtPXN3XGWvNiyW1o7vayKh
pAF5nB1t0txCYnhqLJIzHW2NTy7PnIhr1iUHfwaZGhRenEm0P73rON/wEwh586PGAnHqO4pw
Gr0fS74CuqbZp0eSe3OITEOOJTLr1z2co1bInrHWTd1tA5Lk28Gd5DmlNWF+/AWxGOM=</vt:lpwstr>
  </property>
  <property fmtid="{D5CDD505-2E9C-101B-9397-08002B2CF9AE}" pid="4" name="sflag">
    <vt:lpwstr>1320892842</vt:lpwstr>
  </property>
</Properties>
</file>