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BC2-53AE-422E-9315-9F1C43A4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7C4-B63E-4CD3-8BE0-8528DC6D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915-E4E6-4D94-836E-B217228D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15B-E0DE-45D2-B5C2-E7A0F76E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45C-21A0-4BB0-BFDC-06290E4C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BA4-1E2A-4574-AE6A-CB8563D8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329-49A9-457E-BDE3-C9F2B503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470-886D-4D0D-B2E4-3FC06DBD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EB2-7AEE-4557-ABF5-25517B78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E29-49E5-427D-BA5A-E121BB9F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4FC-E728-4606-ABCA-F5D36F57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C71-6A61-429E-84D9-ECA0608D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99A8-96B0-4C90-8805-33C080EC9B2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1624-FF20-466A-AB88-F996D2CE4C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6B9A-9214-4157-8D71-A2EC83983A4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320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asurement Identity and information Reporting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meas-identity-0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47760" y="4107960"/>
            <a:ext cx="678672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n Wu (sunseawq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. Hunt (r.geoff.hunt@gmail.co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an Clark (alan.d.clark@telchemy.co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5926-ECB6-4616-9802-8878E3BA78B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6400" y="83520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raft-ietf-avt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tcp-xr-meas-ident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ccepted as a working group document prior split of av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0 version revived from draft-ietf-avt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tcp-xr-meas-identity-02 with a few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ges follow consensus to draft-ietf-avtcore-mon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0 version received comments on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 version contains update reflect that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BE38-B3A2-433A-94B1-AA4CBF33734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hanges since draft-ietf-avt-rtcp-xr-meas-identity-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1920" y="1287360"/>
            <a:ext cx="83408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tinguish measurement identity from measureme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e new SDES item to convey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e new XR block to carry measureme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gister new RTCP SDES Type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place tag field in Block header with SSRC in the Block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 SSRC to identify/correlate/group participants betwee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C5BF-7BA3-4189-BAF4-F3C4B59FEB0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-219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mment on measurement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4200" y="7729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ailure modes need to be documented if introducing a measurement information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ent from Colin’s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ailure happens if measurement results will be received without its associated measurement  information XR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me metric block loosely coupled with measurement information XR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nt measurement information block with measurement in XR block if measurement information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f failure really happens, the receiver discard the measurement results if the measurement rely on measurement information b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eed to know which metric block relate to which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nd the measurement information together with the related metric block that are from the same report interv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urrent solution take the op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hange reflected in the version 6 of Mon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o we need to revise this draft to reflect this ration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E2F6-A12C-4176-A742-FB6C06E6B43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y open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GL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w53375</cp:lastModifiedBy>
  <dcterms:modified xsi:type="dcterms:W3CDTF">2011-11-14T15:28:10Z</dcterms:modified>
  <cp:revision>910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QqluUoMbf4sVfvMEn3SzsfM1jR7xMOtsKeky7OZvrtwkIRuDOQUuxpbFqizx10AhDsrysHWP
BRR/e6XSJAO4pBG+h7aCoqwVmo3O+f6/XmbFN1jzepZcVCYo7vWsVl9K7/ipqcl1sZvaMG2E
E8bpF51xGSMm4KoM8U7kWjcxfYxvL+Ko4aUW1G5LfFgT8dJDjuK+MfgOu5gW0lNf/b2eIjpY
fh55FlBK+LDmsm8ZR+F2/</vt:lpwstr>
  </property>
  <property fmtid="{D5CDD505-2E9C-101B-9397-08002B2CF9AE}" pid="3" name="_ms_pID_7253431">
    <vt:lpwstr>Th6KCRmL7BVtdiyP0ItcV21/xLljPgv9WYiFPrm6zncxzbZPgPG
PRPb2okFSucjc4SE17K+v8ZpsF96OUpDcj6e8nl+mmaBxpQnKyfVSAbWFUVuNdt7ejFWhMQl
hfiwzEnZRi/Dxs5AmKF3D1btWdJ6JdILbr2KKzOtZaGbQUMEUqklRCBG8grHfz+lPaLlWkUl
9hDFtdXKWdkBmi52fnWDw9bhfA6BnCfGSEqG0Q==</vt:lpwstr>
  </property>
  <property fmtid="{D5CDD505-2E9C-101B-9397-08002B2CF9AE}" pid="4" name="sflag">
    <vt:lpwstr>1321284476</vt:lpwstr>
  </property>
</Properties>
</file>