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97E-E89E-4AD8-9FD1-CBB5598A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3AB-221C-4383-9F60-329CE1BC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770-81C5-4996-979F-20A9F4A2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270-DF68-4294-B4AD-5B558590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5BA-74F7-4881-BCC3-EEDC7D8F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B95-3623-4084-B2C8-C2C35B46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CED-0AFB-42CE-82FB-03F28A07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5D3-8ED2-483D-BE59-B521F94A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D063-0A6D-4AC4-AEF0-0872A6CF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99F-41D5-4BEA-B7BC-30951544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D30-3CB5-4FA6-A3FC-D20707B2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7A0-24C9-4890-809C-BAF1D3F5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47D9-75FF-4BC9-9CE9-C1B2816B2E8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E456-3932-4957-B373-C0922946CE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3287-BD1C-4E16-841C-011A313B37C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320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asurement Identity and information Reporting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meas-identity-0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47760" y="4107960"/>
            <a:ext cx="678672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in Wu (sunseawq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. Hunt (r.geoff.hunt@gmail.co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lan Clark (alan.d.clark@telchemy.co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A31C-1569-4453-8822-1CAE879494E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6400" y="83520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raft-ietf-avt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tcp-xr-meas-ident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ccepted as a working group document prior split of av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0 version revived from draft-ietf-avt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tcp-xr-meas-identity-02 with a few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ges follow consensus to draft-ietf-avtcore-mon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0 version received comments on th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 version contains update reflect that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2F2B-3691-4F0A-8CE6-F6A8F3BE52C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hanges since draft-ietf-avt-rtcp-xr-meas-identity-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1920" y="1287360"/>
            <a:ext cx="83408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tinguish measurement identity from measureme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e new SDES item to convey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e new XR block to carry measureme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gister new RTCP SDES Type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place tag field in Block header with SSRC in the Block 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 SSRC to identify/correlate/group participants between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ADAE-7A6E-4DDE-9374-1961BD55554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-219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mment on measurement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4200" y="7729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ailure modes need to be documented if introducing a measurement information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ent from Colin’s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ailure happens if measurement results will be received without its associated measurement  information XR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tion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ome metric block loosely coupled with measurement information XR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nt measurement information block with measurement in XR block if measurement information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f failure really happens, the receiver discard the measurement results if the measurement rely on measurement information b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tion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eed to know which metric block relate to which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nd the measurement information together with the related metric block that are from the same report interv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urrent solution take the op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hange reflected in the version 6 of Mon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o we need to revise this draft to reflect this ration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9B25-EC4E-4765-9C4C-A0DE1F347F4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y open iss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GL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w53375</cp:lastModifiedBy>
  <dcterms:modified xsi:type="dcterms:W3CDTF">2011-11-14T15:28:10Z</dcterms:modified>
  <cp:revision>910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QqluUoMbf4sVfvMEn3SzsfM1jR7xMOtsKeky7OZvrtwkIRuDOQUuxpbFqizx10AhDsrysHWP
BRR/e6XSJAO4pBG+h7aCoqwVmo3O+f6/XmbFN1jzepZcVCYo7vWsVl9K7/ipqcl1sZvaMG2E
E8bpF51xGSMm4KoM8U7kWjcxfYxvL+Ko4aUW1G5LfFgT8dJDjuK+MfgOu5gW0lNf/b2eIjpY
fh55FlBK+LDmsm8ZR+F2/</vt:lpwstr>
  </property>
  <property fmtid="{D5CDD505-2E9C-101B-9397-08002B2CF9AE}" pid="3" name="_ms_pID_7253431">
    <vt:lpwstr>Th6KCRmL7BVtdiyP0ItcV21/xLljPgv9WYiFPrm6zncxzbZPgPG
PRPb2okFSucjc4SE17K+v8ZpsF96OUpDcj6e8nl+mmaBxpQnKyfVSAbWFUVuNdt7ejFWhMQl
hfiwzEnZRi/Dxs5AmKF3D1btWdJ6JdILbr2KKzOtZaGbQUMEUqklRCBG8grHfz+lPaLlWkUl
9hDFtdXKWdkBmi52fnWDw9bhfA6BnCfGSEqG0Q==</vt:lpwstr>
  </property>
  <property fmtid="{D5CDD505-2E9C-101B-9397-08002B2CF9AE}" pid="4" name="sflag">
    <vt:lpwstr>1321284476</vt:lpwstr>
  </property>
</Properties>
</file>