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8A65-869F-4C5C-A8D4-20A3B84C5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86EE-B5D8-4BAC-AD56-F567E6BA1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29E7-FF63-4566-8740-2CEE43A87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DFE1-C099-475E-B49E-9348BC731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8B58-3107-4A56-A662-16D0D5F96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AE71-A9B1-404B-A099-834C4A5EB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2572-2F46-4D96-AAD3-1FEB0686A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FF2A-6786-4176-B8EB-35F149030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3D4D-8074-40DB-B107-905A76508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FA90-912D-41AB-AE16-A3E733A2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643A-0CC3-4DEC-A66C-202A6AF6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C9A1-7624-4A8E-89DD-9E46ECF4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BBD95-D476-463A-9D60-B79FE500D186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TCore IETF 82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AAB5F-6BB2-44D4-AA9E-4C3FDC9400E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174E9-B945-4CAD-A8F9-3AACF3E2528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TCore IETF 82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46200" y="1490760"/>
            <a:ext cx="7772400" cy="206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RTCP XR Report Block for Packet Delay Variation Metric Report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draft-ietf-xrblock-rtcp-xr-pdv-01</a:t>
            </a:r>
            <a:br>
              <a:rPr sz="32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16120" y="4107960"/>
            <a:ext cx="738648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Qin Wu (sunseawq@huawei.co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G. Hunt (r.geoff.hunt@gmail.com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lan Clark (alan.d.clark@telchemy.com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E2B81-CBF3-4EF2-BE1D-D78402376F4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TCore IETF 82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6400" y="835200"/>
            <a:ext cx="8229600" cy="52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raft discusses the metric for packet delay vari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metric belong to transport metr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1 version received comments on th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1 version contains a few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ollow consensus to draft-ietf-avtcore-mon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hanges since 00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emove tag field in Block h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dd SSRC field in the Block paylo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emove the reference to tag field that is related to measurement identity draf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ix typo on SDP parameter from “delay” to “pkt-dly-var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eference upd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23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Metric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内容占位符 5" descr=""/>
          <p:cNvPicPr/>
          <p:nvPr/>
        </p:nvPicPr>
        <p:blipFill>
          <a:blip r:embed="rId1"/>
          <a:stretch/>
        </p:blipFill>
        <p:spPr>
          <a:xfrm>
            <a:off x="433440" y="1365120"/>
            <a:ext cx="4321080" cy="4535640"/>
          </a:xfrm>
          <a:prstGeom prst="rect">
            <a:avLst/>
          </a:prstGeom>
          <a:ln w="0">
            <a:noFill/>
          </a:ln>
        </p:spPr>
      </p:pic>
      <p:sp>
        <p:nvSpPr>
          <p:cNvPr id="52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083CD-7CFF-48AC-A5DB-1C45C79905F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页脚占位符 4"/>
          <p:cNvSpPr/>
          <p:nvPr/>
        </p:nvSpPr>
        <p:spPr>
          <a:xfrm>
            <a:off x="3097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TCore IETF 82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2"/>
          <a:stretch/>
        </p:blipFill>
        <p:spPr>
          <a:xfrm>
            <a:off x="5157720" y="2687760"/>
            <a:ext cx="3444840" cy="1839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5" name="Picture 7" descr=""/>
          <p:cNvPicPr/>
          <p:nvPr/>
        </p:nvPicPr>
        <p:blipFill>
          <a:blip r:embed="rId3"/>
          <a:stretch/>
        </p:blipFill>
        <p:spPr>
          <a:xfrm>
            <a:off x="5167440" y="1055520"/>
            <a:ext cx="3476520" cy="1417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" name="Picture 8" descr=""/>
          <p:cNvPicPr/>
          <p:nvPr/>
        </p:nvPicPr>
        <p:blipFill>
          <a:blip r:embed="rId4"/>
          <a:stretch/>
        </p:blipFill>
        <p:spPr>
          <a:xfrm>
            <a:off x="5070600" y="4616280"/>
            <a:ext cx="3940200" cy="151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cxnSp>
        <p:nvCxnSpPr>
          <p:cNvPr id="57" name="直接箭头连接符 9"/>
          <p:cNvCxnSpPr/>
          <p:nvPr/>
        </p:nvCxnSpPr>
        <p:spPr>
          <a:xfrm flipV="1">
            <a:off x="4677840" y="1765080"/>
            <a:ext cx="489600" cy="20167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58" name="直接箭头连接符 11"/>
          <p:cNvCxnSpPr/>
          <p:nvPr/>
        </p:nvCxnSpPr>
        <p:spPr>
          <a:xfrm flipV="1">
            <a:off x="4643280" y="3808080"/>
            <a:ext cx="480240" cy="7372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59" name="直接箭头连接符 13"/>
          <p:cNvCxnSpPr/>
          <p:nvPr/>
        </p:nvCxnSpPr>
        <p:spPr>
          <a:xfrm>
            <a:off x="4642920" y="5122800"/>
            <a:ext cx="381960" cy="86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9024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ssue- Cumulative, Interval and Sample metric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47840" y="753840"/>
            <a:ext cx="8229600" cy="50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urrent draft assigned one bit for Cumulative/Interval ind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roposal to increase two bits to allow for the indication of a Sampled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iscussion about sample metr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DV also can be cumulative metric when all the packets in the whole measurement duration are measu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DV also can be Interval metric when all the packets in the recent measurement Interval are measu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ome metrics are sampled and don’t have validity for an interval or a call/s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DV can be a sampled value of a running average and only has validity for the last 200-300ms before the value is sampl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When it is impractical to gather all the packets, you may sample a subset of packets during each consecutive measurement Interv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DV algorithm is better described in sample metric since computation overhead is overwhel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pply this sample indication only to PDV metric?  (Q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pply this sample indication to any future metric? (Alan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5EE4F-B662-47DE-821E-D6159605330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TCore IETF 82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Proposed chan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6560" y="13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roposed change to the Interval metric flags in relevant XR bloc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nterval Metric flags (I): 2 bits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      This field is used to indicate whether the ???????????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      metrics block is an Interval, Cumulative or Sampled report, that is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      whether the reported values apply to the most recent measurem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      interval duration between successive metrics reports (I=10) (th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      Interval Duration) or to the accumulation period characteristic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      cumulative measurements (I=00) (the Cumulative Duration)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      to the value of a continuously measured or calculated that has be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      sampled at end of the interval (I=01) (Sampled Valu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roposed change to Monarch dr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o we have Interval Metric Flags definition in Monarch dra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is definition apply to almost all the new metric bloc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But it influence monarch draft? No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ave definition for terms like interval, cumulative, sample metric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Reasonab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nterval metric flags definitions should  refer to this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64CF0-DE1F-45F3-99A8-D0CE9B5F0206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TCore IETF 82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C5830-9514-4BE8-AD85-07AD0359872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TCore IETF 82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Follow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Ques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WGLC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8:05:52Z</dcterms:created>
  <dc:creator>Rajeev-K</dc:creator>
  <dc:description/>
  <dc:language>en-US</dc:language>
  <cp:lastModifiedBy>Administrator</cp:lastModifiedBy>
  <dcterms:modified xsi:type="dcterms:W3CDTF">2011-11-11T10:19:37Z</dcterms:modified>
  <cp:revision>974</cp:revision>
  <dc:subject/>
  <dc:title>NetExt BOF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92774337</vt:r8>
  </property>
  <property fmtid="{D5CDD505-2E9C-101B-9397-08002B2CF9AE}" pid="3" name="_AuthorEmail">
    <vt:lpwstr>eckelcu@cisco.com</vt:lpwstr>
  </property>
  <property fmtid="{D5CDD505-2E9C-101B-9397-08002B2CF9AE}" pid="4" name="_AuthorEmailDisplayName">
    <vt:lpwstr>Charles Eckel (eckelcu)</vt:lpwstr>
  </property>
  <property fmtid="{D5CDD505-2E9C-101B-9397-08002B2CF9AE}" pid="5" name="_EmailSubject">
    <vt:lpwstr>late change to schedule</vt:lpwstr>
  </property>
  <property fmtid="{D5CDD505-2E9C-101B-9397-08002B2CF9AE}" pid="6" name="_NewReviewCycle">
    <vt:lpwstr/>
  </property>
  <property fmtid="{D5CDD505-2E9C-101B-9397-08002B2CF9AE}" pid="7" name="_ms_pID_725343">
    <vt:lpwstr>(2)+CVEacRq6gKMRiVCylyS6QePKcweJcQ7eWuoFDZR/orI+LwebVJsUPEopykr0o63CjhGOarl
x7jBq4sQWvVgQzzdVDqIbvpuVlxNPChJ9lfgcNQIB6eT8eWVY71ZEvkdwxCPv6NNqEk0keve
9LUwtf8uV+A+U7t79oZTZbEgZ60dnu2HqSHo163jGBNL+ZKoyrU4dfhOzfM4sd4Y7R5nSrbC
peasF5opyvbPR5d1LNHhj</vt:lpwstr>
  </property>
  <property fmtid="{D5CDD505-2E9C-101B-9397-08002B2CF9AE}" pid="8" name="_ms_pID_7253431">
    <vt:lpwstr>i7oDhShHSHR6ZjvWp6UI9Lionz+IqWkxyEbrxSczcZvQH+vcwND
Qq/phRamYjZWL6jSYh/SxD1k92NFNatwgqaKhSjQHWtN3vHrWUUimk+4ooY5ucxMZ9ruxMdg
0u4=</vt:lpwstr>
  </property>
  <property fmtid="{D5CDD505-2E9C-101B-9397-08002B2CF9AE}" pid="9" name="sflag">
    <vt:lpwstr>1321006725</vt:lpwstr>
  </property>
</Properties>
</file>