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A83-BC5B-468D-8CCC-63BEE140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7FF-7F89-4C1B-BC60-3FEB2C5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03F-B3DB-459A-B002-015B65A1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154-A87D-4A96-90CE-A2684256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EB5-FA6F-41DF-8339-BB1FBA3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88C-151B-4A35-814B-BACFD06F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528-3728-4336-8994-4CF6D8E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953-603F-4B40-9574-8731246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30C-0DD6-4219-BC7C-506AE91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48-6D56-4406-A5BF-80DB13C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79D-B79C-4265-A30E-5081B7D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68B-2699-4D89-A43B-D472993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4267-74F1-42B8-801C-8945970747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666-BC07-4508-A242-D2374083B9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99C4-BB88-4395-B7D3-D3023408327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Packet Delay Variation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pdv-01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5C3-0D64-49E2-959D-A458E0BB80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the metric for packet delay var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tric belong to transpor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 version received comments o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 version contains a few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x typo on SDP parameter from “delay” to “pkt-dly-v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5" descr=""/>
          <p:cNvPicPr/>
          <p:nvPr/>
        </p:nvPicPr>
        <p:blipFill>
          <a:blip r:embed="rId1"/>
          <a:stretch/>
        </p:blipFill>
        <p:spPr>
          <a:xfrm>
            <a:off x="433440" y="1365120"/>
            <a:ext cx="432108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FA2-8BD5-4360-A609-3294DCEE18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157720" y="2687760"/>
            <a:ext cx="344484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5167440" y="1055520"/>
            <a:ext cx="3476520" cy="14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5070600" y="4616280"/>
            <a:ext cx="3940200" cy="15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7" name="直接箭头连接符 9"/>
          <p:cNvCxnSpPr/>
          <p:nvPr/>
        </p:nvCxnSpPr>
        <p:spPr>
          <a:xfrm flipV="1">
            <a:off x="4677840" y="1765080"/>
            <a:ext cx="489600" cy="20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8" name="直接箭头连接符 11"/>
          <p:cNvCxnSpPr/>
          <p:nvPr/>
        </p:nvCxnSpPr>
        <p:spPr>
          <a:xfrm flipV="1">
            <a:off x="4643280" y="3808080"/>
            <a:ext cx="48024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9" name="直接箭头连接符 13"/>
          <p:cNvCxnSpPr/>
          <p:nvPr/>
        </p:nvCxnSpPr>
        <p:spPr>
          <a:xfrm>
            <a:off x="4642920" y="5122800"/>
            <a:ext cx="381960" cy="8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0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sue- Cumulative, Interval and Sample metric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7840" y="75384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urrent draft assigned one bit for Cumulative/Interval ind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posal to increase two bits to allow for the indication of a Sample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scussion about sample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so can be cumulative metric when all the packets in the whole measurement duration are meas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so can be Interval metric when all the packets in the recent measurement Interval are measu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me metrics are sampled and don’t have validity for an interval or a call/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can be a sampled value of a running average and only has validity for the last 200-300ms before the value is samp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n it is impractical to gather all the packets, you may sample a subset of packets during each consecutive measurement Inter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DV algorithm is better described in sample metric since computation overhead is overwhel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y this sample indication only to PDV metric?  (Q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y this sample indication to any future metric? (Ala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A31-31FB-4ACE-9A19-EF98C608E1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656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 to the Interval metric flags in relevant XR bl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erval Metric flags (I): 2 bit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This field is used to indicate whether the ???????????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metrics block is an Interval, Cumulative or Sampled report, that i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whether the reported values apply to the most recent measure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interval duration between successive metrics reports (I=10) (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Interval Duration) or to the accumulation period characteristic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cumulative measurements (I=00) (the Cumulative Duration)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to the value of a continuously measured or calculated that has be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      sampled at end of the interval (I=01) (Sampled Valu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osed change to Monarc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o we have Interval Metric Flags definition in Monarch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is definition apply to almost all the new metric blo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t it influence monarch draft? N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ave definition for terms like interval, cumulative, sample metric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son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rval metric flags definitions should  refer to this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163-C3D4-46FB-8123-D91E7FF85B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8CF-21B0-4032-88B2-4A37CDCC39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10:19:37Z</dcterms:modified>
  <cp:revision>974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2774337</vt:r8>
  </property>
  <property fmtid="{D5CDD505-2E9C-101B-9397-08002B2CF9AE}" pid="3" name="_AuthorEmail">
    <vt:lpwstr>eckelcu@cisco.com</vt:lpwstr>
  </property>
  <property fmtid="{D5CDD505-2E9C-101B-9397-08002B2CF9AE}" pid="4" name="_AuthorEmailDisplayName">
    <vt:lpwstr>Charles Eckel (eckelcu)</vt:lpwstr>
  </property>
  <property fmtid="{D5CDD505-2E9C-101B-9397-08002B2CF9AE}" pid="5" name="_EmailSubject">
    <vt:lpwstr>late change to schedule</vt:lpwstr>
  </property>
  <property fmtid="{D5CDD505-2E9C-101B-9397-08002B2CF9AE}" pid="6" name="_NewReviewCycle">
    <vt:lpwstr/>
  </property>
  <property fmtid="{D5CDD505-2E9C-101B-9397-08002B2CF9AE}" pid="7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8" name="_ms_pID_7253431">
    <vt:lpwstr>i7oDhShHSHR6ZjvWp6UI9Lionz+IqWkxyEbrxSczcZvQH+vcwND
Qq/phRamYjZWL6jSYh/SxD1k92NFNatwgqaKhSjQHWtN3vHrWUUimk+4ooY5ucxMZ9ruxMdg
0u4=</vt:lpwstr>
  </property>
  <property fmtid="{D5CDD505-2E9C-101B-9397-08002B2CF9AE}" pid="9" name="sflag">
    <vt:lpwstr>1321006725</vt:lpwstr>
  </property>
</Properties>
</file>