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E90-92C9-42AA-A4EF-FD290E90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1C0-BA34-4739-815F-2063F77D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CB9-F4FE-4CED-A5AD-A0546DED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C08-1149-4ED0-A6DB-72EF2E35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08F-5BE6-4396-A889-BD94896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437-38C4-42E9-BFC0-55673BB3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BD7-D9BF-49CB-8582-E8D5F44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C35-110E-45BA-AFD0-91BD562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67E-BB4F-43F5-ACFD-4B99506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41C-6EB5-4534-9C73-5BFD56FB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97C-BE01-4166-A279-3AA16DC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126-395A-4A80-9CC7-75DE969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A48-9F94-44A7-834D-DCEE88C1F1D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D332-3F37-405D-AC23-1BECA9B1A5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E12B-04BF-497D-BFEB-2F7E3DF498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6200" y="14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TCP XR Blocks for multimedia quality metric repor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6120" y="4107960"/>
            <a:ext cx="73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orn Glen(gwz@net-zen.n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 (sunseawq@huawei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hott (Roland.Schott@telekom.de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ai Lee (leekai@ctbri.com.c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15E-3696-4981-885C-E0A72145982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6400" y="83520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-wu-xrblock-rtcp-xr-quality-monitoring-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split from draft-wu-avt-rtcp-xr-quality-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ior split of a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presented in the IET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raft discusses QoE metric for multimedia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 version contains a few changes that follow consensus of monitoring architecture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 IPR conce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0AAB-55D0-40F6-8E9F-A1BD00BEA7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since 00 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1287360"/>
            <a:ext cx="8340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Separate Summary statistics metric, layered stream statistics, synchronization delay and offset from this dra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Use Mos Type field in the XRBlock header to distinguish different MoS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efine and use a Numeric format for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hange 32bits MoS Value into 16bits MoS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larify the algorithm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calculation for M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place MoS-A with MoS-LQ and MoS-CQ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Reference up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Other Editorial Chan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305000" y="1482840"/>
            <a:ext cx="7288200" cy="2582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tric blo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920" y="92376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media Qo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Block Name: Multimedia Quality Metrics Blo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 Name: MoS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ment metho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LQ and MoS-CQ, use measurement method defined in ITU-T Recommendation [G.107][P.564] or ETSI TS ETSI TS 101 329-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MoS type is MoS-V or MoS-AV, use measurement method defined in [P.NAMS],[P.BNAM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5365-EB0F-46A1-BB24-F06F36CC7A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4200" y="6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sue 1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we need to distinguish different MOS algorithms to calculate MOS value for each MOS Ty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it is more desirable to use signaling to distinguish them? No need to reflect it in the XR form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Option 2:Y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2: Do we need to distinguish collecting data from different chann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1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Y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ssign additional field in XR Block payload to distinguish them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 2: 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audio data in all channel is typically carried in one RTP flow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Layered video sent in each RTP flow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ommend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eave this for specific implem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3596-6851-4684-9035-CED8E7890E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071-1ED2-4F0D-BFBA-5389C2B36AC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TCore IETF 82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as work i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Administrator</cp:lastModifiedBy>
  <dcterms:modified xsi:type="dcterms:W3CDTF">2011-11-11T09:55:45Z</dcterms:modified>
  <cp:revision>981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+CVEacRq6gKMRiVCylyS6QePKcweJcQ7eWuoFDZR/orI+LwebVJsUPEopykr0o63CjhGOarl
x7jBq4sQWvVgQzzdVDqIbvpuVlxNPChJ9lfgcNQIB6eT8eWVY71ZEvkdwxCPv6NNqEk0keve
9LUwtf8uV+A+U7t79oZTZbEgZ60dnu2HqSHo163jGBNL+ZKoyrU4dfhOzfM4sd4Y7R5nSrbC
peasF5opyvbPR5d1LNHhj</vt:lpwstr>
  </property>
  <property fmtid="{D5CDD505-2E9C-101B-9397-08002B2CF9AE}" pid="3" name="_ms_pID_7253431">
    <vt:lpwstr>i7oDhShHSHR6ZjvWp6UI9Lionz+IqWkxyEbrxSczcZvQH+vcwND
Qq/phRamYjZWL6jSYh/SxD1k92NFNatwgqaKhSjQHWtN3vHrWUUimk+4ooY5ucxMZ9ruxMdg
0u4=</vt:lpwstr>
  </property>
  <property fmtid="{D5CDD505-2E9C-101B-9397-08002B2CF9AE}" pid="4" name="sflag">
    <vt:lpwstr>1320990606</vt:lpwstr>
  </property>
</Properties>
</file>