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023D-F2E7-4BF4-9415-7FCD0080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D69-302E-41AC-BB21-0599A00D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B73-59CA-4D8F-AA8C-308DDC3F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595-A182-4598-A87F-A37AFAA4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4F32-9B45-4636-A449-C0D15C01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63D9-43E7-40B8-89B8-3A8F343E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80A-063E-45D1-B7AA-87D9AFF7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990C-D326-4E0A-A69C-D60FCEC8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98E-4AED-45C4-8558-3E3CEF65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3CC3-E774-45B9-A131-DE2788ED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DFD-7DA9-4439-AA1D-C8323B90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A032-70EE-4A7C-8657-56A9DEAA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D719-C621-401E-AFBB-F9D50BFB2CC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830E-2ACF-4380-80E5-180017DE8A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90D9-2A5A-4C43-B35D-7CFBFA9C0B6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6200" y="14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TCP XR Blocks for multimedia quality metric repor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aft-wu-xrblock-rtcp-xr-quality-monitoring-0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16120" y="4107960"/>
            <a:ext cx="73864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Zorn Glen(gwz@net-zen.ne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in Wu (sunseawq@huawei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land Schott (Roland.Schott@telekom.de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ai Lee (leekai@ctbri.com.cn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CF52-B979-4043-9F7A-FF698A21208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6400" y="83520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raft-wu-xrblock-rtcp-xr-quality-monitoring-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s split from draft-wu-avt-rtcp-xr-quality-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ior split of av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presented in the IETF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raft discusses QoE metric for multimedia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3 version contains a few changes that follow consensus of monitoring architecture doc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o IPR concer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E638-9E07-44E4-B15A-EEFC8892BE7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hanges since 00 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1920" y="1287360"/>
            <a:ext cx="834084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Separate Summary statistics metric, layered stream statistics, synchronization delay and offset from this draf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Use Mos Type field in the XRBlock header to distinguish different MoS typ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Define and use a Numeric format for MoS val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Change 32bits MoS Value into 16bits MoS Val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Clarify the algorithm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calculation for M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Replace MoS-A with MoS-LQ and MoS-CQ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Reference upd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Other Editorial Chang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6"/>
          <p:cNvSpPr/>
          <p:nvPr/>
        </p:nvSpPr>
        <p:spPr>
          <a:xfrm>
            <a:off x="1305000" y="1482840"/>
            <a:ext cx="7288200" cy="2582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etric block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5920" y="92376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ultimedia QoE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etric Block Name: Multimedia Quality Metrics Bloc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etric Name: MoS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easurement method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f MoS type is MoS-LQ and MoS-CQ, use measurement method defined in ITU-T Recommendation [G.107][P.564] or ETSI TS ETSI TS 101 329-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f MoS type is MoS-V or MoS-AV, use measurement method defined in [P.NAMS],[P.BNAMS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A9A6-6F56-42A1-8BC0-FF08A4D7E65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pen 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4200" y="676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Issue 1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we need to distinguish different MOS algorithms to calculate MOS value for each MOS Typ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1: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it is more desirable to use signaling to distinguish them? No need to reflect it in the XR form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宋体"/>
              </a:rPr>
              <a:t>Option 2:Y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assign additional field in XR Block payload to distinguish them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宋体"/>
              </a:rPr>
              <a:t>Recommendatio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Option 1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sue 2: Do we need to distinguish collecting data from different chann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ption 1: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Yes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assign additional field in XR Block payload to distinguish them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ption 2: N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audio data in all channel is typically carried in one RTP flow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Layered video sent in each RTP flow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commend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Leave this for specific implement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7876-4D27-457E-B9EB-8ACE7FAA850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E038-819B-4FEE-9A3E-8D4C9681881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ollow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doption as work i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05:52Z</dcterms:created>
  <dc:creator>Rajeev-K</dc:creator>
  <dc:description/>
  <dc:language>en-US</dc:language>
  <cp:lastModifiedBy>Administrator</cp:lastModifiedBy>
  <dcterms:modified xsi:type="dcterms:W3CDTF">2011-11-11T09:55:45Z</dcterms:modified>
  <cp:revision>981</cp:revision>
  <dc:subject/>
  <dc:title>NetExt B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+CVEacRq6gKMRiVCylyS6QePKcweJcQ7eWuoFDZR/orI+LwebVJsUPEopykr0o63CjhGOarl
x7jBq4sQWvVgQzzdVDqIbvpuVlxNPChJ9lfgcNQIB6eT8eWVY71ZEvkdwxCPv6NNqEk0keve
9LUwtf8uV+A+U7t79oZTZbEgZ60dnu2HqSHo163jGBNL+ZKoyrU4dfhOzfM4sd4Y7R5nSrbC
peasF5opyvbPR5d1LNHhj</vt:lpwstr>
  </property>
  <property fmtid="{D5CDD505-2E9C-101B-9397-08002B2CF9AE}" pid="3" name="_ms_pID_7253431">
    <vt:lpwstr>i7oDhShHSHR6ZjvWp6UI9Lionz+IqWkxyEbrxSczcZvQH+vcwND
Qq/phRamYjZWL6jSYh/SxD1k92NFNatwgqaKhSjQHWtN3vHrWUUimk+4ooY5ucxMZ9ruxMdg
0u4=</vt:lpwstr>
  </property>
  <property fmtid="{D5CDD505-2E9C-101B-9397-08002B2CF9AE}" pid="4" name="sflag">
    <vt:lpwstr>1320990606</vt:lpwstr>
  </property>
</Properties>
</file>