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9EC8-2A3A-4B9D-BC1F-865A64777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A8CD-3C61-42E1-947B-7EBE8335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B34C-F5D3-41A7-940D-85BD47EBF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E4A7-5915-44DF-9E3E-F96A0220E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32E9-901B-4897-AF7E-7B4EFFCA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A07A-E2CF-4790-99CD-39F02B4F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EB20-BF18-4740-AF8B-482F4E51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D86B-1600-4DA4-8DC1-0545B94A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9DFE-FB35-4A06-9F01-A6984EAF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D4E3-8ECE-4463-8A51-8E55FA98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79A0-5E1F-4BC6-B933-33CF7527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DEED-9384-45CE-ACDE-E85CA24D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2AA4-2B75-4B26-8DB7-8D75450B39C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585D-5553-426C-B9F6-ABBCFCB583E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B246-6B47-416E-818A-E39326F99E7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6200" y="14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RTCP XR Blocks for multimedia quality metric report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raft-wu-xrblock-rtcp-xr-quality-monitoring-0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16120" y="4107960"/>
            <a:ext cx="738648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Zorn Glen(gwz@net-zen.net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Qin Wu (sunseawq@huawei.c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land Schott (Roland.Schott@telekom.de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Kai Lee (leekai@ctbri.com.cn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196E-EAFD-4E67-939E-73BCFF69C6B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6400" y="835200"/>
            <a:ext cx="8229600" cy="52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raft-wu-xrblock-rtcp-xr-quality-monitoring-0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s split from draft-wu-avt-rtcp-xr-quality-monito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rior split of av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presented in the IETF mee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raft discusses QoE metric for multimedia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3 version contains a few changes that follow consensus of monitoring architecture docu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No IPR concer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9382-96C2-4DA6-AACE-4F43BB45E7F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Changes since 00 ve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1920" y="1287360"/>
            <a:ext cx="834084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Separate Summary statistics metric, layered stream statistics, synchronization delay and offset from this draf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Use Mos Type field in the XRBlock header to distinguish different MoS typ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Define and use a Numeric format for MoS valu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Change 32bits MoS Value into 16bits MoS Valu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Clarify the algorithm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calculation for Mo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Replace MoS-A with MoS-LQ and MoS-CQ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Reference upda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Other Editorial Chang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6"/>
          <p:cNvSpPr/>
          <p:nvPr/>
        </p:nvSpPr>
        <p:spPr>
          <a:xfrm>
            <a:off x="1305000" y="1482840"/>
            <a:ext cx="7288200" cy="2582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Metric block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5920" y="923760"/>
            <a:ext cx="822960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ultimedia QoE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etric Block Name: Multimedia Quality Metrics Bloc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etric Name: MoS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easurement method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If MoS type is MoS-LQ and MoS-CQ, use measurement method defined in ITU-T Recommendation [G.107][P.564] or ETSI TS ETSI TS 101 329-5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If MoS type is MoS-V or MoS-AV, use measurement method defined in [P.NAMS],[P.BNAMS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29AB-3B79-4227-B50F-156EB89213E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4480"/>
            <a:ext cx="82296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Open 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84200" y="676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Issue 1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we need to distinguish different MOS algorithms to calculate MOS value for each MOS Typ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 1: 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it is more desirable to use signaling to distinguish them? No need to reflect it in the XR forma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宋体"/>
              </a:rPr>
              <a:t>Option 2:Y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assign additional field in XR Block payload to distinguish them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宋体"/>
              </a:rPr>
              <a:t>Recommendatio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Option 1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sue 2: Do we need to distinguish collecting data from different channe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ption 1: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Yes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assign additional field in XR Block payload to distinguish them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ption 2: N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audio data in all channel is typically carried in one RTP flow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Layered video sent in each RTP flow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commend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Leave this for specific implement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1D2C-33C8-4037-BA3D-0EEECD697FD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16A9-C2F1-4FF1-87C2-5A70BF37917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Follow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doption as work it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Ques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05:52Z</dcterms:created>
  <dc:creator>Rajeev-K</dc:creator>
  <dc:description/>
  <dc:language>en-US</dc:language>
  <cp:lastModifiedBy>Administrator</cp:lastModifiedBy>
  <dcterms:modified xsi:type="dcterms:W3CDTF">2011-11-11T09:55:45Z</dcterms:modified>
  <cp:revision>981</cp:revision>
  <dc:subject/>
  <dc:title>NetExt BOF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+CVEacRq6gKMRiVCylyS6QePKcweJcQ7eWuoFDZR/orI+LwebVJsUPEopykr0o63CjhGOarl
x7jBq4sQWvVgQzzdVDqIbvpuVlxNPChJ9lfgcNQIB6eT8eWVY71ZEvkdwxCPv6NNqEk0keve
9LUwtf8uV+A+U7t79oZTZbEgZ60dnu2HqSHo163jGBNL+ZKoyrU4dfhOzfM4sd4Y7R5nSrbC
peasF5opyvbPR5d1LNHhj</vt:lpwstr>
  </property>
  <property fmtid="{D5CDD505-2E9C-101B-9397-08002B2CF9AE}" pid="3" name="_ms_pID_7253431">
    <vt:lpwstr>i7oDhShHSHR6ZjvWp6UI9Lionz+IqWkxyEbrxSczcZvQH+vcwND
Qq/phRamYjZWL6jSYh/SxD1k92NFNatwgqaKhSjQHWtN3vHrWUUimk+4ooY5ucxMZ9ruxMdg
0u4=</vt:lpwstr>
  </property>
  <property fmtid="{D5CDD505-2E9C-101B-9397-08002B2CF9AE}" pid="4" name="sflag">
    <vt:lpwstr>1320990606</vt:lpwstr>
  </property>
</Properties>
</file>