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FC9-580C-416A-8A69-0D8BA950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301-1652-4024-AF2D-A204F42C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0F0-A4C2-4776-A1C6-8F704038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6F6-93AB-4C14-AA2A-E64EE8EF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EAC-AD7C-409F-886A-6226AB8F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B9D-B3A3-4B9F-ABF1-82E3EEC6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502-1DCB-490F-96CC-9675CF91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DC1-E1EF-4A18-9F9D-28FC7E58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92D-93C9-454D-B89E-B463FA24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B16-E2B6-42E2-BB6B-89E5EF17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CEA-5678-4078-8702-335EB218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315-D76F-431A-A243-74B391AE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4B3A-5D9C-48E1-AB18-D7F5C16BF91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41C7-0393-4FD6-AB2E-FD663A18D3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5BDC-9AAF-431D-80B1-62499E329B7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Blocks for multimedia quality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wu-xrblock-rtcp-xr-quality-monitoring-0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orn Glen(gwz@net-zen.n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land Schott (Roland.Schott@telekom.de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ai Lee (leekai@ctbri.com.c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60B9-5B5E-4BF9-BA25-09A18716BEE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-wu-xrblock-rtcp-xr-quality-monitoring-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split from draft-wu-avt-rtcp-xr-quality-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ior split of a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presented in the IETF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QoE metric for multimedia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 version contains a few changes that follow consensus of monitoring architecture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 IPR conce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9A74-7F01-455E-8EB2-31FE634F48E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1920" y="1287360"/>
            <a:ext cx="8340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Separate Summary statistics metric, layered stream statistics, synchronization delay and offset from this dra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Use Mos Type field in the XRBlock header to distinguish different MoS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Define and use a Numeric format for MoS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hange 32bits MoS Value into 16bits MoS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larify the algorithm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alculation for M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Replace MoS-A with MoS-LQ and MoS-CQ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Other Editorial Chan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1305000" y="1482840"/>
            <a:ext cx="7288200" cy="2582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blo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5920" y="92376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media Qo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Block Name: Multimedia Quality Metrics Bloc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Name: MoS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ment metho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MoS type is MoS-LQ and MoS-CQ, use measurement method defined in ITU-T Recommendation [G.107][P.564] or ETSI TS ETSI TS 101 329-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MoS type is MoS-V or MoS-AV, use measurement method defined in [P.NAMS],[P.BNAM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5B37-532A-4341-ABA7-0C44AB2826B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4200" y="6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Issue 1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we need to distinguish different MOS algorithms to calculate MOS value for each MOS Typ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it is more desirable to use signaling to distinguish them? No need to reflect it in the XR form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Option 2:Y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assign additional field in XR Block payload to distinguish the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Recommend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 2: Do we need to distinguish collecting data from different chann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Y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assign additional field in XR Block payload to distinguish them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 2: N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audio data in all channel is typically carried in one RTP flow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Layered video sent in each RTP flow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commend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eave this for specific implem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D47D-76D7-42DC-ABF1-553321E03AE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6283-3B3A-4068-B44B-2E7F32DEFE6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 as work i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Administrator</cp:lastModifiedBy>
  <dcterms:modified xsi:type="dcterms:W3CDTF">2011-11-11T09:55:45Z</dcterms:modified>
  <cp:revision>981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+CVEacRq6gKMRiVCylyS6QePKcweJcQ7eWuoFDZR/orI+LwebVJsUPEopykr0o63CjhGOarl
x7jBq4sQWvVgQzzdVDqIbvpuVlxNPChJ9lfgcNQIB6eT8eWVY71ZEvkdwxCPv6NNqEk0keve
9LUwtf8uV+A+U7t79oZTZbEgZ60dnu2HqSHo163jGBNL+ZKoyrU4dfhOzfM4sd4Y7R5nSrbC
peasF5opyvbPR5d1LNHhj</vt:lpwstr>
  </property>
  <property fmtid="{D5CDD505-2E9C-101B-9397-08002B2CF9AE}" pid="3" name="_ms_pID_7253431">
    <vt:lpwstr>i7oDhShHSHR6ZjvWp6UI9Lionz+IqWkxyEbrxSczcZvQH+vcwND
Qq/phRamYjZWL6jSYh/SxD1k92NFNatwgqaKhSjQHWtN3vHrWUUimk+4ooY5ucxMZ9ruxMdg
0u4=</vt:lpwstr>
  </property>
  <property fmtid="{D5CDD505-2E9C-101B-9397-08002B2CF9AE}" pid="4" name="sflag">
    <vt:lpwstr>1320990606</vt:lpwstr>
  </property>
</Properties>
</file>