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D44-1F4A-40B1-ACEA-5DA71866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7BE-6A2B-49E4-8C01-99D9D76F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706-5786-4F3A-8FC2-64B322E7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2AF-23F6-4CDD-AF20-53CB133C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D20-4F9C-42E2-A7B4-C2548B2F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1A8-5F8A-4D25-8B41-1ECC3D8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A55-A1FA-4627-8124-7A7E49EC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87D-FE57-4F39-9717-1E8A680E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766-EB4D-4AF8-8777-98134385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4AA-8AE7-41DC-BE2B-D7419CC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154-703B-43C8-B155-4DDE3D9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2F4-4F2A-4D85-AF29-7D5F05E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629F1-E550-49F9-8B76-85FA8B5C6C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36840"/>
            <a:ext cx="7772400" cy="20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TCP XR Blocks for Synchronization Delay and Offset Metrics Reporting</a:t>
            </a:r>
            <a:br>
              <a:rPr sz="40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asaeda-xrblock-rtcp-xr-synchronization-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9900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toshi Asaeda (asaeda@wide.ad.jp 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chel Huang (rachel.huang@huawei.co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in Wu (bill.wu@huawei.co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asaeda-xrblock-rtcp-xr-synchronization-02 is split from draft-wu-avt-rtcp-xr-quality-monitoring right after avt was spl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draft discusses Synchronization Delay and Offset between RTP stre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02 version contains a few changes that follow consensus of monitoring architecture doc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anges since -00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ain what the components of RTP session are in section 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rify which synchronization is reported in section 4 and 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calculating the synchronization delay based on RTP header extension defined in RFC605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457200" y="4406760"/>
            <a:ext cx="7858080" cy="20052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57200" y="2200320"/>
            <a:ext cx="7858080" cy="197964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33904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chronization Delay and Off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ric name: Initial Synchronization Delay between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method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 Synchronization Delay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l time of the first RTCP SR packet − Session join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l time of the first RTP packet with embedded NTP format timesta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sion join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ric name: General Synchronization Offset between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metho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Synchronization Offset  = Difference D(i,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i and j denote stream between an arbitrary RTP packet and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 RTP packet with the same C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(i,j) can be calculated based on the measurement method for interarri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tter defined in RFC35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ion as a work i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3:59:44Z</dcterms:created>
  <dc:creator>朝枝 仁</dc:creator>
  <dc:description/>
  <dc:language>en-US</dc:language>
  <cp:lastModifiedBy>朝枝 仁</cp:lastModifiedBy>
  <dcterms:modified xsi:type="dcterms:W3CDTF">2011-11-12T10:12:35Z</dcterms:modified>
  <cp:revision>9</cp:revision>
  <dc:subject/>
  <dc:title>RTCP XR Blocks for Synchronization Delay and Offset Metrics Reporting  draft-asaeda-xrblock-rtcp-xr-synchronization-02 </dc:title>
</cp:coreProperties>
</file>