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197-5630-4592-916B-C8ED1D7C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8CA-55DA-47FA-96AC-DE668E89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B25-043E-42F7-BC2D-CFDB9EEB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2BF-6833-4598-B57F-5E1FF609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36C-20F8-48B0-BD2D-F90A8009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7D2-1862-4761-8BA6-F5868865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AEE-745B-45F5-B569-E79EBF35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2F3-278D-4636-B2A9-DD79AD36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F89-5372-484C-9A83-0492045F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AA0-4777-4892-8E64-5F172BD1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5A6-C020-49D1-A802-8C53ECE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9B9-37F6-4050-8B15-9D233643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5755A-FBBA-45B5-B840-63636DC5BE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36840"/>
            <a:ext cx="7772400" cy="20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TCP XR Blocks for Synchronization Delay and Offset Metrics Reporting</a:t>
            </a:r>
            <a:br>
              <a:rPr sz="40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asaeda-xrblock-rtcp-xr-synchronization-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9900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toshi Asaeda (asaeda@wide.ad.jp 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chel Huang (rachel.huang@huawei.co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in Wu (bill.wu@huawei.co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asaeda-xrblock-rtcp-xr-synchronization-02 is split from draft-wu-avt-rtcp-xr-quality-monitoring right after avt was spl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draft discusses Synchronization Delay and Offset between RTP strea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02 version contains a few changes that follow consensus of monitoring architecture docu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anges since -00 ver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ain what the components of RTP session are in section 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arify which synchronization is reported in section 4 and 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calculating the synchronization delay based on RTP header extension defined in RFC605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457200" y="4406760"/>
            <a:ext cx="7858080" cy="200520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57200" y="2200320"/>
            <a:ext cx="7858080" cy="197964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33904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chronization Delay and Off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ric name: Initial Synchronization Delay between str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ment method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 Synchronization Delay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l time of the first RTCP SR packet − Session join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l time of the first RTP packet with embedded NTP format timestam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ssion join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ric name: General Synchronization Offset between str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ment metho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l Synchronization Offset  = Difference D(i,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i and j denote stream between an arbitrary RTP packet and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 RTP packet with the same C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(i,j) can be calculated based on the measurement method for interarri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tter defined in RFC35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ion as a work i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3:59:44Z</dcterms:created>
  <dc:creator>朝枝 仁</dc:creator>
  <dc:description/>
  <dc:language>en-US</dc:language>
  <cp:lastModifiedBy>朝枝 仁</cp:lastModifiedBy>
  <dcterms:modified xsi:type="dcterms:W3CDTF">2011-11-12T10:12:35Z</dcterms:modified>
  <cp:revision>9</cp:revision>
  <dc:subject/>
  <dc:title>RTCP XR Blocks for Synchronization Delay and Offset Metrics Reporting  draft-asaeda-xrblock-rtcp-xr-synchronization-02 </dc:title>
</cp:coreProperties>
</file>