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E8B03-B5CB-494B-80BC-B9902D60B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681AF-CA66-481F-AC35-C414AA514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18846-BA4A-4046-A756-C311789D3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F91EF-553A-4976-882D-8D8254579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8E57C-7F23-4CCF-B0A0-39FE2616C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8FF43-77FD-43AC-A482-A94B4E72D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E830F-D432-4D23-BDFC-2E2056BD4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83D05-36AE-47C0-B222-077371996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C3C71-EE4B-4569-B9D9-D544C133A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6B38B-084F-403D-9A85-CCC56189B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A8FDA-B593-41B3-AF33-13F842EEF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F4F02-FD4A-4EE3-A1C5-661D518E4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20833-C5B7-4A08-9294-95F3061B5FA0}"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E116F-6B78-49C2-80BA-9F057F8E55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6renu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IETF 84, Vancouver</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31</a:t>
            </a:r>
            <a:r>
              <a:rPr b="0" lang="en-US" sz="3200" spc="-1" strike="noStrike" baseline="30000">
                <a:solidFill>
                  <a:srgbClr val="898989"/>
                </a:solidFill>
                <a:latin typeface="Calibri"/>
              </a:rPr>
              <a:t>st</a:t>
            </a:r>
            <a:r>
              <a:rPr b="0" lang="en-US" sz="3200" spc="-1" strike="noStrike">
                <a:solidFill>
                  <a:srgbClr val="898989"/>
                </a:solidFill>
                <a:latin typeface="Calibri"/>
              </a:rPr>
              <a:t> July 201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airs: Tim Chown, Lee How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3"/>
          <p:cNvSpPr/>
          <p:nvPr/>
        </p:nvSpPr>
        <p:spPr>
          <a:xfrm>
            <a:off x="279360" y="419040"/>
            <a:ext cx="8558280" cy="58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Note Well</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IETF plenary sessio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IESG, or any member thereof on behalf of the IES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ny IETF mailing list, including the IETF list itself, any working group or design team list, or any other list functioning under IETF auspice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ny IETF working group or portion thereof</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ny Birds of a Feather (BOF) sessio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IAB or any member thereof on behalf of the IAB</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RFC Editor or the Internet-Drafts functio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ll IETF Contributions are subject to the rules of RFC 5378 and RFC 3979 (updated by RFC 4879).</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lease consult RFC 5378 and RFC 3979 for detail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 participant in any IETF activity is deemed to accept all IETF rules of process, as documented in Best Current Practices RFCs and IESG Statement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 participant in any IETF activity acknowledges that written, audio and video records of meetings may be made and may be available to the public.</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ministravia</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retary: Sheng Jia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ditional note-tak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abber scrib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10:30 - 10:35</a:t>
            </a:r>
            <a:r>
              <a:rPr b="0" lang="en-US" sz="2500" spc="-1" strike="noStrike">
                <a:solidFill>
                  <a:srgbClr val="000000"/>
                </a:solidFill>
                <a:latin typeface="Calibri"/>
              </a:rPr>
              <a:t>	</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ote Well, Scribes, Agenda Bashing</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pdate on static address problem draft</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10:35 – 10:45</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aft-ietf-6renum-enterprise-01, Sheng Jiang</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10:45 – 10:55</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aft-ietf-6renum-gap-analysis-02, Bing Liu</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11:00 – 11:30</a:t>
            </a:r>
            <a:r>
              <a:rPr b="0" lang="en-US" sz="2500" spc="-1" strike="noStrike">
                <a:solidFill>
                  <a:srgbClr val="000000"/>
                </a:solidFill>
                <a:latin typeface="Calibri"/>
              </a:rPr>
              <a:t>	</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uture Work, Chairs/al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c Problem</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lit out issues with static addres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raft-carpenter-6renum-static-problem-02</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s part of the gap analysi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d is a clearly identifiable subset of the probl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 agreed to milestone tweak to allow draft to progress separately from main gap analy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ublished 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raft-ietf-6renum-static-problem-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20:56:35Z</dcterms:created>
  <dc:creator>Tim Chown</dc:creator>
  <dc:description/>
  <dc:language>en-US</dc:language>
  <cp:lastModifiedBy>Tim Chown</cp:lastModifiedBy>
  <dcterms:modified xsi:type="dcterms:W3CDTF">2012-07-30T21:06:56Z</dcterms:modified>
  <cp:revision>1</cp:revision>
  <dc:subject/>
  <dc:title>6renum</dc:title>
</cp:coreProperties>
</file>