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8A7C46-5575-4B64-90C9-0828E2DBA6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44682-153B-4DF8-9CA2-AF5A6661F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4D10F-2256-4905-9D61-27984DD53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584696-7361-4929-BB6E-EB24E0850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8E74D-88F9-4A17-9524-9EF5F08C2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12653-6305-4696-A7BE-38EB70070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B9A15-6CA7-4C74-A7D9-807E2D5D3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36AE6-BFEF-45F8-8C02-B3FF50463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A620C-931C-4907-8C82-306FD4077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DFE83-EE85-4D17-8E46-924AABC00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FF4AD-82CE-4AA3-A6B5-894C2D29A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2E167-F9D7-420A-80C6-48A364AD69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6A19E8-3D95-4D02-AAA4-0556924F143C}"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5DDD30-1F47-4FC2-A3E3-268E0B6A794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6renum</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IETF 84, Vancouver</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31</a:t>
            </a:r>
            <a:r>
              <a:rPr b="0" lang="en-US" sz="3200" spc="-1" strike="noStrike" baseline="30000">
                <a:solidFill>
                  <a:srgbClr val="898989"/>
                </a:solidFill>
                <a:latin typeface="Calibri"/>
              </a:rPr>
              <a:t>st</a:t>
            </a:r>
            <a:r>
              <a:rPr b="0" lang="en-US" sz="3200" spc="-1" strike="noStrike">
                <a:solidFill>
                  <a:srgbClr val="898989"/>
                </a:solidFill>
                <a:latin typeface="Calibri"/>
              </a:rPr>
              <a:t> July 2012</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Chairs: Tim Chown, Lee Howar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3"/>
          <p:cNvSpPr/>
          <p:nvPr/>
        </p:nvSpPr>
        <p:spPr>
          <a:xfrm>
            <a:off x="279360" y="419040"/>
            <a:ext cx="8558280" cy="584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Note Well</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he IETF plenary session</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he IESG, or any member thereof on behalf of the IESG</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ny IETF mailing list, including the IETF list itself, any working group or design team list, or any other list functioning under IETF auspices</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ny IETF working group or portion thereof</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ny Birds of a Feather (BOF) session</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he IAB or any member thereof on behalf of the IAB</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he RFC Editor or the Internet-Drafts function</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ll IETF Contributions are subject to the rules of RFC 5378 and RFC 3979 (updated by RFC 4879).</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tatements made outside of an IETF session, mailing list or other function, that are clearly not intended to be input to an IETF activity, group or function, are not IETF Contributions in the context of this notice.</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Please consult RFC 5378 and RFC 3979 for details.</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 participant in any IETF activity is deemed to accept all IETF rules of process, as documented in Best Current Practices RFCs and IESG Statements.</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 participant in any IETF activity acknowledges that written, audio and video records of meetings may be made and may be available to the public.</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dministravia</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retary: Sheng Jia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ditional note-tak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Jabber scrib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10:30 - 10:35</a:t>
            </a:r>
            <a:r>
              <a:rPr b="0" lang="en-US" sz="2500" spc="-1" strike="noStrike">
                <a:solidFill>
                  <a:srgbClr val="000000"/>
                </a:solidFill>
                <a:latin typeface="Calibri"/>
              </a:rPr>
              <a:t>	</a:t>
            </a:r>
            <a:endParaRPr b="0" lang="en-US" sz="25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Note Well, Scribes, Agenda Bashing</a:t>
            </a:r>
            <a:endParaRPr b="0" lang="en-US" sz="22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Update on static address problem draft</a:t>
            </a:r>
            <a:r>
              <a:rPr b="0" lang="en-US" sz="2200" spc="-1" strike="noStrike">
                <a:solidFill>
                  <a:srgbClr val="000000"/>
                </a:solidFill>
                <a:latin typeface="Calibri"/>
              </a:rPr>
              <a:t>	</a:t>
            </a:r>
            <a:endParaRPr b="0" lang="en-US" sz="22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10:35 – 10:45</a:t>
            </a:r>
            <a:endParaRPr b="0" lang="en-US" sz="25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aft-ietf-6renum-enterprise-01, Sheng Jiang</a:t>
            </a:r>
            <a:endParaRPr b="0" lang="en-US" sz="22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10:45 – 10:55</a:t>
            </a:r>
            <a:endParaRPr b="0" lang="en-US" sz="25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aft-ietf-6renum-gap-analysis-02, Bing Liu</a:t>
            </a:r>
            <a:endParaRPr b="0" lang="en-US" sz="22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11:00 – 11:30</a:t>
            </a:r>
            <a:r>
              <a:rPr b="0" lang="en-US" sz="2500" spc="-1" strike="noStrike">
                <a:solidFill>
                  <a:srgbClr val="000000"/>
                </a:solidFill>
                <a:latin typeface="Calibri"/>
              </a:rPr>
              <a:t>	</a:t>
            </a:r>
            <a:endParaRPr b="0" lang="en-US" sz="25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Future Work, Chairs/all</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ic Problem</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plit out issues with static address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raft-carpenter-6renum-static-problem-02</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ms part of the gap analysi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nd is a clearly identifiable subset of the problem</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 agreed to milestone tweak to allow draft to progress separately from main gap analys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published a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raft-ietf-6renum-static-problem-0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30T20:56:35Z</dcterms:created>
  <dc:creator>Tim Chown</dc:creator>
  <dc:description/>
  <dc:language>en-US</dc:language>
  <cp:lastModifiedBy>Tim Chown</cp:lastModifiedBy>
  <dcterms:modified xsi:type="dcterms:W3CDTF">2012-07-30T21:06:56Z</dcterms:modified>
  <cp:revision>1</cp:revision>
  <dc:subject/>
  <dc:title>6renum</dc:title>
</cp:coreProperties>
</file>