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4D6-E7C4-4D34-84AE-57E0FE3F0AA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6CD-8E4F-4F93-8393-52AAEB3BF7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9EE-A6A6-4AA7-B701-0225EC42A6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1FE4-B089-4237-8729-6DE0342EC8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9C6-CC32-436C-9A13-CC0276CE3A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6865-A76E-4DC6-BF1F-792830B6DC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ED9-7961-4DC1-9093-D8620938D9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8232-54CE-425D-A225-CD8679753F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77A-5246-4F71-9C1F-9261A77F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4B5-B2BA-42F8-989A-C5EFB5D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53B-9D34-4AB1-A55D-EAAC227D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A17-B2F3-40FA-AD8B-943FEBE7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DC1-5948-4B19-8413-456FD92D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B28-7DA7-486C-994E-F9705C3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233-5423-47B2-B80E-0E27D7D7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71F-4F41-4B12-9416-672B0FE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435-E482-4310-BD12-65DA3617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D89-82D7-4739-920D-3FE3B98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3B8-FFB7-40C7-A722-AA3FFCF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581-AFBC-4E66-B809-D799F4D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BAB-1A06-40E4-896D-31CBC4716C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062-C908-48FF-A6F8-739F909B0C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6renum-enterprise-0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iangsheng@huawei.com" TargetMode="External"/><Relationship Id="rId2" Type="http://schemas.openxmlformats.org/officeDocument/2006/relationships/hyperlink" Target="mailto:leo.liubing@huawei.com" TargetMode="External"/><Relationship Id="rId3" Type="http://schemas.openxmlformats.org/officeDocument/2006/relationships/hyperlink" Target="mailto:brian.e.carpenter@gmail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Pv6 Enterprise Network Renumbering Scenarios and Guidelines</a:t>
            </a:r>
            <a:br>
              <a:rPr sz="40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ietf-6renum-enterprise-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ng Jiang(speaker), Bing Liu, Brian.E.Carp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4@Vancou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1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 a topic “Usage of ULA” in 4.1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iderations and Best Current Practices during Network De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using ULA for local communication, the separated local routing plane can isolate itself from being affected by global routing chan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A is an effective tool for the internal-only nodes to avoid some renumb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ulticast, ULA may be a way of avoiding renumbering from having an impact on multicast (e.g. multicast sources and Rendezvous-Poi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2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d  “Router awareness” &amp;  “Border filtering” to Gap Analysis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topics were in 4.3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siderations and Best Current Practices during Renumbering Op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renumbering requirements rather than BCP, so moved to Gap 7.1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numbering No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3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555560"/>
            <a:ext cx="8280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d original Section 5 - Gap Invent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content was overlapped with the Gap Analysis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necessary to keep a reference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4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6732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ference [I-D. jiang-dnsext-a6-to-historic] has became  RFC6563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ving A6 to Historic Sta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k you</a:t>
            </a: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iangshe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leo.liubing@huawei.com 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rian.e.carpenter@gmail.com</a:t>
            </a:r>
            <a:br>
              <a:rPr sz="1800"/>
            </a:b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uly 31, 2012 @Vancou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Tim Chown</cp:lastModifiedBy>
  <dcterms:modified xsi:type="dcterms:W3CDTF">2012-07-31T15:55:46Z</dcterms:modified>
  <cp:revision>633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5Q8qruVaoSaKMWS4tZrjgfFxDDkFf65ti+vp2Y4HE5ZSk9LxvtXshuCdXhG23fqEowESHenZ
DNkCjSQT1KEvEHYOwPzWro9KcPj0YvOdBIYFiMxPGFSEQR+hpppBT4NebdsHicooP+C3WJgL
mUYufZCdQUXw7Bg/E2kAM6Yr8Smf3x4PYxrVFRShDSK2EJWIX/MAAGWeUmfyYz26SyfxVjJc
surBzOcmX6GV0JMdpg</vt:lpwstr>
  </property>
  <property fmtid="{D5CDD505-2E9C-101B-9397-08002B2CF9AE}" pid="3" name="_ms_pID_7253431">
    <vt:lpwstr>c6r7uigOb9yyGUQT7/oD63nh5mFp0yVY1OmJtxZUyRAfEO/vlzdvmG
Ss9+ZtZHgHRJrM7udtzfTjFnqXvao5g5eetTbDoBCld7A2FjpFSfy+RzSeYLPoj2PXYtBPkT
BlbHHBZes6yMva5G0JHj0U5sALCboUjGAATv+5aKXkioczfBNwPSTAd8hoMbXvIEPxlLArgX
VhOdTm3brZNmufBg2L53cOydw0p9iWxFBkLW</vt:lpwstr>
  </property>
  <property fmtid="{D5CDD505-2E9C-101B-9397-08002B2CF9AE}" pid="4" name="_ms_pID_7253432">
    <vt:lpwstr>TYYi3gksSm++7UzFr162qV5tfEPJLHY1JTxl
5PQbXBy2WopIPTWHdZZC+pCtkOKeHMR0z98kCpqBpJboJbymKHEceVOfyuUwYTmKA6hF4b3r
gnREDzwEjH8d8OLGiTFQ9DZtF5jEqOfkulfQgQKmNfDQDUEdXr54L2Ig/cf//PzJU+4JDccU
Y+r3oESv8QFkBrRgD0iuMs5W5NPtVIER6oOLlWPE6ea2JDPQ5VuAsl</vt:lpwstr>
  </property>
  <property fmtid="{D5CDD505-2E9C-101B-9397-08002B2CF9AE}" pid="5" name="_ms_pID_7253433">
    <vt:lpwstr>62</vt:lpwstr>
  </property>
  <property fmtid="{D5CDD505-2E9C-101B-9397-08002B2CF9AE}" pid="6" name="sflag">
    <vt:lpwstr>1343602211</vt:lpwstr>
  </property>
</Properties>
</file>