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5AEF-8122-4795-807F-9A2B6F5FB348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4CBC-D773-478C-BC1A-5C8D8745B1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60B-F9AA-4DDC-8210-12F3754127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9DA1-5088-4FCF-A87B-A155203BA2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0A9-AF0C-4C06-8250-958B394175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51D-0D34-428B-91E3-A45BA7A029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D9E3-84D5-441F-911A-CCBCECA3E1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08D-864A-4ADF-846F-D0C9D90274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EA0-34BA-4AE5-9F56-A62BFF12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28A-A07A-4085-BA89-4DC7071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C3A-0341-4AF9-BE47-412DD906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F01-8468-47DA-97C1-89AB15A5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62A-8FF1-48D6-933F-3B77711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34C-F91D-44D0-8EB0-2ADA657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38B-9620-41F7-BCA3-306F708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8B1-9987-454C-8E2D-FBA5148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658-8CC3-4C30-8E73-A93880B1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E72-8D7C-451D-9689-B104CEDE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7E4-99C2-4F74-9561-463FFDC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BC3-FFB9-4617-B7EC-C16D6FF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3CE-FA71-410B-BAEC-8C86D5C0DD2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320-16F2-4087-BEB6-6E45421993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6renum-enterprise-0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iangsheng@huawei.com" TargetMode="External"/><Relationship Id="rId2" Type="http://schemas.openxmlformats.org/officeDocument/2006/relationships/hyperlink" Target="mailto:leo.liubing@huawei.com" TargetMode="External"/><Relationship Id="rId3" Type="http://schemas.openxmlformats.org/officeDocument/2006/relationships/hyperlink" Target="mailto:brian.e.carpenter@gmail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Pv6 Enterprise Network Renumbering Scenarios and Guidelines</a:t>
            </a:r>
            <a:br>
              <a:rPr sz="40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ietf-6renum-enterprise-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ng Jiang(speaker), Bing Liu, Brian.E.Carp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ETF 84@Vancou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1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 a topic “Usage of ULA” in 4.1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iderations and Best Current Practices during Network Desig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using ULA for local communication, the separated local routing plane can isolate itself from being affected by global routing chan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A is an effective tool for the internal-only nodes to avoid some renumb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ulticast, ULA may be a way of avoiding renumbering from having an impact on multicast (e.g. multicast sources and Rendezvous-Poi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2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d  “Router awareness” &amp;  “Border filtering” to Gap Analysis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wo topics were in 4.3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siderations and Best Current Practices during Renumbering Ope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renumbering requirements rather than BCP, so moved to Gap 7.1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numbering No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3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555560"/>
            <a:ext cx="8280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ted original Section 5 - Gap Invent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content was overlapped with the Gap Analysis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necessary to keep a reference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4/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67328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ference [I-D. jiang-dnsext-a6-to-historic] has became  RFC6563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ving A6 to Historic Stat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nk you</a:t>
            </a:r>
            <a:br>
              <a:rPr sz="3200"/>
            </a:br>
            <a:br>
              <a:rPr sz="32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iangsheng@huawei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leo.liubing@huawei.com 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rian.e.carpenter@gmail.com</a:t>
            </a:r>
            <a:br>
              <a:rPr sz="1800"/>
            </a:b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uly 31, 2012 @Vancou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2:34:31Z</dcterms:created>
  <dc:creator>Leo Liu(bing)</dc:creator>
  <dc:description/>
  <dc:language>en-US</dc:language>
  <cp:lastModifiedBy>Tim Chown</cp:lastModifiedBy>
  <dcterms:modified xsi:type="dcterms:W3CDTF">2012-07-31T15:55:46Z</dcterms:modified>
  <cp:revision>633</cp:revision>
  <dc:subject/>
  <dc:title>IPv6 Site Renumbering  Gap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5Q8qruVaoSaKMWS4tZrjgfFxDDkFf65ti+vp2Y4HE5ZSk9LxvtXshuCdXhG23fqEowESHenZ
DNkCjSQT1KEvEHYOwPzWro9KcPj0YvOdBIYFiMxPGFSEQR+hpppBT4NebdsHicooP+C3WJgL
mUYufZCdQUXw7Bg/E2kAM6Yr8Smf3x4PYxrVFRShDSK2EJWIX/MAAGWeUmfyYz26SyfxVjJc
surBzOcmX6GV0JMdpg</vt:lpwstr>
  </property>
  <property fmtid="{D5CDD505-2E9C-101B-9397-08002B2CF9AE}" pid="3" name="_ms_pID_7253431">
    <vt:lpwstr>c6r7uigOb9yyGUQT7/oD63nh5mFp0yVY1OmJtxZUyRAfEO/vlzdvmG
Ss9+ZtZHgHRJrM7udtzfTjFnqXvao5g5eetTbDoBCld7A2FjpFSfy+RzSeYLPoj2PXYtBPkT
BlbHHBZes6yMva5G0JHj0U5sALCboUjGAATv+5aKXkioczfBNwPSTAd8hoMbXvIEPxlLArgX
VhOdTm3brZNmufBg2L53cOydw0p9iWxFBkLW</vt:lpwstr>
  </property>
  <property fmtid="{D5CDD505-2E9C-101B-9397-08002B2CF9AE}" pid="4" name="_ms_pID_7253432">
    <vt:lpwstr>TYYi3gksSm++7UzFr162qV5tfEPJLHY1JTxl
5PQbXBy2WopIPTWHdZZC+pCtkOKeHMR0z98kCpqBpJboJbymKHEceVOfyuUwYTmKA6hF4b3r
gnREDzwEjH8d8OLGiTFQ9DZtF5jEqOfkulfQgQKmNfDQDUEdXr54L2Ig/cf//PzJU+4JDccU
Y+r3oESv8QFkBrRgD0iuMs5W5NPtVIER6oOLlWPE6ea2JDPQ5VuAsl</vt:lpwstr>
  </property>
  <property fmtid="{D5CDD505-2E9C-101B-9397-08002B2CF9AE}" pid="5" name="_ms_pID_7253433">
    <vt:lpwstr>62</vt:lpwstr>
  </property>
  <property fmtid="{D5CDD505-2E9C-101B-9397-08002B2CF9AE}" pid="6" name="sflag">
    <vt:lpwstr>1343602211</vt:lpwstr>
  </property>
</Properties>
</file>