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07F3-F640-42A9-8946-BDDE57A9C060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C378-7489-4B94-B4F2-7819F9E754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A55B-765A-4183-A765-F592B33394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BD87-72CC-4EBE-9D6F-7DEC34B7C0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0D3A-E9FD-42A2-85D1-D9B9A6F569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F35A-F2BC-46B4-AF8F-94D776C7FA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EE90-92E2-49F6-8E4F-8AC29553C2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9A01-E36B-4999-80EA-0B01F9B5C6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7C26-05F1-4A1E-9F5F-ADE9B7D1D5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8A00-118B-435C-8433-1D6038AB30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AB86-438D-4A89-83D0-318EE8DA23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D6E-7A82-43A8-8805-5D49272D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314-9CD0-4D4A-B394-1CB6D26D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8FD-187B-46BC-B6B0-C540F8A3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FA1-D29B-433E-BA2D-0E2B2875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5D0-FA35-422E-BA49-C0DCD81E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C0E-087B-4D5C-91FF-BF01D2BD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C0A-A6DA-4EA5-9CD7-F81073C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121-4ADA-47A0-823F-E8D054BA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CAE-B88C-4E30-BC33-835E703A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2A8-60D8-4969-989A-B1398C9E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F70-EB0F-4840-97A1-27BE431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6F0-AC99-4E9F-B8F2-35439BF3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57E7-F820-4CD2-A598-58637F67DF7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7F95-CCD0-4BCA-8DBE-A669D4FF8D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6renum-gap-analysis-0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eo.liubing@huawei.com" TargetMode="External"/><Relationship Id="rId2" Type="http://schemas.openxmlformats.org/officeDocument/2006/relationships/hyperlink" Target="mailto:jiangsheng@huawei.com" TargetMode="External"/><Relationship Id="rId3" Type="http://schemas.openxmlformats.org/officeDocument/2006/relationships/hyperlink" Target="mailto:brian.e.carpenter@gmail.com" TargetMode="External"/><Relationship Id="rId4" Type="http://schemas.openxmlformats.org/officeDocument/2006/relationships/hyperlink" Target="mailto:svenaas@cisco.co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liu-6renum-dhcpv6-slaac-switching-01.html" TargetMode="External"/><Relationship Id="rId2" Type="http://schemas.openxmlformats.org/officeDocument/2006/relationships/hyperlink" Target="http://tools.ietf.org/html/draft-liu-6renum-dhcpv6-slaac-switching-0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v6 Site Renumbering Gap Analysis</a:t>
            </a:r>
            <a:br>
              <a:rPr sz="44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ietf-6renum-gap-analysis-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41497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g Liu (speaker), Sheng Jiang, Brian.E.Carpenter, Stig Ven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ETF 84@Vancou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1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26792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ed  a brief description of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PAM (IP address management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3.2 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Components for IPv6 Renumbering - Manage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AM tools usually  integrate DHCP and D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they don’t have a dedicated renumbering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ir integration can benefit the renumbering pro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2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4920" y="133992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ed two topics in “renumbering notificati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ter awareness” and “border filtering”,  which are moved from enterprise scenarios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d MSDP peers renumbering consi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it is not IPv6 relev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revisions 3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4920" y="133992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d SLAAC/DHCPv6 co-existence issue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ew notes were added in 5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We have issued a new draft  draft-liu-6renum-dhcpv6-slaac-switching,  which is dedicated for the co-existence issue, but as a potential solution this is not in scope of 6renum at this ti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nk you</a:t>
            </a:r>
            <a:br>
              <a:rPr sz="3200"/>
            </a:br>
            <a:br>
              <a:rPr sz="32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eo.liubing@huawei.com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jiangsheng@huawei.com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rian.e.carpenter@gmail.com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venaas@cisco.com</a:t>
            </a:r>
            <a:br>
              <a:rPr sz="1800"/>
            </a:br>
            <a:br>
              <a:rPr sz="1800"/>
            </a:b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uly 31, @Vancou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527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CPv6/SLAA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ddress Configuration Swit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for Host Renumbe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liu-6renum-dhcpv6-slaac-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wi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5280" y="429264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g Liu (speaker), Wendong Wang, Xiangyang Go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6renum@IETF 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33992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biguous M/O flags in RA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ld SLAAC standard (RFC 2462) had some clear specification of how to interpret the M/O flags when the hosts receive 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t was removed in the current SLAAC standard (RFC 4862), the reason was “considering the maturity of implementations and operational experiences. [RFC4862]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979640" y="4367160"/>
            <a:ext cx="50958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now the situation i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4920" y="133956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requirements  emerge from I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 when an ISP is deploying IPv6 networks, they have a strong requirement of clear M/O definition. But since the SLAAC standard is ambiguous, they had to directly specify what they wanted to the CPE vend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aviors of major desktop OSes has var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s 7 interprets M flag differently with Linux/OS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ktop OSes are far more difficult to be customized than CPEs, so this issue could be a problem for network man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pecially in renumb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4920" y="133956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ACed  hosts may need to switch to DHCPv6, or vice ve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the network may split, merge, relocate or be re-organized.  Then the address configuration mode may need to swit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he network make the hosts switch from SLAAC to DHCPv6? (Currently, M changed from 0 to 1 is just nonsense for Linux/OS X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bout from DHCPv6 to SLAAC? (If M changed to 0, Win7 will do it, but it is still nonsense for Linux/OS X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are standard gaps. We may need a clearer specification of host behav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2:34:31Z</dcterms:created>
  <dc:creator>Leo Liu(bing)</dc:creator>
  <dc:description/>
  <dc:language>en-US</dc:language>
  <cp:lastModifiedBy>Tim Chown</cp:lastModifiedBy>
  <dcterms:modified xsi:type="dcterms:W3CDTF">2012-07-31T16:01:53Z</dcterms:modified>
  <cp:revision>618</cp:revision>
  <dc:subject/>
  <dc:title>IPv6 Site Renumbering  Gap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4)5Q8qruVaoSaKMWS4tZrjgfFxDDkFf65ti+vp2Y4HE5ZSk9LxvtXshuCdXhG23fqEowESHenZ
DNkCjSQT1KEvEHYOwPzWro9KcPj0YvOdBIYFiMxPGFSEQR+hpppBT4NebdsHicooP+C3WJgL
mUYufZCdQUXw7Bg/E2kAM6Yr8Smf3x4PYxrVFRShDSK2EJWIX/MAAGWeUmfyYz26SyfxVjJc
surBzOcmX6GV0JMdpg</vt:lpwstr>
  </property>
  <property fmtid="{D5CDD505-2E9C-101B-9397-08002B2CF9AE}" pid="3" name="_ms_pID_7253431">
    <vt:lpwstr>c6r7uigOb9yyGUQT7/oD63nh5mFp0yVY1OmJtxZUyRAfEO/vlzdvmG
Ss9+ZtZHgHRJrM7udtzfTjFnqXvao5g5eetTbDoBCld7A2FjpFSfy+RzSeYLPoj2PXYtBPkT
BlbHHBZes6yMva5G0JHj0U5sALCboUjGAATv+5aKXkioczfBNwPSTAd8hoMbXvIEPxlLArgX
VhOdTm3brZNmufBg2L53cOydw0p9iWxFBkLW</vt:lpwstr>
  </property>
  <property fmtid="{D5CDD505-2E9C-101B-9397-08002B2CF9AE}" pid="4" name="_ms_pID_7253432">
    <vt:lpwstr>TYYi3gksSm++7UzFr162qV5tfEPJLHY1JTxl
5PQbXBy2WopIPTWHdZZC+pCtkOKeHMR0z98kCpqBpJboJbymKHEceVOfyuUwYTmKA6hF4b3r
gnREDzwEjH8d8OLGiTFQ9DZtF5jEqOfkulfQgQKmNfDQDUEdXr54L2Ig/cf//PzJU+4JDccU
Y+r3oESv8QFkBrRgD0iuMs5W5NPtVIER6oOLlWPE6ea2JDPQ5VuAsl</vt:lpwstr>
  </property>
  <property fmtid="{D5CDD505-2E9C-101B-9397-08002B2CF9AE}" pid="5" name="_ms_pID_7253433">
    <vt:lpwstr>62</vt:lpwstr>
  </property>
  <property fmtid="{D5CDD505-2E9C-101B-9397-08002B2CF9AE}" pid="6" name="sflag">
    <vt:lpwstr>1343603216</vt:lpwstr>
  </property>
</Properties>
</file>