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37E-4DFB-4A91-9601-468FBE129EB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F6DF-0F83-471D-9C6F-E990604FB6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09A-2D5B-428F-B941-5E77694905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1C0E-8842-402D-977E-FAEC890C9B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3538-C34F-4607-9D5A-60CA187EEA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D6B3-BFB8-4028-9F2F-BED09E4619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623-AE6C-4BE8-A2B2-82AB985F95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41B0-C8F9-4E6A-ABEE-3B902AEE4C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1D60-EE09-4BAF-8B03-0E4A5E5294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BCE8-AC86-429B-867A-FE5355DD8E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60E6-940B-4C3D-8E61-46D4274CF5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D42-FAAA-4B98-B7A7-5395E40D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901-AC22-4B49-B8AD-B083C826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EF3-772B-43B7-B261-26794270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7C5-0D09-4D6D-8DA9-35B50C36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D68-4051-45AC-9928-BB2F6B3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7B3-5142-40CA-B461-D7683798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94D-F193-4461-810D-BD71350F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D8A-854E-496F-9998-09E3BAB0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890-84E0-49B1-AD20-3B2F7A17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F6D-1303-41BE-B1DD-438E515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3A1-740B-46F3-B158-ED3B70E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AAC-2D24-4DC0-A109-E8145EF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6D2F-1A35-4D0F-B47A-D0A5D30E8A9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58DA-8B02-4183-B5F4-6C2E5555A9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6renum-gap-analysis-0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eo.liubing@huawei.com" TargetMode="External"/><Relationship Id="rId2" Type="http://schemas.openxmlformats.org/officeDocument/2006/relationships/hyperlink" Target="mailto:jiangsheng@huawei.com" TargetMode="External"/><Relationship Id="rId3" Type="http://schemas.openxmlformats.org/officeDocument/2006/relationships/hyperlink" Target="mailto:brian.e.carpenter@gmail.com" TargetMode="External"/><Relationship Id="rId4" Type="http://schemas.openxmlformats.org/officeDocument/2006/relationships/hyperlink" Target="mailto:svenaas@cisco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liu-6renum-dhcpv6-slaac-switching-01.html" TargetMode="External"/><Relationship Id="rId2" Type="http://schemas.openxmlformats.org/officeDocument/2006/relationships/hyperlink" Target="http://tools.ietf.org/html/draft-liu-6renum-dhcpv6-slaac-switching-0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Site Renumbering Gap Analysis</a:t>
            </a:r>
            <a:br>
              <a:rPr sz="44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ietf-6renum-gap-analysis-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g Liu (speaker), Sheng Jiang, Brian.E.Carpenter, Stig Ven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ETF 84@Vancou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 a brief description of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PAM (IP address management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3.2 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Components for IPv6 Renumbering - Manage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AM tools usually  integrate DHCP and D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they don’t have a dedicated renumbering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ir integration can benefit the renumbering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2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33992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two topics in “renumbering notificati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er awareness” and “border filtering”,  which are moved from enterprise scenarios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d MSDP peers renumbering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it is not IPv6 relev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3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33992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d SLAAC/DHCPv6 co-existence issue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ew notes were added in 5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e have issued a new draft  draft-liu-6renum-dhcpv6-slaac-switching,  which is dedicated for the co-existence issue, but as a potential solution this is not in scope of 6renum at this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nk you</a:t>
            </a:r>
            <a:br>
              <a:rPr sz="3200"/>
            </a:br>
            <a:br>
              <a:rPr sz="32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o.liubing@huawei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iangsheng@huawei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rian.e.carpenter@gmail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venaas@cisco.com</a:t>
            </a:r>
            <a:br>
              <a:rPr sz="1800"/>
            </a:b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uly 31, @Vancou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527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CPv6/SLAA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ddress Configuration Swit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or Host Renumb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liu-6renum-dhcpv6-slaac-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wi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5280" y="429264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g Liu (speaker), Wendong Wang, Xiangyang Go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6renum@IETF 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33992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biguous M/O flags in RA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ld SLAAC standard (RFC 2462) had some clear specification of how to interpret the M/O flags when the hosts receive 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was removed in the current SLAAC standard (RFC 4862), the reason was “considering the maturity of implementations and operational experiences. [RFC4862]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979640" y="4367160"/>
            <a:ext cx="5095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now the situation 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4920" y="133956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equirements  emerge from I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when an ISP is deploying IPv6 networks, they have a strong requirement of clear M/O definition. But since the SLAAC standard is ambiguous, they had to directly specify what they wanted to the CPE vend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s of major desktop OSes has var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s 7 interprets M flag differently with Linux/OS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ktop OSes are far more difficult to be customized than CPEs, so this issue could be a problem for network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pecially in renumb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4920" y="133956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ACed  hosts may need to switch to DHCPv6, or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the network may split, merge, relocate or be re-organized.  Then the address configuration mode may need to swit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network make the hosts switch from SLAAC to DHCPv6? (Currently, M changed from 0 to 1 is just nonsense for Linux/OS X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bout from DHCPv6 to SLAAC? (If M changed to 0, Win7 will do it, but it is still nonsense for Linux/OS X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re standard gaps. We may need a clearer specification of host behav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2:34:31Z</dcterms:created>
  <dc:creator>Leo Liu(bing)</dc:creator>
  <dc:description/>
  <dc:language>en-US</dc:language>
  <cp:lastModifiedBy>Tim Chown</cp:lastModifiedBy>
  <dcterms:modified xsi:type="dcterms:W3CDTF">2012-07-31T16:01:53Z</dcterms:modified>
  <cp:revision>618</cp:revision>
  <dc:subject/>
  <dc:title>IPv6 Site Renumbering  Gap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5Q8qruVaoSaKMWS4tZrjgfFxDDkFf65ti+vp2Y4HE5ZSk9LxvtXshuCdXhG23fqEowESHenZ
DNkCjSQT1KEvEHYOwPzWro9KcPj0YvOdBIYFiMxPGFSEQR+hpppBT4NebdsHicooP+C3WJgL
mUYufZCdQUXw7Bg/E2kAM6Yr8Smf3x4PYxrVFRShDSK2EJWIX/MAAGWeUmfyYz26SyfxVjJc
surBzOcmX6GV0JMdpg</vt:lpwstr>
  </property>
  <property fmtid="{D5CDD505-2E9C-101B-9397-08002B2CF9AE}" pid="3" name="_ms_pID_7253431">
    <vt:lpwstr>c6r7uigOb9yyGUQT7/oD63nh5mFp0yVY1OmJtxZUyRAfEO/vlzdvmG
Ss9+ZtZHgHRJrM7udtzfTjFnqXvao5g5eetTbDoBCld7A2FjpFSfy+RzSeYLPoj2PXYtBPkT
BlbHHBZes6yMva5G0JHj0U5sALCboUjGAATv+5aKXkioczfBNwPSTAd8hoMbXvIEPxlLArgX
VhOdTm3brZNmufBg2L53cOydw0p9iWxFBkLW</vt:lpwstr>
  </property>
  <property fmtid="{D5CDD505-2E9C-101B-9397-08002B2CF9AE}" pid="4" name="_ms_pID_7253432">
    <vt:lpwstr>TYYi3gksSm++7UzFr162qV5tfEPJLHY1JTxl
5PQbXBy2WopIPTWHdZZC+pCtkOKeHMR0z98kCpqBpJboJbymKHEceVOfyuUwYTmKA6hF4b3r
gnREDzwEjH8d8OLGiTFQ9DZtF5jEqOfkulfQgQKmNfDQDUEdXr54L2Ig/cf//PzJU+4JDccU
Y+r3oESv8QFkBrRgD0iuMs5W5NPtVIER6oOLlWPE6ea2JDPQ5VuAsl</vt:lpwstr>
  </property>
  <property fmtid="{D5CDD505-2E9C-101B-9397-08002B2CF9AE}" pid="5" name="_ms_pID_7253433">
    <vt:lpwstr>62</vt:lpwstr>
  </property>
  <property fmtid="{D5CDD505-2E9C-101B-9397-08002B2CF9AE}" pid="6" name="sflag">
    <vt:lpwstr>1343603216</vt:lpwstr>
  </property>
</Properties>
</file>