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8E3-800A-45FB-B899-2A180A81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E15-3681-4B43-B511-E1BB35A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298-CC2E-4CED-8400-1100C4C8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141-66C5-4428-9733-420AF8CB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FBB-1347-4B33-9273-5482AF42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4B3-3B58-45F5-AC09-B8B5CE39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CC7-C4D4-4359-8DDA-44656F05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651-FD7C-4C2A-9F9B-975FB799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60D-3CAD-4F77-8C96-6CCD08C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5B0-D9B9-4492-9D9C-F8AF9AA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9FC-7378-4B2E-8B10-0D6D844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A49-4F55-447E-91F9-72DF97B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22803-98AD-45F3-8192-AC9953379E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E511E-55BC-470B-9FE1-534F3E427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renum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renum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questions to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we captured the problem well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, what do we do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e existing scenario and gap analysis drafts capture the issues sufficiently well?   Are there any issues/parts miss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enterprise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gap-analysis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static-problem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answer to Q1 was “yes”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steps do we take n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sh existing drafts through to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 off identified protocol gaps to appropriate W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harter 6renum as a WG to provide ‘strategic steer’ on seeing that the documented gaps are resolv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ew development of such protocols and status of ga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fine operational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sider rapid renumbering for homene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of SLAAC/DHCPv6, M/O fla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ast DHCPv6 re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secure dynamic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ising DNS TTLs with renumb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 management of static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L/filter bulk upd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IPAM support for renumb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21:10:49Z</dcterms:created>
  <dc:creator>Tim Chown</dc:creator>
  <dc:description/>
  <dc:language>en-US</dc:language>
  <cp:lastModifiedBy>Tim Chown</cp:lastModifiedBy>
  <dcterms:modified xsi:type="dcterms:W3CDTF">2012-07-31T15:42:53Z</dcterms:modified>
  <cp:revision>4</cp:revision>
  <dc:subject/>
  <dc:title>6renum future work</dc:title>
</cp:coreProperties>
</file>