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F42-1C4C-40CC-9BFB-6E01D9FF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9C1-CFCF-4C51-AC4D-213991A7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6BB-F124-4B75-AC66-55EDE11E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90E-CF20-478E-BA5F-F3A01E78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71C-DE17-4B9E-BA17-6019543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D7D-8BEE-4A23-8D0D-7805B54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6D5-4D42-4472-B8CB-BE5CA80F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395-10B7-4F96-A119-C0AF6779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0F5-70F8-4FF9-9A94-3F4A3CFA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452-F578-4AA4-B488-435847E2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DA7-EC6B-410A-A6DD-F24C382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5FA-723B-4AF3-820A-7F45E8F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A1E60-2552-4502-B9FF-430563103E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AC3BB-4525-4151-B17E-7E8FE9C9B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renum 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ETF 8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renum 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questions to 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we captured the problem well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, what do we do n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e existing scenario and gap analysis drafts capture the issues sufficiently well?   Are there any issues/parts miss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ietf-6renum-enterprise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ietf-6renum-gap-analysis-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ietf-6renum-static-problem-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answer to Q1 was “yes”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steps do we take nex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sh existing drafts through to pub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 off identified protocol gaps to appropriate W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harter 6renum as a WG to provide ‘strategic steer’ on seeing that the documented gaps are resolve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view development of such protocols and status of ga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fine operational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consider rapid renumbering for homene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of 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ions ma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s of SLAAC/DHCPv6, M/O fla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ast DHCPv6 re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fied secure dynamic D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ising DNS TTLs with renumb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c management of static addr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L/filter bulk upd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IPAM support for renumb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21:10:49Z</dcterms:created>
  <dc:creator>Tim Chown</dc:creator>
  <dc:description/>
  <dc:language>en-US</dc:language>
  <cp:lastModifiedBy>Tim Chown</cp:lastModifiedBy>
  <dcterms:modified xsi:type="dcterms:W3CDTF">2012-07-31T15:42:53Z</dcterms:modified>
  <cp:revision>4</cp:revision>
  <dc:subject/>
  <dc:title>6renum future work</dc:title>
</cp:coreProperties>
</file>