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308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308520" indent="-3085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308520" indent="-3085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308520" indent="-3085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308520" indent="-308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308520" indent="-308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308520" indent="-308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1541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5987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0430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1640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2104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2532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2960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29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329040" indent="-3290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329040" indent="-32904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329040" indent="-3290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29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329040" indent="-3290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329040" indent="-32904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329040" indent="-3290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draft-smith-abfab-usability-ui-consideration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hys Smit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uccess handling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...on first use of ident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...on subsequent uses of ident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Looking for people to review the draf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ything missing / wrong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eed some help with possible error conditions - will poll the list post IETF 84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Looking to get this doc done ASAP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tatu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032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stly comple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6032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ooking for feedback on wha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 the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im of the I-D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elp elucidate UI and usability issues for those wishing to make use of, or develop, abfab based techno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o concentrates on user facing aspects of abfab - Identity Selection, et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.g. for Moonshot Identity Selector, Microsoft Credential Manager, et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irs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 whistle-stop tour of the draf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in topic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rminolog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naging Identit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pping Services to Identit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andling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andling Succes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erminolog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dent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rvi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pping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naging Identiti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nformation is associated with an I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dding Identities (manually/automa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difying Identities (manually/automa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ryifying Identit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moving Identity (manuall/automa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24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dentity&lt;-&gt;Servic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Listing Identities and mapped servi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howing mapping currently in u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ssociating Services with an ident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User-driven manu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utomated rules-bas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is-associating servi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rror Handling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dentity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rvices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c AuthZ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ther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.g. network err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isco Employee</cp:lastModifiedBy>
  <dcterms:modified xsi:type="dcterms:W3CDTF">2012-07-30T20:43:24Z</dcterms:modified>
  <cp:revision>1</cp:revision>
  <dc:subject/>
  <dc:title>draft-smith-abfab-usability-ui-considerations</dc:title>
</cp:coreProperties>
</file>