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75996-93B2-458C-B2C5-53BFE7B10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37789-FE87-4E11-8886-513ADEF8B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153FF-809A-4D89-9CFD-C2B82510C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9FEBC-3864-4BEA-AC5D-2592AF145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44F7F-0AC4-4DF2-8A61-DAA0D8B35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C51F6-C6D1-4AF5-B76A-A3B0CF4C3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88554-6756-42DA-AA3B-00245E4AC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0561F-B1F5-4DCC-B3DB-FCE84B25B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9A2FC-9BB2-4C51-BA91-F88469D45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03190-11A1-452B-B0CB-3681CDC02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B0ECB-483F-42B3-B92F-F15FB462B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3A290-3A56-4E58-B87F-ED3916A0B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660E-C013-4CCA-9CA5-95B2809785B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xmpp:avtext@jabber.ietf.org" TargetMode="External"/><Relationship Id="rId2" Type="http://schemas.openxmlformats.org/officeDocument/2006/relationships/hyperlink" Target="http://jabber.ietf.org/logs/avtext/" TargetMode="External"/><Relationship Id="rId3" Type="http://schemas.openxmlformats.org/officeDocument/2006/relationships/hyperlink" Target="http://jabber.ietf.org/logs/avtext/"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udio/Video Transport Extensions (</a:t>
            </a:r>
            <a:r>
              <a:rPr b="0" lang="en-US" sz="4400" spc="-1" strike="noStrike">
                <a:solidFill>
                  <a:srgbClr val="000000"/>
                </a:solidFill>
                <a:latin typeface="Arial"/>
              </a:rPr>
              <a:t>AVTEXT)</a:t>
            </a:r>
            <a:endParaRPr b="0" lang="en-US" sz="4400" spc="-1" strike="noStrike">
              <a:solidFill>
                <a:srgbClr val="000000"/>
              </a:solidFill>
              <a:latin typeface="Arial"/>
            </a:endParaRPr>
          </a:p>
        </p:txBody>
      </p:sp>
      <p:pic>
        <p:nvPicPr>
          <p:cNvPr id="42" name="" descr=""/>
          <p:cNvPicPr/>
          <p:nvPr/>
        </p:nvPicPr>
        <p:blipFill>
          <a:blip r:embed="rId1"/>
          <a:stretch/>
        </p:blipFill>
        <p:spPr>
          <a:xfrm>
            <a:off x="1187280" y="2492280"/>
            <a:ext cx="6840720" cy="362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ministrivi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eta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abber scri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abber ChatRo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dress:</a:t>
            </a:r>
            <a:r>
              <a:rPr b="0" lang="en-GB" sz="2800" spc="-1" strike="noStrike" u="sng">
                <a:solidFill>
                  <a:srgbClr val="009999"/>
                </a:solidFill>
                <a:uFillTx/>
                <a:latin typeface="Arial"/>
                <a:hlinkClick r:id="rId1"/>
              </a:rPr>
              <a:t>xmpp:avtext@jabber.ietf.or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gs:</a:t>
            </a:r>
            <a:r>
              <a:rPr b="0" lang="en-GB" sz="2800" spc="-1" strike="noStrike" u="sng">
                <a:solidFill>
                  <a:srgbClr val="009999"/>
                </a:solidFill>
                <a:uFillTx/>
                <a:latin typeface="Arial"/>
                <a:hlinkClick r:id="rId2"/>
              </a:rPr>
              <a:t>http://jabber.ietf.org/logs/avtext</a:t>
            </a:r>
            <a:r>
              <a:rPr b="0" lang="en-GB" sz="2800" spc="-1" strike="noStrike" u="sng">
                <a:solidFill>
                  <a:srgbClr val="009999"/>
                </a:solidFill>
                <a:uFillTx/>
                <a:latin typeface="Arial"/>
                <a:hlinkClick r:id="rId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te well</a:t>
            </a:r>
            <a:endParaRPr b="0" lang="en-US" sz="4400" spc="-1" strike="noStrike">
              <a:solidFill>
                <a:srgbClr val="000000"/>
              </a:solidFill>
              <a:latin typeface="Arial"/>
            </a:endParaRPr>
          </a:p>
        </p:txBody>
      </p:sp>
      <p:sp>
        <p:nvSpPr>
          <p:cNvPr id="46"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fontScale="99000"/>
          </a:bodyPr>
          <a:p>
            <a:pPr marL="339480" indent="-33948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0" lang="en-US" sz="1400" spc="-1" strike="noStrike">
              <a:solidFill>
                <a:srgbClr val="000000"/>
              </a:solidFill>
              <a:latin typeface="Arial"/>
            </a:endParaRPr>
          </a:p>
          <a:p>
            <a:pPr lvl="1" marL="735480" indent="-28296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IETF plenary session </a:t>
            </a:r>
            <a:endParaRPr b="0" lang="en-US" sz="1400" spc="-1" strike="noStrike">
              <a:solidFill>
                <a:srgbClr val="000000"/>
              </a:solidFill>
              <a:latin typeface="Arial"/>
            </a:endParaRPr>
          </a:p>
          <a:p>
            <a:pPr lvl="1" marL="735480" indent="-28296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IESG, or any member thereof on behalf of the IESG </a:t>
            </a:r>
            <a:endParaRPr b="0" lang="en-US" sz="1400" spc="-1" strike="noStrike">
              <a:solidFill>
                <a:srgbClr val="000000"/>
              </a:solidFill>
              <a:latin typeface="Arial"/>
            </a:endParaRPr>
          </a:p>
          <a:p>
            <a:pPr lvl="1" marL="735480" indent="-28296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y IETF mailing list, including the IETF list itself, any working group or design team list, or any other list functioning under IETF auspices </a:t>
            </a:r>
            <a:endParaRPr b="0" lang="en-US" sz="1400" spc="-1" strike="noStrike">
              <a:solidFill>
                <a:srgbClr val="000000"/>
              </a:solidFill>
              <a:latin typeface="Arial"/>
            </a:endParaRPr>
          </a:p>
          <a:p>
            <a:pPr lvl="1" marL="735480" indent="-28296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y IETF working group or portion thereof </a:t>
            </a:r>
            <a:endParaRPr b="0" lang="en-US" sz="1400" spc="-1" strike="noStrike">
              <a:solidFill>
                <a:srgbClr val="000000"/>
              </a:solidFill>
              <a:latin typeface="Arial"/>
            </a:endParaRPr>
          </a:p>
          <a:p>
            <a:pPr lvl="1" marL="735480" indent="-28296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y Birds of a Feather (BOF) session </a:t>
            </a:r>
            <a:endParaRPr b="0" lang="en-US" sz="1400" spc="-1" strike="noStrike">
              <a:solidFill>
                <a:srgbClr val="000000"/>
              </a:solidFill>
              <a:latin typeface="Arial"/>
            </a:endParaRPr>
          </a:p>
          <a:p>
            <a:pPr lvl="1" marL="735480" indent="-28296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IAB or any member thereof on behalf of the IAB </a:t>
            </a:r>
            <a:endParaRPr b="0" lang="en-US" sz="1400" spc="-1" strike="noStrike">
              <a:solidFill>
                <a:srgbClr val="000000"/>
              </a:solidFill>
              <a:latin typeface="Arial"/>
            </a:endParaRPr>
          </a:p>
          <a:p>
            <a:pPr lvl="1" marL="735480" indent="-28296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RFC Editor or the Internet-Drafts function </a:t>
            </a:r>
            <a:endParaRPr b="0" lang="en-US" sz="1400" spc="-1" strike="noStrike">
              <a:solidFill>
                <a:srgbClr val="000000"/>
              </a:solidFill>
              <a:latin typeface="Arial"/>
            </a:endParaRPr>
          </a:p>
          <a:p>
            <a:pPr lvl="1" marL="735480" indent="-28296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IETF Contributions are subject to the rules of RFC 5378 and RFC 3979 (updated by RFC 4879). </a:t>
            </a:r>
            <a:endParaRPr b="0" lang="en-US" sz="1400" spc="-1" strike="noStrike">
              <a:solidFill>
                <a:srgbClr val="000000"/>
              </a:solidFill>
              <a:latin typeface="Arial"/>
            </a:endParaRPr>
          </a:p>
          <a:p>
            <a:pPr marL="339480" indent="-33948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marL="339480" indent="-33948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lease consult RFC 5378 and RFC 3979 for details.</a:t>
            </a:r>
            <a:endParaRPr b="0" lang="en-US" sz="1400" spc="-1" strike="noStrike">
              <a:solidFill>
                <a:srgbClr val="000000"/>
              </a:solidFill>
              <a:latin typeface="Arial"/>
            </a:endParaRPr>
          </a:p>
          <a:p>
            <a:pPr marL="339480" indent="-33948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marL="339480" indent="-339480">
              <a:lnSpc>
                <a:spcPts val="15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participant in any IETF activity acknowledges that written, audio and video records of meetings may be made and may be available to the public.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gend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ursday 17:30 - 18:30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irs: Keith Drage / Magnus Westerlun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7:30 Agenda bash and status check (10 min)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licing http://www.ietf.org/id/draft-ietf-avtext-splicing-for-rtp-08.txt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plicating RTP streams http://www.ietf.org/id/draft-ietf-avtext-rtp-duplication-00.txt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irs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7:40 Support for Multiple Clock Rates in an RTP Session (10 min)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ietf.org/id/draft-ietf-avtext-multiple-clock-rates-05.txt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lenn Zorn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7:50 RTP Media Stream Pause and Resume (30 min)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ietf.org/id/draft-westerlund-avtext-rtp-stream-pause-02.txt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o Burman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20 RTCP SDES Item SRCNAME to Label Individual Sources (10 min)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ietf.org/id/draft-westerlund-avtext-rtcp-sdes-srcname-01.txt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o Burman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30 Clo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tu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blish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FC 6659: Considerations for Deploying the Rapid Acquisition of Multicast RTP Sessions (RAMS) Metho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s to Ali Begen</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cuments currently in publication request que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aft-ietf-avtext-splicing-for-rtp (see next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plici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gnificant comments during IESG re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ll remain informa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 relating to security consider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ability re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ll undergo a new working group last call before resubmission to IESG (expect this shortly after Vancou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uplicating RTP streams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etf-avtext-rtp-duplication-00</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ocument explains how RTP streams are to be duplicated without breaking RTP and RTCP r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s: Ali Begen and Colin Perki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dependent drafts in MMUSIC seeking adoptio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plication Grouping Semantics in the Session Description Protocol</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begen-mmusic-redundancy-grouping-03)</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ed Duplication Attribute in the Session Description Protocol </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begen-mmusic-temporal-interleaving-0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00:49:37Z</dcterms:created>
  <dc:creator>drage-8</dc:creator>
  <dc:description/>
  <dc:language>en-US</dc:language>
  <cp:lastModifiedBy>drage-8</cp:lastModifiedBy>
  <dcterms:modified xsi:type="dcterms:W3CDTF">2012-08-02T17:41:24Z</dcterms:modified>
  <cp:revision>5</cp:revision>
  <dc:subject/>
  <dc:title>Audio/Video Transport Extensions (AVTEXT)</dc:title>
</cp:coreProperties>
</file>