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BE853-6A98-4AAC-892C-8300821B5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0433D-C960-433F-8E82-62D85416D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2EA4F-5E79-4241-8443-ADB61ECA3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61491-2FA6-4F27-894D-5152E5278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68F34-F637-4065-BAE5-47842F48D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013E6-2F1E-4FA9-B874-2095B45F9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3731A-9624-432D-90CE-6F777F188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24EFC-F815-498A-A453-D4758C197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C008F-92A3-4B16-9AFC-3B459694E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AFE04-9947-487D-9417-688BE72DB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24044-05E7-4F0B-AAD4-AF8975E2B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D36A9-FFC6-4909-898A-22C6D8792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9570-D3C6-471B-BCCE-20D35AE801F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xmpp:avtext@jabber.ietf.org" TargetMode="External"/><Relationship Id="rId2" Type="http://schemas.openxmlformats.org/officeDocument/2006/relationships/hyperlink" Target="http://jabber.ietf.org/logs/avtext/" TargetMode="External"/><Relationship Id="rId3" Type="http://schemas.openxmlformats.org/officeDocument/2006/relationships/hyperlink" Target="http://jabber.ietf.org/logs/avtext/"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o/Video Transport Extensions (</a:t>
            </a:r>
            <a:r>
              <a:rPr b="0" lang="en-US" sz="4400" spc="-1" strike="noStrike">
                <a:solidFill>
                  <a:srgbClr val="000000"/>
                </a:solidFill>
                <a:latin typeface="Arial"/>
              </a:rPr>
              <a:t>AVTEXT)</a:t>
            </a:r>
            <a:endParaRPr b="0" lang="en-US" sz="4400" spc="-1" strike="noStrike">
              <a:solidFill>
                <a:srgbClr val="000000"/>
              </a:solidFill>
              <a:latin typeface="Arial"/>
            </a:endParaRPr>
          </a:p>
        </p:txBody>
      </p:sp>
      <p:pic>
        <p:nvPicPr>
          <p:cNvPr id="42" name="" descr=""/>
          <p:cNvPicPr/>
          <p:nvPr/>
        </p:nvPicPr>
        <p:blipFill>
          <a:blip r:embed="rId1"/>
          <a:stretch/>
        </p:blipFill>
        <p:spPr>
          <a:xfrm>
            <a:off x="1187280" y="2492280"/>
            <a:ext cx="6840720" cy="36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ministrivi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t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abber ChatRo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ress:</a:t>
            </a:r>
            <a:r>
              <a:rPr b="0" lang="en-GB" sz="2800" spc="-1" strike="noStrike" u="sng">
                <a:solidFill>
                  <a:srgbClr val="009999"/>
                </a:solidFill>
                <a:uFillTx/>
                <a:latin typeface="Arial"/>
                <a:hlinkClick r:id="rId1"/>
              </a:rPr>
              <a:t>xmpp:avtext@jabber.ietf.or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s:</a:t>
            </a:r>
            <a:r>
              <a:rPr b="0" lang="en-GB" sz="2800" spc="-1" strike="noStrike" u="sng">
                <a:solidFill>
                  <a:srgbClr val="009999"/>
                </a:solidFill>
                <a:uFillTx/>
                <a:latin typeface="Arial"/>
                <a:hlinkClick r:id="rId2"/>
              </a:rPr>
              <a:t>http://jabber.ietf.org/logs/avtext</a:t>
            </a:r>
            <a:r>
              <a:rPr b="0" lang="en-GB" sz="2800" spc="-1" strike="noStrike" u="sng">
                <a:solidFill>
                  <a:srgbClr val="009999"/>
                </a:solidFill>
                <a:uFillTx/>
                <a:latin typeface="Arial"/>
                <a:hlinkClick r:id="rId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e well</a:t>
            </a:r>
            <a:endParaRPr b="0" lang="en-US" sz="4400" spc="-1" strike="noStrike">
              <a:solidFill>
                <a:srgbClr val="000000"/>
              </a:solidFill>
              <a:latin typeface="Arial"/>
            </a:endParaRPr>
          </a:p>
        </p:txBody>
      </p:sp>
      <p:sp>
        <p:nvSpPr>
          <p:cNvPr id="46"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fontScale="99000"/>
          </a:bodyPr>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ETF plenary session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ESG, or any member thereof on behalf of the IESG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y IETF mailing list, including the IETF list itself, any working group or design team list, or any other list functioning under IETF auspices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y IETF working group or portion thereof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y Birds of a Feather (BOF) session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AB or any member thereof on behalf of the IAB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RFC Editor or the Internet-Drafts function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articipant in any IETF activity acknowledges that written, audio and video records of meetings may be made and may be available to the publi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ursday 17:30 - 18:3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irs: Keith Drage / Magnus Westerlun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7:30 Agenda bash and status check (10 mi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licing http://www.ietf.org/id/draft-ietf-avtext-splicing-for-rtp-08.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plicating RTP streams http://www.ietf.org/id/draft-ietf-avtext-rtp-duplication-00.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irs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7:40 Support for Multiple Clock Rates in an RTP Session (10 mi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ietf.org/id/draft-ietf-avtext-multiple-clock-rates-05.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lenn Zor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7:50 RTP Media Stream Pause and Resume (30 mi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ietf.org/id/draft-westerlund-avtext-rtp-stream-pause-02.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 Burma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20 RTCP SDES Item SRCNAME to Label Individual Sources (10 mi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ietf.org/id/draft-westerlund-avtext-rtcp-sdes-srcname-01.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 Burma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30 Clo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u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blish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FC 6659: Considerations for Deploying the Rapid Acquisition of Multicast RTP Sessions (RAMS)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s to Ali Bege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cuments currently in publication request que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ietf-avtext-splicing-for-rtp (see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lic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gnificant comments during IESG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ll remain informa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 relating to security consid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ability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ll undergo a new working group last call before resubmission to IESG (expect this shortly after Vancou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uplicating RTP stream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etf-avtext-rtp-duplication-00</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cument explains how RTP streams are to be duplicated without breaking RTP and RTCP r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 Ali Begen and Colin Perki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dependent drafts in MMUSIC seeking adop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plication Grouping Semantics in the Session Description Protocol</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begen-mmusic-redundancy-grouping-03)</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ed Duplication Attribute in the Session Description Protocol </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begen-mmusic-temporal-interleaving-0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0:49:37Z</dcterms:created>
  <dc:creator>drage-8</dc:creator>
  <dc:description/>
  <dc:language>en-US</dc:language>
  <cp:lastModifiedBy>drage-8</cp:lastModifiedBy>
  <dcterms:modified xsi:type="dcterms:W3CDTF">2012-08-02T17:41:24Z</dcterms:modified>
  <cp:revision>5</cp:revision>
  <dc:subject/>
  <dc:title>Audio/Video Transport Extensions (AVTEXT)</dc:title>
</cp:coreProperties>
</file>