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0-1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914-CCEE-4EA6-BF4A-5C7D57338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0-19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0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4D90-7659-438C-8887-F27F50735466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1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RTP Pause / Resume  |  IETF 84 - AVTEXT  |  August 2012  |  Page </a:t>
            </a:r>
            <a:fld id="{642C716F-D83A-4E49-890E-39923ADE9A15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 (18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tatracker.ietf.org/ipr/1641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RTP Media Stream Pause / Resum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draft-westerlund-avtext-rtp-stream-pause-02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Bo Burm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Wireless 4G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58680" y="1987560"/>
            <a:ext cx="73170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58680" y="1987560"/>
            <a:ext cx="263844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58680" y="2421000"/>
            <a:ext cx="623736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58680" y="2421000"/>
            <a:ext cx="71928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78120" y="3160800"/>
            <a:ext cx="3260880" cy="290520"/>
          </a:xfrm>
          <a:prstGeom prst="wedgeRoundRectCallout">
            <a:avLst>
              <a:gd name="adj1" fmla="val -70837"/>
              <a:gd name="adj2" fmla="val 142898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Uplink channel re-establishes fas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61920" y="3500280"/>
            <a:ext cx="204012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61920" y="3500280"/>
            <a:ext cx="16812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61920" y="3933720"/>
            <a:ext cx="539928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61920" y="3933720"/>
            <a:ext cx="60192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61920" y="4927680"/>
            <a:ext cx="61182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61920" y="4927680"/>
            <a:ext cx="18003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61920" y="5361120"/>
            <a:ext cx="551664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61920" y="5361120"/>
            <a:ext cx="4795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55800" y="285264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54720" y="43657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54720" y="579276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8640" y="391464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2997360"/>
            <a:ext cx="1427400" cy="647640"/>
          </a:xfrm>
          <a:prstGeom prst="wedgeRoundRectCallout">
            <a:avLst>
              <a:gd name="adj1" fmla="val -58564"/>
              <a:gd name="adj2" fmla="val -106370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ue to RTCP scheduling, not siz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92960" y="5013360"/>
            <a:ext cx="1427040" cy="1427040"/>
          </a:xfrm>
          <a:prstGeom prst="wedgeRoundRectCallout">
            <a:avLst>
              <a:gd name="adj1" fmla="val -73027"/>
              <a:gd name="adj2" fmla="val -4187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ownlink channel re-established because entered low-power stat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Wireless 4G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58680" y="1987560"/>
            <a:ext cx="73170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58680" y="1987560"/>
            <a:ext cx="263844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58680" y="2421000"/>
            <a:ext cx="276084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8680" y="2421000"/>
            <a:ext cx="71928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78120" y="3160800"/>
            <a:ext cx="3260880" cy="290520"/>
          </a:xfrm>
          <a:prstGeom prst="wedgeRoundRectCallout">
            <a:avLst>
              <a:gd name="adj1" fmla="val -70837"/>
              <a:gd name="adj2" fmla="val 142898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Uplink channel re-establishes fas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61920" y="3500280"/>
            <a:ext cx="204012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00280"/>
            <a:ext cx="16812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1920" y="3933720"/>
            <a:ext cx="191772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61920" y="3933720"/>
            <a:ext cx="60192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61920" y="4927680"/>
            <a:ext cx="61182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61920" y="4927680"/>
            <a:ext cx="18003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5361120"/>
            <a:ext cx="191772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61920" y="5361120"/>
            <a:ext cx="4795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88440" y="39146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10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55800" y="285264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4720" y="43657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54720" y="579276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7080" y="2708280"/>
            <a:ext cx="3252600" cy="287280"/>
          </a:xfrm>
          <a:prstGeom prst="wedgeRoundRectCallout">
            <a:avLst>
              <a:gd name="adj1" fmla="val -83138"/>
              <a:gd name="adj2" fmla="val -66023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ue to RTCP scheduling, not siz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92960" y="5013360"/>
            <a:ext cx="1427040" cy="1427040"/>
          </a:xfrm>
          <a:prstGeom prst="wedgeRoundRectCallout">
            <a:avLst>
              <a:gd name="adj1" fmla="val -73027"/>
              <a:gd name="adj2" fmla="val -4187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ownlink channel re-established because entered low-power stat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Fixe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58680" y="1987560"/>
            <a:ext cx="15591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58680" y="2421000"/>
            <a:ext cx="491976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58680" y="2421000"/>
            <a:ext cx="6019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61920" y="35002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3933720"/>
            <a:ext cx="479736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61920" y="3933720"/>
            <a:ext cx="36036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61920" y="49276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1920" y="5361120"/>
            <a:ext cx="479736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1920" y="5361120"/>
            <a:ext cx="36036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86760" y="285264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8640" y="391464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61200" y="579276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61200" y="436572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997360"/>
            <a:ext cx="1427400" cy="647640"/>
          </a:xfrm>
          <a:prstGeom prst="wedgeRoundRectCallout">
            <a:avLst>
              <a:gd name="adj1" fmla="val -149555"/>
              <a:gd name="adj2" fmla="val -103921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ue to RTCP scheduling, not siz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9160" y="2997360"/>
            <a:ext cx="2995560" cy="760320"/>
          </a:xfrm>
          <a:prstGeom prst="wedgeRoundRectCallout">
            <a:avLst>
              <a:gd name="adj1" fmla="val -81055"/>
              <a:gd name="adj2" fmla="val 4331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 unfavorable case; no bearer re-establishment and message size is a minor concer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Fixe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58680" y="1987560"/>
            <a:ext cx="15591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58680" y="2421000"/>
            <a:ext cx="144000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58680" y="2421000"/>
            <a:ext cx="6019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61920" y="35002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61920" y="3933720"/>
            <a:ext cx="132084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61920" y="3933720"/>
            <a:ext cx="36036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61920" y="49276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61920" y="5361120"/>
            <a:ext cx="132084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61920" y="5361120"/>
            <a:ext cx="36036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86760" y="285264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8440" y="39146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10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61200" y="579276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61200" y="436572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83548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hosen Signaling Technology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4633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edia plane signaling chosen; extend CCM (RFC 5104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ponsiv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andwidth efficien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gnaling has direct impact on media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ocalized to media stream; small session impac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apability for solution is explicitly signaled in SD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olution Relation to SDP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4619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DP handles semi-static properties of </a:t>
            </a:r>
            <a:r>
              <a:rPr b="0" i="1" lang="en-US" sz="2400" spc="-1" strike="noStrike">
                <a:solidFill>
                  <a:srgbClr val="58585a"/>
                </a:solidFill>
                <a:latin typeface="Arial"/>
              </a:rPr>
              <a:t>media descrip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irectionalit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ctivat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activat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s draft target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or more media streams (SSRC)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within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such media descrip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 to pause temporaril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plicit indication of paus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 to resume from temporary paus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olution Relation to CCM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508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R 0 kbps as PAUS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y media receiver “pausing” will immediately pause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s draft desires “consensus”; don’t pause if anyone wants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R &gt;0 kbps as RESUM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MBR semantics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requires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guard period before increasing bitra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ontradictory to RESUME likely being time critica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N 0 kbps as PAUS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ill likely work, but cannot provide any stream state inform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N as REFUSE for PAUSE and RESUM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MBN semantics does not allow for refusing a TMMBR 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MBN semantics does not always allow for refusing TMMBR&gt;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834696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olution Overview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98640" y="2027160"/>
            <a:ext cx="888840" cy="33516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0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5080" y="20271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US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6680" y="2027160"/>
            <a:ext cx="3533760" cy="33516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87480" y="2027160"/>
            <a:ext cx="1795680" cy="3351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98640" y="4281480"/>
            <a:ext cx="6211800" cy="3524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P Extended Highest Sequence Numb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40600" y="1325520"/>
            <a:ext cx="73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ll messages have a common SSRC of sender from RFC 5104,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d each message also has a separate Target SSR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7800" y="299556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UM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" y="540720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FUS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84560" y="2554200"/>
            <a:ext cx="4044960" cy="290520"/>
          </a:xfrm>
          <a:prstGeom prst="wedgeRoundRectCallout">
            <a:avLst>
              <a:gd name="adj1" fmla="val 5689"/>
              <a:gd name="adj2" fmla="val -117212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Allows repeated requests; RTCP is lossy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2995560"/>
            <a:ext cx="888840" cy="34776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83160" y="2995560"/>
            <a:ext cx="3533760" cy="34776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93960" y="2995560"/>
            <a:ext cx="1795680" cy="3477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4120" y="393228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USED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d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98640" y="3932280"/>
            <a:ext cx="888840" cy="34920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6680" y="3932280"/>
            <a:ext cx="3533760" cy="34920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87480" y="3932280"/>
            <a:ext cx="1795680" cy="3492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3498840"/>
            <a:ext cx="6823080" cy="284040"/>
          </a:xfrm>
          <a:prstGeom prst="wedgeRoundRectCallout">
            <a:avLst>
              <a:gd name="adj1" fmla="val 7236"/>
              <a:gd name="adj2" fmla="val -105305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Same as in effective PAUSE and/or PAUSED messages, and allows repea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17720" y="5407200"/>
            <a:ext cx="888840" cy="34740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3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95760" y="5407200"/>
            <a:ext cx="3533760" cy="34740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06560" y="5407200"/>
            <a:ext cx="1795680" cy="347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41760" y="5918040"/>
            <a:ext cx="4570200" cy="284400"/>
          </a:xfrm>
          <a:prstGeom prst="wedgeRoundRectCallout">
            <a:avLst>
              <a:gd name="adj1" fmla="val -1824"/>
              <a:gd name="adj2" fmla="val -106425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Same as in refused PAUSE or RESUME messag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98640" y="4759200"/>
            <a:ext cx="2691000" cy="479520"/>
          </a:xfrm>
          <a:prstGeom prst="wedgeRoundRectCallout">
            <a:avLst>
              <a:gd name="adj1" fmla="val -3333"/>
              <a:gd name="adj2" fmla="val -7681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one valid when the stream was paus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34000" y="4759200"/>
            <a:ext cx="3376440" cy="479520"/>
          </a:xfrm>
          <a:prstGeom prst="wedgeRoundRectCallout">
            <a:avLst>
              <a:gd name="adj1" fmla="val 35143"/>
              <a:gd name="adj2" fmla="val -154305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ame as in PAUSE, or incremented from last PAUS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3040" y="6202440"/>
            <a:ext cx="76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ltiple messages can be sent in the same RTCP CCM messa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3840" y="4791240"/>
            <a:ext cx="1365120" cy="447480"/>
          </a:xfrm>
          <a:prstGeom prst="wedgeRoundRectCallout">
            <a:avLst>
              <a:gd name="adj1" fmla="val -4069"/>
              <a:gd name="adj2" fmla="val 101773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Media sender decides!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problem be solved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s the proposed solution favored by the WG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draft be adopted as a WG draf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IPR Disclosur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r referred draft-westerlund-avtext-rtp-stream-paus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datatracker.ietf.org/ipr/1641/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nchanged since -00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esentation Goal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that it is a desired feat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on suitability of proposed solu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option as WG draf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oblem and Motivation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45050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henever there are more RTP media senders than presentation resources, some media may not be presented by any receiver, wasting uplink and possibly downlink bandwidth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pplicable also in other multi-party or multi-stream situa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eed for a stream can be based on central forwarding decisions or end-user UI interactions, and can thus be highly dynami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using has fairly relaxed timing, but resuming can be time critica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ifferent appropriate media receiver actions when sender intentionally pauses and when stream is not received for some other reas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Wanted Functionality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quest to pause sending an RTP media stream (SSRC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receiver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media sender: temporarily stop send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dicate that an RTP media stream is temporarily paus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sender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media receiver(s): certain media stream is active, but does currently not send any da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gardless of reason; on request or local media sender decis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dicate at what point stream was paused (eases loss handling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quest to resume sending an RTP media stream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receiver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media sender: quickly resume paused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xplicit indication that the functionality is support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parate support for request (pause) and indication (paused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parate support for sending and receiving messag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Main Topologies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entralized (Star) Conferenc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oint-to-poi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38560" y="28098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4520" y="223524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44520" y="32670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18120" y="223524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2670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44520" y="48546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48546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58920" y="5305320"/>
            <a:ext cx="1079640" cy="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58920" y="2673360"/>
            <a:ext cx="1079640" cy="47628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58920" y="3267000"/>
            <a:ext cx="1079640" cy="45720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52960" y="2673000"/>
            <a:ext cx="965160" cy="47628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52960" y="3267000"/>
            <a:ext cx="965160" cy="45720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5280" y="5911920"/>
            <a:ext cx="61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ltimedia conferencing is main targeted appl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8120" y="4762440"/>
            <a:ext cx="31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olution will work reasonably also for multipoint topologi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ignaling Performance Evaluation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609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paring SIP / SDP and RTCP based signal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ireless (4G) and fixed acces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vorable and unfavorable cases, while still reasonabl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ngle audio and single video, compliant with 3GP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DP, but TCP if message exceeds IP MT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ireless signaling bearer may have to be re-establish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00 kbps media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10 kbps RTC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inimal compound RTCP packet (SR, SDES CNAM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pected value used for randomized time componen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ditional pre-conditions and assumptions in draft tex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Assumed Signaling Topology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614600"/>
            <a:ext cx="901800" cy="901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516040"/>
            <a:ext cx="901440" cy="9525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2516040"/>
            <a:ext cx="901440" cy="9525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3728880"/>
            <a:ext cx="901800" cy="9018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0817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50817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12720" y="4179960"/>
            <a:ext cx="755640" cy="134280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711480" y="4906800"/>
            <a:ext cx="884520" cy="67176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42920" y="3468240"/>
            <a:ext cx="0" cy="16131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101080" y="3468240"/>
            <a:ext cx="0" cy="16131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12720" y="2060280"/>
            <a:ext cx="755640" cy="8967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11480" y="2978280"/>
            <a:ext cx="884520" cy="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1440" y="2978280"/>
            <a:ext cx="1128960" cy="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00360" y="2515680"/>
            <a:ext cx="0" cy="121284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170160" y="2060280"/>
            <a:ext cx="609840" cy="8967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456080"/>
            <a:ext cx="901440" cy="9018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r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567160"/>
            <a:ext cx="901440" cy="901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10400" y="4456080"/>
            <a:ext cx="901440" cy="9018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r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10400" y="2567160"/>
            <a:ext cx="901440" cy="901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70160" y="4179600"/>
            <a:ext cx="609840" cy="72684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81440" y="4906800"/>
            <a:ext cx="1128960" cy="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1325520"/>
            <a:ext cx="0" cy="4983120"/>
          </a:xfrm>
          <a:prstGeom prst="line">
            <a:avLst/>
          </a:prstGeom>
          <a:ln w="9360">
            <a:solidFill>
              <a:srgbClr val="0028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160" y="41194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14160" y="20606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25840" y="20606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2960" y="26208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8520" y="26208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1320" y="41194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0160" y="3021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 / H.248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3000" y="124920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lice’s Provider’s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3440" y="124920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ob’s Provider’s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0240" y="4462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01920" y="41259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2960" y="4570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4600" y="5354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5671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0400" y="25671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081760"/>
            <a:ext cx="901440" cy="90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5081760"/>
            <a:ext cx="901440" cy="90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ignaling Message Siz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8680" y="1803240"/>
            <a:ext cx="0" cy="377352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58680" y="2708280"/>
            <a:ext cx="7421760" cy="72072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880" y="29242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00" y="4421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8116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7128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257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4824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6748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713720" y="17128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088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430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548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7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2160" y="1333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51400" y="1325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7640" y="1325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32680" y="13255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yt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58680" y="2708280"/>
            <a:ext cx="2360880" cy="72072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8680" y="4221000"/>
            <a:ext cx="562320" cy="72072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4221000"/>
            <a:ext cx="223920" cy="72072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9520" y="2133720"/>
            <a:ext cx="3628800" cy="290520"/>
          </a:xfrm>
          <a:prstGeom prst="wedgeRoundRectCallout">
            <a:avLst>
              <a:gd name="adj1" fmla="val -4023"/>
              <a:gd name="adj2" fmla="val 13906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ynamic SIP/SDP SigComp [RFC 5049]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74680" y="3716280"/>
            <a:ext cx="3151080" cy="290520"/>
          </a:xfrm>
          <a:prstGeom prst="wedgeRoundRectCallout">
            <a:avLst>
              <a:gd name="adj1" fmla="val -50000"/>
              <a:gd name="adj2" fmla="val 119944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duced size packet [RFC 5506]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EAB/TVM Bo Burman</dc:creator>
  <dc:description>Rev PA1</dc:description>
  <cp:keywords/>
  <dc:language>en-US</dc:language>
  <cp:lastModifiedBy>Bo Burman</cp:lastModifiedBy>
  <dcterms:modified xsi:type="dcterms:W3CDTF">2012-07-27T09:08:45Z</dcterms:modified>
  <cp:revision>162</cp:revision>
  <dc:subject/>
  <dc:title>RTP Pause / 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EAB/TVM Bo Burman</vt:lpwstr>
  </property>
  <property fmtid="{D5CDD505-2E9C-101B-9397-08002B2CF9AE}" pid="3" name="Checked">
    <vt:lpwstr/>
  </property>
  <property fmtid="{D5CDD505-2E9C-101B-9397-08002B2CF9AE}" pid="4" name="Date">
    <vt:lpwstr>2012-07-26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IETF 84 - AVTEXT</vt:lpwstr>
  </property>
  <property fmtid="{D5CDD505-2E9C-101B-9397-08002B2CF9AE}" pid="13" name="MiddleFooterField">
    <vt:lpwstr/>
  </property>
  <property fmtid="{D5CDD505-2E9C-101B-9397-08002B2CF9AE}" pid="14" name="PackageNo">
    <vt:lpwstr>LXA 119 463</vt:lpwstr>
  </property>
  <property fmtid="{D5CDD505-2E9C-101B-9397-08002B2CF9AE}" pid="15" name="PackageVersion">
    <vt:lpwstr>R6A</vt:lpwstr>
  </property>
  <property fmtid="{D5CDD505-2E9C-101B-9397-08002B2CF9AE}" pid="16" name="Pages">
    <vt:bool>1</vt:bool>
  </property>
  <property fmtid="{D5CDD505-2E9C-101B-9397-08002B2CF9AE}" pid="17" name="Prepared">
    <vt:lpwstr>EAB/TVM Bo Burm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RTP Pause / Resume</vt:lpwstr>
  </property>
  <property fmtid="{D5CDD505-2E9C-101B-9397-08002B2CF9AE}" pid="21" name="RightFooterField2">
    <vt:lpwstr>August 2012</vt:lpwstr>
  </property>
  <property fmtid="{D5CDD505-2E9C-101B-9397-08002B2CF9AE}" pid="22" name="SecurityClass">
    <vt:lpwstr/>
  </property>
  <property fmtid="{D5CDD505-2E9C-101B-9397-08002B2CF9AE}" pid="23" name="TemplateName">
    <vt:lpwstr>CXC 173 2731/11</vt:lpwstr>
  </property>
  <property fmtid="{D5CDD505-2E9C-101B-9397-08002B2CF9AE}" pid="24" name="TemplateName2">
    <vt:lpwstr>CXC 173 2731/1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RTP Pause / Resume</vt:lpwstr>
  </property>
  <property fmtid="{D5CDD505-2E9C-101B-9397-08002B2CF9AE}" pid="28" name="TotalNumb">
    <vt:bool>1</vt:bool>
  </property>
  <property fmtid="{D5CDD505-2E9C-101B-9397-08002B2CF9AE}" pid="29" name="UpdateProcess">
    <vt:lpwstr>End</vt:lpwstr>
  </property>
  <property fmtid="{D5CDD505-2E9C-101B-9397-08002B2CF9AE}" pid="30" name="UsedFont">
    <vt:lpwstr>Arial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1</vt:bool>
  </property>
  <property fmtid="{D5CDD505-2E9C-101B-9397-08002B2CF9AE}" pid="35" name="optEnterText2">
    <vt:bool>1</vt:bool>
  </property>
  <property fmtid="{D5CDD505-2E9C-101B-9397-08002B2CF9AE}" pid="36" name="optEnterText3">
    <vt:bool>0</vt:bool>
  </property>
  <property fmtid="{D5CDD505-2E9C-101B-9397-08002B2CF9AE}" pid="37" name="optEnterText4">
    <vt:bool>1</vt:bool>
  </property>
  <property fmtid="{D5CDD505-2E9C-101B-9397-08002B2CF9AE}" pid="38" name="optFooterCVLConfLabel">
    <vt:bool>0</vt:bool>
  </property>
  <property fmtid="{D5CDD505-2E9C-101B-9397-08002B2CF9AE}" pid="39" name="optFooterCVLCopyright">
    <vt:bool>0</vt:bool>
  </property>
  <property fmtid="{D5CDD505-2E9C-101B-9397-08002B2CF9AE}" pid="40" name="optFooterCVLDate">
    <vt:bool>0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0</vt:bool>
  </property>
  <property fmtid="{D5CDD505-2E9C-101B-9397-08002B2CF9AE}" pid="45" name="optUseConfLabel">
    <vt:bool>1</vt:bool>
  </property>
  <property fmtid="{D5CDD505-2E9C-101B-9397-08002B2CF9AE}" pid="46" name="txtConfLabel">
    <vt:lpwstr>Commercial in confidence</vt:lpwstr>
  </property>
  <property fmtid="{D5CDD505-2E9C-101B-9397-08002B2CF9AE}" pid="47" name="x">
    <vt:lpwstr>1</vt:lpwstr>
  </property>
</Properties>
</file>