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390060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1-10-1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Num" idx="2"/>
          </p:nvPr>
        </p:nvSpPr>
        <p:spPr>
          <a:xfrm>
            <a:off x="390060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A8D5-BBBC-4E1B-9C26-4B99E2AC2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Img"/>
          </p:nvPr>
        </p:nvSpPr>
        <p:spPr>
          <a:xfrm>
            <a:off x="937800" y="750960"/>
            <a:ext cx="500868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58585a"/>
                </a:solidFill>
                <a:latin typeface="Arial"/>
              </a:rPr>
              <a:t>Click to move the slide</a:t>
            </a:r>
            <a:endParaRPr b="0" lang="en-US" sz="7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Date Placeholder 4"/>
          <p:cNvSpPr/>
          <p:nvPr/>
        </p:nvSpPr>
        <p:spPr>
          <a:xfrm>
            <a:off x="3900600" y="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1-10-19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69" name="Footer Placeholder 5"/>
          <p:cNvSpPr/>
          <p:nvPr/>
        </p:nvSpPr>
        <p:spPr>
          <a:xfrm>
            <a:off x="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0" name="Slide Number Placeholder 7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0A6A-C2FB-4840-AD54-816E3E78412C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1" name="Header Placeholder 8"/>
          <p:cNvSpPr/>
          <p:nvPr/>
        </p:nvSpPr>
        <p:spPr>
          <a:xfrm>
            <a:off x="0" y="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720" y="381204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40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092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476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672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092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476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93840" y="239760"/>
            <a:ext cx="7494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640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6720" y="381204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640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2092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4476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672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2092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4476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93840" y="239760"/>
            <a:ext cx="7494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40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eftInfo"/>
          <p:cNvSpPr/>
          <p:nvPr/>
        </p:nvSpPr>
        <p:spPr>
          <a:xfrm>
            <a:off x="-1887480" y="438120"/>
            <a:ext cx="1765080" cy="61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fb7d3"/>
                </a:solidFill>
                <a:latin typeface="Arial"/>
              </a:rPr>
              <a:t>Characters for Embedded font:</a:t>
            </a:r>
            <a:br>
              <a:rPr sz="500"/>
            </a:br>
            <a:r>
              <a:rPr b="0" lang="en-US" sz="500" spc="-1" strike="noStrike">
                <a:solidFill>
                  <a:srgbClr val="9fb7d3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ĀĀĂĂĄĄĆĆĊĊČČĎĎĐĐĒĒĖĖĘĘĚĚĞĞĠĠĢĢĪĪĮĮİĶĶĹĹĻĻĽĽŃŃŅŅŇŇŌŌŐŐŔŔŖŖŘŘŚŚŞŞŢŢŤŤŪŪŮŮŰŰŲŲŴŴŶŶŹŹŻŻȘș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fb7d3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fb7d3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RTP Pause / Resume  |  IETF 84 - AVTEXT  |  August 2012  |  Page </a:t>
            </a:r>
            <a:fld id="{C9A93299-7A2F-4701-A058-0E3429A1A190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 (18)</a:t>
            </a:r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eftInfo"/>
          <p:cNvSpPr/>
          <p:nvPr/>
        </p:nvSpPr>
        <p:spPr>
          <a:xfrm>
            <a:off x="-1514520" y="2828880"/>
            <a:ext cx="14763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fb7d3"/>
                </a:solidFill>
                <a:latin typeface="Arial"/>
              </a:rPr>
              <a:t>CAPITAL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3480" y="1807920"/>
            <a:ext cx="8351640" cy="28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7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lvl="1" marL="355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712800" algn="ctr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3" marL="10717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4" marL="14335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5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6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atatracker.ietf.org/ipr/1641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3480" y="1807920"/>
            <a:ext cx="8351640" cy="28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58585a"/>
                </a:solidFill>
                <a:latin typeface="Arial"/>
              </a:rPr>
              <a:t>RTP Media Stream Pause / Resume</a:t>
            </a:r>
            <a:endParaRPr b="0" lang="en-US" sz="7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3840" y="5137200"/>
            <a:ext cx="835488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draft-westerlund-avtext-rtp-stream-pause-02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Bo Burman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Transport Delay Wireless 4G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58680" y="1803240"/>
            <a:ext cx="0" cy="443736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8680" y="1803240"/>
            <a:ext cx="7405920" cy="0"/>
          </a:xfrm>
          <a:prstGeom prst="line">
            <a:avLst/>
          </a:prstGeom>
          <a:ln w="9360">
            <a:solidFill>
              <a:srgbClr val="002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58680" y="1987560"/>
            <a:ext cx="7317000" cy="43344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4840" y="1989000"/>
            <a:ext cx="510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2421000"/>
            <a:ext cx="73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144880" y="1700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351240" y="1700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556160" y="1727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45240" y="171612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939000" y="171612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8161200" y="1700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41480" y="1297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90600" y="1297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86160" y="1333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84600" y="1333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78360" y="1325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2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59520" y="1325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66040" y="13255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58680" y="1987560"/>
            <a:ext cx="2638440" cy="43344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58680" y="2421000"/>
            <a:ext cx="6237360" cy="431640"/>
          </a:xfrm>
          <a:prstGeom prst="rect">
            <a:avLst/>
          </a:prstGeom>
          <a:solidFill>
            <a:srgbClr val="00625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6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58680" y="2421000"/>
            <a:ext cx="719280" cy="431640"/>
          </a:xfrm>
          <a:prstGeom prst="rect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78120" y="3160800"/>
            <a:ext cx="3260880" cy="290520"/>
          </a:xfrm>
          <a:prstGeom prst="wedgeRoundRectCallout">
            <a:avLst>
              <a:gd name="adj1" fmla="val -70837"/>
              <a:gd name="adj2" fmla="val 142898"/>
              <a:gd name="adj3" fmla="val 16667"/>
            </a:avLst>
          </a:prstGeom>
          <a:solidFill>
            <a:srgbClr val="ffff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Uplink channel re-establishes fast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61920" y="3500280"/>
            <a:ext cx="2040120" cy="43344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7720" y="3502080"/>
            <a:ext cx="511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4160" y="3933720"/>
            <a:ext cx="734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61920" y="3500280"/>
            <a:ext cx="1681200" cy="43344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61920" y="3933720"/>
            <a:ext cx="5399280" cy="432000"/>
          </a:xfrm>
          <a:prstGeom prst="rect">
            <a:avLst/>
          </a:prstGeom>
          <a:solidFill>
            <a:srgbClr val="00625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61920" y="3933720"/>
            <a:ext cx="601920" cy="432000"/>
          </a:xfrm>
          <a:prstGeom prst="rect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61920" y="4927680"/>
            <a:ext cx="6118200" cy="43344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7720" y="4929120"/>
            <a:ext cx="511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4160" y="5361120"/>
            <a:ext cx="73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61920" y="4927680"/>
            <a:ext cx="1800360" cy="43344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61920" y="5361120"/>
            <a:ext cx="5516640" cy="431640"/>
          </a:xfrm>
          <a:prstGeom prst="rect">
            <a:avLst/>
          </a:prstGeom>
          <a:solidFill>
            <a:srgbClr val="00625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3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61920" y="5361120"/>
            <a:ext cx="479520" cy="431640"/>
          </a:xfrm>
          <a:prstGeom prst="rect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55800" y="2852640"/>
            <a:ext cx="27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Wireless UA to Wireless UA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54720" y="4365720"/>
            <a:ext cx="278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Wireless UA to Media Server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54720" y="5792760"/>
            <a:ext cx="278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Media Server to Wireless UA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58640" y="3914640"/>
            <a:ext cx="197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200 kbps media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08720" y="2997360"/>
            <a:ext cx="1427400" cy="647640"/>
          </a:xfrm>
          <a:prstGeom prst="wedgeRoundRectCallout">
            <a:avLst>
              <a:gd name="adj1" fmla="val -58564"/>
              <a:gd name="adj2" fmla="val -106370"/>
              <a:gd name="adj3" fmla="val 16667"/>
            </a:avLst>
          </a:prstGeom>
          <a:solidFill>
            <a:srgbClr val="ffff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ue to RTCP scheduling, not size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92960" y="5013360"/>
            <a:ext cx="1427040" cy="1427040"/>
          </a:xfrm>
          <a:prstGeom prst="wedgeRoundRectCallout">
            <a:avLst>
              <a:gd name="adj1" fmla="val -73027"/>
              <a:gd name="adj2" fmla="val -41879"/>
              <a:gd name="adj3" fmla="val 16667"/>
            </a:avLst>
          </a:prstGeom>
          <a:solidFill>
            <a:srgbClr val="ffff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ownlink channel re-established because entered low-power state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Transport Delay Wireless 4G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58680" y="1803240"/>
            <a:ext cx="0" cy="443736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58680" y="1803240"/>
            <a:ext cx="7405920" cy="0"/>
          </a:xfrm>
          <a:prstGeom prst="line">
            <a:avLst/>
          </a:prstGeom>
          <a:ln w="9360">
            <a:solidFill>
              <a:srgbClr val="002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58680" y="1987560"/>
            <a:ext cx="7317000" cy="43344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4840" y="1989000"/>
            <a:ext cx="510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2421000"/>
            <a:ext cx="73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144880" y="1700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351240" y="1700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556160" y="1727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745240" y="171612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939000" y="171612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8161200" y="1700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41480" y="1297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90600" y="1297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86160" y="1333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84600" y="1333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678360" y="1325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2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59520" y="1325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366040" y="13255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58680" y="1987560"/>
            <a:ext cx="2638440" cy="43344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58680" y="2421000"/>
            <a:ext cx="2760840" cy="431640"/>
          </a:xfrm>
          <a:prstGeom prst="rect">
            <a:avLst/>
          </a:prstGeom>
          <a:solidFill>
            <a:srgbClr val="00625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58680" y="2421000"/>
            <a:ext cx="719280" cy="431640"/>
          </a:xfrm>
          <a:prstGeom prst="rect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78120" y="3160800"/>
            <a:ext cx="3260880" cy="290520"/>
          </a:xfrm>
          <a:prstGeom prst="wedgeRoundRectCallout">
            <a:avLst>
              <a:gd name="adj1" fmla="val -70837"/>
              <a:gd name="adj2" fmla="val 142898"/>
              <a:gd name="adj3" fmla="val 16667"/>
            </a:avLst>
          </a:prstGeom>
          <a:solidFill>
            <a:srgbClr val="ffff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Uplink channel re-establishes fast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61920" y="3500280"/>
            <a:ext cx="2040120" cy="43344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7720" y="3502080"/>
            <a:ext cx="511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4160" y="3933720"/>
            <a:ext cx="734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61920" y="3500280"/>
            <a:ext cx="1681200" cy="43344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61920" y="3933720"/>
            <a:ext cx="1917720" cy="432000"/>
          </a:xfrm>
          <a:prstGeom prst="rect">
            <a:avLst/>
          </a:prstGeom>
          <a:solidFill>
            <a:srgbClr val="00625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61920" y="3933720"/>
            <a:ext cx="601920" cy="432000"/>
          </a:xfrm>
          <a:prstGeom prst="rect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61920" y="4927680"/>
            <a:ext cx="6118200" cy="43344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7720" y="4929120"/>
            <a:ext cx="511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4160" y="5361120"/>
            <a:ext cx="73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61920" y="4927680"/>
            <a:ext cx="1800360" cy="43344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61920" y="5361120"/>
            <a:ext cx="1917720" cy="431640"/>
          </a:xfrm>
          <a:prstGeom prst="rect">
            <a:avLst/>
          </a:prstGeom>
          <a:solidFill>
            <a:srgbClr val="00625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61920" y="5361120"/>
            <a:ext cx="479520" cy="431640"/>
          </a:xfrm>
          <a:prstGeom prst="rect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688440" y="391464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1000 kbps media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55800" y="2852640"/>
            <a:ext cx="27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Wireless UA to Wireless UA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54720" y="4365720"/>
            <a:ext cx="278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Wireless UA to Media Server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54720" y="5792760"/>
            <a:ext cx="278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Media Server to Wireless UA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07080" y="2708280"/>
            <a:ext cx="3252600" cy="287280"/>
          </a:xfrm>
          <a:prstGeom prst="wedgeRoundRectCallout">
            <a:avLst>
              <a:gd name="adj1" fmla="val -83138"/>
              <a:gd name="adj2" fmla="val -66023"/>
              <a:gd name="adj3" fmla="val 16667"/>
            </a:avLst>
          </a:prstGeom>
          <a:solidFill>
            <a:srgbClr val="ffff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ue to RTCP scheduling, not size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92960" y="5013360"/>
            <a:ext cx="1427040" cy="1427040"/>
          </a:xfrm>
          <a:prstGeom prst="wedgeRoundRectCallout">
            <a:avLst>
              <a:gd name="adj1" fmla="val -73027"/>
              <a:gd name="adj2" fmla="val -41879"/>
              <a:gd name="adj3" fmla="val 16667"/>
            </a:avLst>
          </a:prstGeom>
          <a:solidFill>
            <a:srgbClr val="ffff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ownlink channel re-established because entered low-power state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Transport Delay Fixed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58680" y="1803240"/>
            <a:ext cx="0" cy="443736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58680" y="1803240"/>
            <a:ext cx="7405920" cy="0"/>
          </a:xfrm>
          <a:prstGeom prst="line">
            <a:avLst/>
          </a:prstGeom>
          <a:ln w="9360">
            <a:solidFill>
              <a:srgbClr val="002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4840" y="1989000"/>
            <a:ext cx="510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0920" y="2421000"/>
            <a:ext cx="73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144880" y="1700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351240" y="1700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556160" y="1727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745240" y="171612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939000" y="171612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161200" y="1700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41480" y="1297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90600" y="1297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6160" y="1333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84600" y="1333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8360" y="1325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2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859520" y="1325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366040" y="13255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58680" y="1987560"/>
            <a:ext cx="1559160" cy="43344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58680" y="2421000"/>
            <a:ext cx="4919760" cy="431640"/>
          </a:xfrm>
          <a:prstGeom prst="rect">
            <a:avLst/>
          </a:prstGeom>
          <a:solidFill>
            <a:srgbClr val="00625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58680" y="2421000"/>
            <a:ext cx="601920" cy="431640"/>
          </a:xfrm>
          <a:prstGeom prst="rect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7720" y="3502080"/>
            <a:ext cx="511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160" y="3933720"/>
            <a:ext cx="734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61920" y="3500280"/>
            <a:ext cx="1198800" cy="43344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61920" y="3933720"/>
            <a:ext cx="4797360" cy="432000"/>
          </a:xfrm>
          <a:prstGeom prst="rect">
            <a:avLst/>
          </a:prstGeom>
          <a:solidFill>
            <a:srgbClr val="00625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61920" y="3933720"/>
            <a:ext cx="360360" cy="432000"/>
          </a:xfrm>
          <a:prstGeom prst="rect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7720" y="4929120"/>
            <a:ext cx="511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4160" y="5361120"/>
            <a:ext cx="73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61920" y="4927680"/>
            <a:ext cx="1198800" cy="43344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61920" y="5361120"/>
            <a:ext cx="4797360" cy="431640"/>
          </a:xfrm>
          <a:prstGeom prst="rect">
            <a:avLst/>
          </a:prstGeom>
          <a:solidFill>
            <a:srgbClr val="00625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1920" y="5361120"/>
            <a:ext cx="360360" cy="431640"/>
          </a:xfrm>
          <a:prstGeom prst="rect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86760" y="2852640"/>
            <a:ext cx="213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Fixed UA to Fixed UA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58640" y="3914640"/>
            <a:ext cx="197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200 kbps media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61200" y="5792760"/>
            <a:ext cx="25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Media Server to Fixed UA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61200" y="4365720"/>
            <a:ext cx="25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Fixed UA to Media Server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2997360"/>
            <a:ext cx="1427400" cy="647640"/>
          </a:xfrm>
          <a:prstGeom prst="wedgeRoundRectCallout">
            <a:avLst>
              <a:gd name="adj1" fmla="val -149555"/>
              <a:gd name="adj2" fmla="val -103921"/>
              <a:gd name="adj3" fmla="val 16667"/>
            </a:avLst>
          </a:prstGeom>
          <a:solidFill>
            <a:srgbClr val="ffff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ue to RTCP scheduling, not size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89160" y="2997360"/>
            <a:ext cx="2995560" cy="760320"/>
          </a:xfrm>
          <a:prstGeom prst="wedgeRoundRectCallout">
            <a:avLst>
              <a:gd name="adj1" fmla="val -81055"/>
              <a:gd name="adj2" fmla="val 43319"/>
              <a:gd name="adj3" fmla="val 16667"/>
            </a:avLst>
          </a:prstGeom>
          <a:solidFill>
            <a:srgbClr val="ffff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No unfavorable case; no bearer re-establishment and message size is a minor concern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Transport Delay Fixed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58680" y="1803240"/>
            <a:ext cx="0" cy="443736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58680" y="1803240"/>
            <a:ext cx="7405920" cy="0"/>
          </a:xfrm>
          <a:prstGeom prst="line">
            <a:avLst/>
          </a:prstGeom>
          <a:ln w="9360">
            <a:solidFill>
              <a:srgbClr val="002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4840" y="1989000"/>
            <a:ext cx="510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0920" y="2421000"/>
            <a:ext cx="73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2144880" y="1700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351240" y="1700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556160" y="1727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745240" y="171612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6939000" y="171612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8161200" y="1700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941480" y="1297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90600" y="1297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86160" y="1333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484600" y="1333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678360" y="1325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2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59520" y="1325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366040" y="13255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58680" y="1987560"/>
            <a:ext cx="1559160" cy="43344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58680" y="2421000"/>
            <a:ext cx="1440000" cy="431640"/>
          </a:xfrm>
          <a:prstGeom prst="rect">
            <a:avLst/>
          </a:prstGeom>
          <a:solidFill>
            <a:srgbClr val="00625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58680" y="2421000"/>
            <a:ext cx="601920" cy="431640"/>
          </a:xfrm>
          <a:prstGeom prst="rect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7720" y="3502080"/>
            <a:ext cx="511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4160" y="3933720"/>
            <a:ext cx="734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61920" y="3500280"/>
            <a:ext cx="1198800" cy="43344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61920" y="3933720"/>
            <a:ext cx="1320840" cy="432000"/>
          </a:xfrm>
          <a:prstGeom prst="rect">
            <a:avLst/>
          </a:prstGeom>
          <a:solidFill>
            <a:srgbClr val="00625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61920" y="3933720"/>
            <a:ext cx="360360" cy="432000"/>
          </a:xfrm>
          <a:prstGeom prst="rect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77720" y="4929120"/>
            <a:ext cx="511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4160" y="5361120"/>
            <a:ext cx="73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61920" y="4927680"/>
            <a:ext cx="1198800" cy="43344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61920" y="5361120"/>
            <a:ext cx="1320840" cy="431640"/>
          </a:xfrm>
          <a:prstGeom prst="rect">
            <a:avLst/>
          </a:prstGeom>
          <a:solidFill>
            <a:srgbClr val="00625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61920" y="5361120"/>
            <a:ext cx="360360" cy="431640"/>
          </a:xfrm>
          <a:prstGeom prst="rect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86760" y="2852640"/>
            <a:ext cx="213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Fixed UA to Fixed UA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688440" y="391464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1000 kbps media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61200" y="5792760"/>
            <a:ext cx="25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Media Server to Fixed UA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61200" y="4365720"/>
            <a:ext cx="25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Fixed UA to Media Server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83548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Chosen Signaling Technology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4633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Media plane signaling chosen; extend CCM (RFC 5104)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esponsiv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Bandwidth efficien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gnaling has direct impact on media stream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Localized to media stream; small session impac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apability for solution is explicitly signaled in SDP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Solution Relation to SDP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46195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DP handles semi-static properties of </a:t>
            </a:r>
            <a:r>
              <a:rPr b="0" i="1" lang="en-US" sz="2400" spc="-1" strike="noStrike">
                <a:solidFill>
                  <a:srgbClr val="58585a"/>
                </a:solidFill>
                <a:latin typeface="Arial"/>
              </a:rPr>
              <a:t>media description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Opening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losing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Directionality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ctivating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nactivating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s draft target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One or more media streams (SSRC) </a:t>
            </a:r>
            <a:r>
              <a:rPr b="0" i="1" lang="en-US" sz="2000" spc="-1" strike="noStrike">
                <a:solidFill>
                  <a:srgbClr val="58585a"/>
                </a:solidFill>
                <a:latin typeface="Arial"/>
              </a:rPr>
              <a:t>within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such media descriptio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equest to pause temporarily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Explicit indication of pausing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equest to resume from temporary paus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Solution Relation to CCM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96720" y="1800000"/>
            <a:ext cx="8352000" cy="4508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CM TMMBR 0 kbps as PAUS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ny media receiver “pausing” will immediately pause stream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s draft desires “consensus”; don’t pause if anyone wants stream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CM TMMBR &gt;0 kbps as RESUM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MMBR semantics </a:t>
            </a:r>
            <a:r>
              <a:rPr b="0" i="1" lang="en-US" sz="2000" spc="-1" strike="noStrike">
                <a:solidFill>
                  <a:srgbClr val="58585a"/>
                </a:solidFill>
                <a:latin typeface="Arial"/>
              </a:rPr>
              <a:t>requires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guard period before increasing bitrat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ontradictory to RESUME likely being time critica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CM TMMBN 0 kbps as PAUSE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Will likely work, but cannot provide any stream state informatio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CM TMMBN as REFUSE for PAUSE and RESUM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MMBN semantics does not allow for refusing a TMMBR 0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MMBN semantics does not always allow for refusing TMMBR&gt;0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834696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Solution Overview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98640" y="2027160"/>
            <a:ext cx="888840" cy="335160"/>
          </a:xfrm>
          <a:prstGeom prst="rect">
            <a:avLst/>
          </a:prstGeom>
          <a:solidFill>
            <a:srgbClr val="990099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=0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95080" y="2027160"/>
            <a:ext cx="104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AUSE</a:t>
            </a:r>
            <a:br>
              <a:rPr sz="2000"/>
            </a:b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76680" y="2027160"/>
            <a:ext cx="3533760" cy="33516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useID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787480" y="2027160"/>
            <a:ext cx="1795680" cy="33516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meter Len=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898640" y="4281480"/>
            <a:ext cx="6211800" cy="352440"/>
          </a:xfrm>
          <a:prstGeom prst="rect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TP Extended Highest Sequence Number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40600" y="1325520"/>
            <a:ext cx="736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ll messages have a common SSRC of sender from RFC 5104,</a:t>
            </a:r>
            <a:br>
              <a:rPr sz="2000"/>
            </a:b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nd each message also has a separate Target SSRC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7800" y="2995560"/>
            <a:ext cx="126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ESUME</a:t>
            </a:r>
            <a:br>
              <a:rPr sz="2000"/>
            </a:b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35600" y="5407200"/>
            <a:ext cx="139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EFUSE</a:t>
            </a:r>
            <a:br>
              <a:rPr sz="2000"/>
            </a:b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notificatio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084560" y="2554200"/>
            <a:ext cx="4044960" cy="290520"/>
          </a:xfrm>
          <a:prstGeom prst="wedgeRoundRectCallout">
            <a:avLst>
              <a:gd name="adj1" fmla="val 5689"/>
              <a:gd name="adj2" fmla="val -117212"/>
              <a:gd name="adj3" fmla="val 16667"/>
            </a:avLst>
          </a:prstGeom>
          <a:solidFill>
            <a:srgbClr val="ffff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Allows repeated requests; RTCP is lossy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05120" y="2995560"/>
            <a:ext cx="888840" cy="347760"/>
          </a:xfrm>
          <a:prstGeom prst="rect">
            <a:avLst/>
          </a:prstGeom>
          <a:solidFill>
            <a:srgbClr val="990099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=1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583160" y="2995560"/>
            <a:ext cx="3533760" cy="34776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useID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793960" y="2995560"/>
            <a:ext cx="1795680" cy="34776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meter Len=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4120" y="3932280"/>
            <a:ext cx="125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AUSED</a:t>
            </a:r>
            <a:br>
              <a:rPr sz="2000"/>
            </a:b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ndicatio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898640" y="3932280"/>
            <a:ext cx="888840" cy="349200"/>
          </a:xfrm>
          <a:prstGeom prst="rect">
            <a:avLst/>
          </a:prstGeom>
          <a:solidFill>
            <a:srgbClr val="990099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=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576680" y="3932280"/>
            <a:ext cx="3533760" cy="34920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useID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87480" y="3932280"/>
            <a:ext cx="1795680" cy="34920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meter Len=1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17720" y="3498840"/>
            <a:ext cx="6823080" cy="284040"/>
          </a:xfrm>
          <a:prstGeom prst="wedgeRoundRectCallout">
            <a:avLst>
              <a:gd name="adj1" fmla="val 7236"/>
              <a:gd name="adj2" fmla="val -105305"/>
              <a:gd name="adj3" fmla="val 16667"/>
            </a:avLst>
          </a:prstGeom>
          <a:solidFill>
            <a:srgbClr val="ffff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Same as in effective PAUSE and/or PAUSED messages, and allows repeat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917720" y="5407200"/>
            <a:ext cx="888840" cy="347400"/>
          </a:xfrm>
          <a:prstGeom prst="rect">
            <a:avLst/>
          </a:prstGeom>
          <a:solidFill>
            <a:srgbClr val="990099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=3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595760" y="5407200"/>
            <a:ext cx="3533760" cy="34740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useID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806560" y="5407200"/>
            <a:ext cx="1795680" cy="34740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meter Len=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641760" y="5918040"/>
            <a:ext cx="4570200" cy="284400"/>
          </a:xfrm>
          <a:prstGeom prst="wedgeRoundRectCallout">
            <a:avLst>
              <a:gd name="adj1" fmla="val -1824"/>
              <a:gd name="adj2" fmla="val -106425"/>
              <a:gd name="adj3" fmla="val 16667"/>
            </a:avLst>
          </a:prstGeom>
          <a:solidFill>
            <a:srgbClr val="ffff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Same as in refused PAUSE or RESUME message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898640" y="4759200"/>
            <a:ext cx="2691000" cy="479520"/>
          </a:xfrm>
          <a:prstGeom prst="wedgeRoundRectCallout">
            <a:avLst>
              <a:gd name="adj1" fmla="val -3333"/>
              <a:gd name="adj2" fmla="val -76819"/>
              <a:gd name="adj3" fmla="val 16667"/>
            </a:avLst>
          </a:prstGeom>
          <a:solidFill>
            <a:srgbClr val="ffff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The one valid when the stream was paused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734000" y="4759200"/>
            <a:ext cx="3376440" cy="479520"/>
          </a:xfrm>
          <a:prstGeom prst="wedgeRoundRectCallout">
            <a:avLst>
              <a:gd name="adj1" fmla="val 35143"/>
              <a:gd name="adj2" fmla="val -154305"/>
              <a:gd name="adj3" fmla="val 16667"/>
            </a:avLst>
          </a:prstGeom>
          <a:solidFill>
            <a:srgbClr val="ffff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ame as in PAUSE, or incremented from last PAUSED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73040" y="6202440"/>
            <a:ext cx="76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ultiple messages can be sent in the same RTCP CCM messag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3840" y="4791240"/>
            <a:ext cx="1365120" cy="447480"/>
          </a:xfrm>
          <a:prstGeom prst="wedgeRoundRectCallout">
            <a:avLst>
              <a:gd name="adj1" fmla="val -4069"/>
              <a:gd name="adj2" fmla="val 101773"/>
              <a:gd name="adj3" fmla="val 16667"/>
            </a:avLst>
          </a:prstGeom>
          <a:solidFill>
            <a:srgbClr val="ffff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Media sender decides!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Way Forward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hould the problem be solved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Is the proposed solution favored by the WG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hould the draft be adopted as a WG draft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IPR Disclosure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r referred draft-westerlund-avtext-rtp-stream-paus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a9d4"/>
                </a:solidFill>
                <a:uFillTx/>
                <a:latin typeface="Arial"/>
                <a:hlinkClick r:id="rId1"/>
              </a:rPr>
              <a:t>http://datatracker.ietf.org/ipr/1641/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Unchanged since -00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Presentation Goal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G consensus that it is a desired featur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G consensus on suitability of proposed solution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Adoption as WG draf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Problem and Motivation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45050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9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Whenever there are more RTP media senders than presentation resources, some media may not be presented by any receiver, wasting uplink and possibly downlink bandwidth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pplicable also in other multi-party or multi-stream situation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Need for a stream can be based on central forwarding decisions or end-user UI interactions, and can thus be highly dynamic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ausing has fairly relaxed timing, but resuming can be time critica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Different appropriate media receiver actions when sender intentionally pauses and when stream is not received for some other reaso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Wanted Functionality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6720" y="1800000"/>
            <a:ext cx="8352000" cy="46479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Request to pause sending an RTP media stream (SSRC)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edia receiver </a:t>
            </a:r>
            <a:r>
              <a:rPr b="0" lang="en-US" sz="2000" spc="-1" strike="noStrike">
                <a:solidFill>
                  <a:srgbClr val="58585a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media sender: temporarily stop sending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Indicate that an RTP media stream is temporarily pause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edia sender </a:t>
            </a:r>
            <a:r>
              <a:rPr b="0" lang="en-US" sz="2000" spc="-1" strike="noStrike">
                <a:solidFill>
                  <a:srgbClr val="58585a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media receiver(s): certain media stream is active, but does currently not send any data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egardless of reason; on request or local media sender decisio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ndicate at what point stream was paused (eases loss handling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Request to resume sending an RTP media stream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edia receiver </a:t>
            </a:r>
            <a:r>
              <a:rPr b="0" lang="en-US" sz="2000" spc="-1" strike="noStrike">
                <a:solidFill>
                  <a:srgbClr val="58585a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media sender: quickly resume paused media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Explicit indication that the functionality is supporte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parate support for request (pause) and indication (paused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parate support for sending and receiving message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Main Topologies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entralized (Star) Conferenc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Point-to-poin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38560" y="2809800"/>
            <a:ext cx="914400" cy="91440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44520" y="2235240"/>
            <a:ext cx="914400" cy="91440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44520" y="3267000"/>
            <a:ext cx="914400" cy="91440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18120" y="2235240"/>
            <a:ext cx="914400" cy="91440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267000"/>
            <a:ext cx="914400" cy="91440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44520" y="4854600"/>
            <a:ext cx="914400" cy="91440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38560" y="4854600"/>
            <a:ext cx="914400" cy="91440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58920" y="5305320"/>
            <a:ext cx="1079640" cy="0"/>
          </a:xfrm>
          <a:prstGeom prst="line">
            <a:avLst/>
          </a:prstGeom>
          <a:ln w="9360">
            <a:solidFill>
              <a:srgbClr val="0028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58920" y="2673360"/>
            <a:ext cx="1079640" cy="476280"/>
          </a:xfrm>
          <a:prstGeom prst="line">
            <a:avLst/>
          </a:prstGeom>
          <a:ln w="9360">
            <a:solidFill>
              <a:srgbClr val="0028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158920" y="3267000"/>
            <a:ext cx="1079640" cy="457200"/>
          </a:xfrm>
          <a:prstGeom prst="line">
            <a:avLst/>
          </a:prstGeom>
          <a:ln w="9360">
            <a:solidFill>
              <a:srgbClr val="0028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152960" y="2673000"/>
            <a:ext cx="965160" cy="476280"/>
          </a:xfrm>
          <a:prstGeom prst="line">
            <a:avLst/>
          </a:prstGeom>
          <a:ln w="9360">
            <a:solidFill>
              <a:srgbClr val="0028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52960" y="3267000"/>
            <a:ext cx="965160" cy="457200"/>
          </a:xfrm>
          <a:prstGeom prst="line">
            <a:avLst/>
          </a:prstGeom>
          <a:ln w="9360">
            <a:solidFill>
              <a:srgbClr val="0028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45280" y="5911920"/>
            <a:ext cx="610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ultimedia conferencing is main targeted applicatio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18120" y="4762440"/>
            <a:ext cx="31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olution will work reasonably also for multipoint topologie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Signaling Performance Evaluation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6720" y="1800000"/>
            <a:ext cx="8352000" cy="4609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omparing SIP / SDP and RTCP based signaling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ireless (4G) and fixed acces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avorable and unfavorable cases, while still reasonabl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ngle audio and single video, compliant with 3GP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UDP, but TCP if message exceeds IP MTU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Wireless signaling bearer may have to be re-establishe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200 kbps media </a:t>
            </a:r>
            <a:r>
              <a:rPr b="0" lang="en-US" sz="2000" spc="-1" strike="noStrike">
                <a:solidFill>
                  <a:srgbClr val="58585a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10 kbps RTC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inimal compound RTCP packet (SR, SDES CNAME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Expected value used for randomized time component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Additional pre-conditions and assumptions in draft tex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Assumed Signaling Topology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68360" y="1614600"/>
            <a:ext cx="901800" cy="901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2516040"/>
            <a:ext cx="901440" cy="95256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xy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96360" y="2516040"/>
            <a:ext cx="901440" cy="95256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xy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68360" y="3728880"/>
            <a:ext cx="901800" cy="901800"/>
          </a:xfrm>
          <a:prstGeom prst="rect">
            <a:avLst/>
          </a:prstGeom>
          <a:solidFill>
            <a:srgbClr val="89ba17"/>
          </a:solidFill>
          <a:ln w="9360">
            <a:solidFill>
              <a:srgbClr val="00285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5081760"/>
            <a:ext cx="901440" cy="90144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6360" y="5081760"/>
            <a:ext cx="901440" cy="90144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512720" y="4179960"/>
            <a:ext cx="755640" cy="1342800"/>
          </a:xfrm>
          <a:prstGeom prst="line">
            <a:avLst/>
          </a:prstGeom>
          <a:ln w="9360">
            <a:solidFill>
              <a:srgbClr val="0028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6711480" y="4906800"/>
            <a:ext cx="884520" cy="671760"/>
          </a:xfrm>
          <a:prstGeom prst="line">
            <a:avLst/>
          </a:prstGeom>
          <a:ln w="9360">
            <a:solidFill>
              <a:srgbClr val="0028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042920" y="3468240"/>
            <a:ext cx="0" cy="1613160"/>
          </a:xfrm>
          <a:prstGeom prst="line">
            <a:avLst/>
          </a:prstGeom>
          <a:ln w="9360">
            <a:solidFill>
              <a:srgbClr val="00285e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8101080" y="3468240"/>
            <a:ext cx="0" cy="1613160"/>
          </a:xfrm>
          <a:prstGeom prst="line">
            <a:avLst/>
          </a:prstGeom>
          <a:ln w="9360">
            <a:solidFill>
              <a:srgbClr val="00285e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512720" y="2060280"/>
            <a:ext cx="755640" cy="896760"/>
          </a:xfrm>
          <a:prstGeom prst="line">
            <a:avLst/>
          </a:prstGeom>
          <a:ln w="9360">
            <a:solidFill>
              <a:srgbClr val="00285e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711480" y="2978280"/>
            <a:ext cx="884520" cy="0"/>
          </a:xfrm>
          <a:prstGeom prst="line">
            <a:avLst/>
          </a:prstGeom>
          <a:ln w="9360">
            <a:solidFill>
              <a:srgbClr val="00285e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1440" y="2978280"/>
            <a:ext cx="1128960" cy="0"/>
          </a:xfrm>
          <a:prstGeom prst="line">
            <a:avLst/>
          </a:prstGeom>
          <a:ln w="9360">
            <a:solidFill>
              <a:srgbClr val="00285e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700360" y="2515680"/>
            <a:ext cx="0" cy="1212840"/>
          </a:xfrm>
          <a:prstGeom prst="line">
            <a:avLst/>
          </a:prstGeom>
          <a:ln w="9360">
            <a:solidFill>
              <a:srgbClr val="00285e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3170160" y="2060280"/>
            <a:ext cx="609840" cy="896760"/>
          </a:xfrm>
          <a:prstGeom prst="line">
            <a:avLst/>
          </a:prstGeom>
          <a:ln w="9360">
            <a:solidFill>
              <a:srgbClr val="00285e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0000" y="4456080"/>
            <a:ext cx="901440" cy="901800"/>
          </a:xfrm>
          <a:prstGeom prst="rect">
            <a:avLst/>
          </a:prstGeom>
          <a:solidFill>
            <a:srgbClr val="00625f"/>
          </a:solidFill>
          <a:ln w="9360">
            <a:solidFill>
              <a:srgbClr val="00285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rd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teway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80000" y="2567160"/>
            <a:ext cx="901440" cy="90144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gnaling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teway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10400" y="4456080"/>
            <a:ext cx="901440" cy="901800"/>
          </a:xfrm>
          <a:prstGeom prst="rect">
            <a:avLst/>
          </a:prstGeom>
          <a:solidFill>
            <a:srgbClr val="00625f"/>
          </a:solidFill>
          <a:ln w="9360">
            <a:solidFill>
              <a:srgbClr val="00285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rd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teway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10400" y="2567160"/>
            <a:ext cx="901440" cy="90144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gnaling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teway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170160" y="4179600"/>
            <a:ext cx="609840" cy="726840"/>
          </a:xfrm>
          <a:prstGeom prst="line">
            <a:avLst/>
          </a:prstGeom>
          <a:ln w="9360">
            <a:solidFill>
              <a:srgbClr val="0028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681440" y="4906800"/>
            <a:ext cx="1128960" cy="0"/>
          </a:xfrm>
          <a:prstGeom prst="line">
            <a:avLst/>
          </a:prstGeom>
          <a:ln w="9360">
            <a:solidFill>
              <a:srgbClr val="0028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92720" y="1325520"/>
            <a:ext cx="0" cy="4983120"/>
          </a:xfrm>
          <a:prstGeom prst="line">
            <a:avLst/>
          </a:prstGeom>
          <a:ln w="9360">
            <a:solidFill>
              <a:srgbClr val="00285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160" y="41194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14160" y="206064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25840" y="206064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82960" y="26208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78520" y="26208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1320" y="41194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50160" y="302112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 / H.248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63000" y="1249200"/>
            <a:ext cx="253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Alice’s Provider’s Network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93440" y="1249200"/>
            <a:ext cx="244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Bob’s Provider’s Network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90240" y="446256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01920" y="412596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2960" y="457056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4600" y="535464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80000" y="2567160"/>
            <a:ext cx="901440" cy="90144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gnaling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teway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10400" y="2567160"/>
            <a:ext cx="901440" cy="90144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gnaling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teway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5081760"/>
            <a:ext cx="901440" cy="901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96360" y="5081760"/>
            <a:ext cx="901440" cy="901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Signaling Message Size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58680" y="1803240"/>
            <a:ext cx="0" cy="377352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58680" y="1803240"/>
            <a:ext cx="7405920" cy="0"/>
          </a:xfrm>
          <a:prstGeom prst="line">
            <a:avLst/>
          </a:prstGeom>
          <a:ln w="9360">
            <a:solidFill>
              <a:srgbClr val="002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58680" y="2708280"/>
            <a:ext cx="7421760" cy="720720"/>
          </a:xfrm>
          <a:prstGeom prst="rect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1880" y="29242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2000" y="442116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081160" y="1700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203640" y="17128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325760" y="1727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448240" y="17272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567480" y="171612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713720" y="1712880"/>
            <a:ext cx="0" cy="179280"/>
          </a:xfrm>
          <a:prstGeom prst="line">
            <a:avLst/>
          </a:prstGeom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20880" y="1297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2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43000" y="1297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5480" y="1333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7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32160" y="13334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51400" y="13255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2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97640" y="13255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32680" y="132552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byte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58680" y="2708280"/>
            <a:ext cx="2360880" cy="720720"/>
          </a:xfrm>
          <a:prstGeom prst="rect">
            <a:avLst/>
          </a:prstGeom>
          <a:solidFill>
            <a:srgbClr val="00a9d4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2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8680" y="4221000"/>
            <a:ext cx="562320" cy="720720"/>
          </a:xfrm>
          <a:prstGeom prst="rect">
            <a:avLst/>
          </a:prstGeom>
          <a:solidFill>
            <a:srgbClr val="00625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8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50760" y="4221000"/>
            <a:ext cx="223920" cy="720720"/>
          </a:xfrm>
          <a:prstGeom prst="rect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49520" y="2133720"/>
            <a:ext cx="3628800" cy="290520"/>
          </a:xfrm>
          <a:prstGeom prst="wedgeRoundRectCallout">
            <a:avLst>
              <a:gd name="adj1" fmla="val -4023"/>
              <a:gd name="adj2" fmla="val 139069"/>
              <a:gd name="adj3" fmla="val 16667"/>
            </a:avLst>
          </a:prstGeom>
          <a:solidFill>
            <a:srgbClr val="ffff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ynamic SIP/SDP SigComp [RFC 5049]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74680" y="3716280"/>
            <a:ext cx="3151080" cy="290520"/>
          </a:xfrm>
          <a:prstGeom prst="wedgeRoundRectCallout">
            <a:avLst>
              <a:gd name="adj1" fmla="val -50000"/>
              <a:gd name="adj2" fmla="val 119944"/>
              <a:gd name="adj3" fmla="val 16667"/>
            </a:avLst>
          </a:prstGeom>
          <a:solidFill>
            <a:srgbClr val="ffffff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Reduced size packet [RFC 5506]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09:22:48Z</dcterms:created>
  <dc:creator>EAB/TVM Bo Burman</dc:creator>
  <dc:description>Rev PA1</dc:description>
  <cp:keywords/>
  <dc:language>en-US</dc:language>
  <cp:lastModifiedBy>Bo Burman</cp:lastModifiedBy>
  <dcterms:modified xsi:type="dcterms:W3CDTF">2012-07-27T09:08:45Z</dcterms:modified>
  <cp:revision>162</cp:revision>
  <dc:subject/>
  <dc:title>RTP Pause / Resu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>EAB/TVM Bo Burman</vt:lpwstr>
  </property>
  <property fmtid="{D5CDD505-2E9C-101B-9397-08002B2CF9AE}" pid="3" name="Checked">
    <vt:lpwstr/>
  </property>
  <property fmtid="{D5CDD505-2E9C-101B-9397-08002B2CF9AE}" pid="4" name="Date">
    <vt:lpwstr>2012-07-26</vt:lpwstr>
  </property>
  <property fmtid="{D5CDD505-2E9C-101B-9397-08002B2CF9AE}" pid="5" name="DocName">
    <vt:lpwstr>PRESENTATION</vt:lpwstr>
  </property>
  <property fmtid="{D5CDD505-2E9C-101B-9397-08002B2CF9AE}" pid="6" name="DocNo">
    <vt:lpwstr/>
  </property>
  <property fmtid="{D5CDD505-2E9C-101B-9397-08002B2CF9AE}" pid="7" name="DocumentType">
    <vt:lpwstr>Presentation2011</vt:lpwstr>
  </property>
  <property fmtid="{D5CDD505-2E9C-101B-9397-08002B2CF9AE}" pid="8" name="DocumentType2">
    <vt:lpwstr>Presentation2011</vt:lpwstr>
  </property>
  <property fmtid="{D5CDD505-2E9C-101B-9397-08002B2CF9AE}" pid="9" name="EmbeddedFonts">
    <vt:bool>0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>IETF 84 - AVTEXT</vt:lpwstr>
  </property>
  <property fmtid="{D5CDD505-2E9C-101B-9397-08002B2CF9AE}" pid="13" name="MiddleFooterField">
    <vt:lpwstr/>
  </property>
  <property fmtid="{D5CDD505-2E9C-101B-9397-08002B2CF9AE}" pid="14" name="PackageNo">
    <vt:lpwstr>LXA 119 463</vt:lpwstr>
  </property>
  <property fmtid="{D5CDD505-2E9C-101B-9397-08002B2CF9AE}" pid="15" name="PackageVersion">
    <vt:lpwstr>R6A</vt:lpwstr>
  </property>
  <property fmtid="{D5CDD505-2E9C-101B-9397-08002B2CF9AE}" pid="16" name="Pages">
    <vt:bool>1</vt:bool>
  </property>
  <property fmtid="{D5CDD505-2E9C-101B-9397-08002B2CF9AE}" pid="17" name="Prepared">
    <vt:lpwstr>EAB/TVM Bo Burman</vt:lpwstr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>RTP Pause / Resume</vt:lpwstr>
  </property>
  <property fmtid="{D5CDD505-2E9C-101B-9397-08002B2CF9AE}" pid="21" name="RightFooterField2">
    <vt:lpwstr>August 2012</vt:lpwstr>
  </property>
  <property fmtid="{D5CDD505-2E9C-101B-9397-08002B2CF9AE}" pid="22" name="SecurityClass">
    <vt:lpwstr/>
  </property>
  <property fmtid="{D5CDD505-2E9C-101B-9397-08002B2CF9AE}" pid="23" name="TemplateName">
    <vt:lpwstr>CXC 173 2731/11</vt:lpwstr>
  </property>
  <property fmtid="{D5CDD505-2E9C-101B-9397-08002B2CF9AE}" pid="24" name="TemplateName2">
    <vt:lpwstr>CXC 173 2731/11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>RTP Pause / Resume</vt:lpwstr>
  </property>
  <property fmtid="{D5CDD505-2E9C-101B-9397-08002B2CF9AE}" pid="28" name="TotalNumb">
    <vt:bool>1</vt:bool>
  </property>
  <property fmtid="{D5CDD505-2E9C-101B-9397-08002B2CF9AE}" pid="29" name="UpdateProcess">
    <vt:lpwstr>End</vt:lpwstr>
  </property>
  <property fmtid="{D5CDD505-2E9C-101B-9397-08002B2CF9AE}" pid="30" name="UsedFont">
    <vt:lpwstr>Arial</vt:lpwstr>
  </property>
  <property fmtid="{D5CDD505-2E9C-101B-9397-08002B2CF9AE}" pid="31" name="White">
    <vt:bool>1</vt:bool>
  </property>
  <property fmtid="{D5CDD505-2E9C-101B-9397-08002B2CF9AE}" pid="32" name="chkMetaData">
    <vt:bool>0</vt:bool>
  </property>
  <property fmtid="{D5CDD505-2E9C-101B-9397-08002B2CF9AE}" pid="33" name="chkTaglines">
    <vt:bool>0</vt:bool>
  </property>
  <property fmtid="{D5CDD505-2E9C-101B-9397-08002B2CF9AE}" pid="34" name="optEnterText1">
    <vt:bool>1</vt:bool>
  </property>
  <property fmtid="{D5CDD505-2E9C-101B-9397-08002B2CF9AE}" pid="35" name="optEnterText2">
    <vt:bool>1</vt:bool>
  </property>
  <property fmtid="{D5CDD505-2E9C-101B-9397-08002B2CF9AE}" pid="36" name="optEnterText3">
    <vt:bool>0</vt:bool>
  </property>
  <property fmtid="{D5CDD505-2E9C-101B-9397-08002B2CF9AE}" pid="37" name="optEnterText4">
    <vt:bool>1</vt:bool>
  </property>
  <property fmtid="{D5CDD505-2E9C-101B-9397-08002B2CF9AE}" pid="38" name="optFooterCVLConfLabel">
    <vt:bool>0</vt:bool>
  </property>
  <property fmtid="{D5CDD505-2E9C-101B-9397-08002B2CF9AE}" pid="39" name="optFooterCVLCopyright">
    <vt:bool>0</vt:bool>
  </property>
  <property fmtid="{D5CDD505-2E9C-101B-9397-08002B2CF9AE}" pid="40" name="optFooterCVLDate">
    <vt:bool>0</vt:bool>
  </property>
  <property fmtid="{D5CDD505-2E9C-101B-9397-08002B2CF9AE}" pid="41" name="optFooterCVLDocNo">
    <vt:bool>0</vt:bool>
  </property>
  <property fmtid="{D5CDD505-2E9C-101B-9397-08002B2CF9AE}" pid="42" name="optFooterCVLPrep">
    <vt:bool>0</vt:bool>
  </property>
  <property fmtid="{D5CDD505-2E9C-101B-9397-08002B2CF9AE}" pid="43" name="optFooterCVLTitle">
    <vt:bool>1</vt:bool>
  </property>
  <property fmtid="{D5CDD505-2E9C-101B-9397-08002B2CF9AE}" pid="44" name="optUseConfClass">
    <vt:bool>0</vt:bool>
  </property>
  <property fmtid="{D5CDD505-2E9C-101B-9397-08002B2CF9AE}" pid="45" name="optUseConfLabel">
    <vt:bool>1</vt:bool>
  </property>
  <property fmtid="{D5CDD505-2E9C-101B-9397-08002B2CF9AE}" pid="46" name="txtConfLabel">
    <vt:lpwstr>Commercial in confidence</vt:lpwstr>
  </property>
  <property fmtid="{D5CDD505-2E9C-101B-9397-08002B2CF9AE}" pid="47" name="x">
    <vt:lpwstr>1</vt:lpwstr>
  </property>
</Properties>
</file>