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650-D7DE-4297-AABE-BE454806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C0E-E45D-4A27-8DBC-4ADB9E7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162-6C8A-4B31-97B4-F7043FC2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73B-D472-46A3-8DD3-9CFD05A2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11E-50DF-4676-B45B-456CFC85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CA1-A6C0-4F5F-B784-FBC8A8C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E7E-C2D6-4B96-849A-B9BEEDF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DB2-B802-49EE-8D51-05D7BA5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F1F-E85A-4EA5-A3EA-E2F32D3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7C9-6804-4618-B285-3FFF3E12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1D3-94B0-4038-AC43-F65699F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8DD-C59B-4EE7-ADFD-00A01DB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89D2-C372-4A55-9A2F-5E10755AB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ietf-avtext-multiple-clock-rates/" TargetMode="External"/><Relationship Id="rId2" Type="http://schemas.openxmlformats.org/officeDocument/2006/relationships/hyperlink" Target="mailto:glenzorn@gmail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mail-archive/web/avtext/current/msg00370.html" TargetMode="External"/><Relationship Id="rId2" Type="http://schemas.openxmlformats.org/officeDocument/2006/relationships/hyperlink" Target="mailto:magnus.westerlund@ericsson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680" y="545760"/>
            <a:ext cx="9070920" cy="2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for Multiple Clock Rates in an RTP Session</a:t>
            </a:r>
            <a:br>
              <a:rPr sz="4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atatracker.ietf.org/doc/draft-ietf-avtext-multiple-clock-rat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2930040"/>
            <a:ext cx="886932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LC requested 18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engthy com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g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response o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scussion on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just the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fending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ng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Chairs -&gt;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9:09:58Z</dcterms:created>
  <dc:creator>Glen Zorn</dc:creator>
  <dc:description/>
  <dc:language>en-US</dc:language>
  <cp:lastModifiedBy>Glen Zorn</cp:lastModifiedBy>
  <dcterms:modified xsi:type="dcterms:W3CDTF">2012-08-02T19:35:50Z</dcterms:modified>
  <cp:revision>1</cp:revision>
  <dc:subject/>
  <dc:title/>
</cp:coreProperties>
</file>