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F7A4-F6D3-4449-9C4C-7CE2B145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1732-B3F5-4F12-9AAC-250963C1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C3E6-DF16-4B34-83FF-085D7E6E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F0CA-8560-461D-AEC7-76196B30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55A0-AD6B-4B17-931B-0B2C364E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555F-31D8-49ED-9139-B68EF29D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739D-5E9A-4544-A6D1-61ABB6DF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EAD7-5C6F-433D-B1E3-974E3D93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298E-EDB1-4B40-B32E-EF42C34E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AA29-E075-4654-A5BA-B6A5249D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F1C-EF22-4CE6-8F39-14948969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A499-B327-4712-BD6F-DF3A129E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C2B86-CEE0-4C0D-974C-2C5B3007D9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atatracker.ietf.org/doc/draft-ietf-avtext-multiple-clock-rates/" TargetMode="External"/><Relationship Id="rId2" Type="http://schemas.openxmlformats.org/officeDocument/2006/relationships/hyperlink" Target="mailto:glenzorn@gmail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etf.org/mail-archive/web/avtext/current/msg00370.html" TargetMode="External"/><Relationship Id="rId2" Type="http://schemas.openxmlformats.org/officeDocument/2006/relationships/hyperlink" Target="mailto:magnus.westerlund@ericsson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4680" y="545760"/>
            <a:ext cx="9070920" cy="255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 for Multiple Clock Rates in an RTP Session</a:t>
            </a:r>
            <a:br>
              <a:rPr sz="4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datatracker.ietf.org/doc/draft-ietf-avtext-multiple-clock-rates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2930040"/>
            <a:ext cx="886932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Glen Z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LC requested 18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engthy com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Mag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response on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iscussion on th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'm just the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defending the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 Consen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ing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G Chairs -&gt;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03280" y="30168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2T19:09:58Z</dcterms:created>
  <dc:creator>Glen Zorn</dc:creator>
  <dc:description/>
  <dc:language>en-US</dc:language>
  <cp:lastModifiedBy>Glen Zorn</cp:lastModifiedBy>
  <dcterms:modified xsi:type="dcterms:W3CDTF">2012-08-02T19:35:50Z</dcterms:modified>
  <cp:revision>1</cp:revision>
  <dc:subject/>
  <dc:title/>
</cp:coreProperties>
</file>