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EA0BB1-03C7-43D3-9C99-D8CA209CDD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2ECD6-2867-4258-8866-7F1D842C4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54D803-E8F8-4BFA-80B8-2A34DB80B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82D75A-F028-4159-9B70-9169733B7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2DC6F0-8861-4DF0-8845-AA3270968C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5C0E02C2-33C2-4E4A-83BC-5E3875F126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83E872CB-068A-4A0A-B4E3-8506167F1F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5950FFA8-E37D-4E1E-B2B5-03A6358865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600B6069-F436-41E3-AE98-DDEB29B1F5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1120015C-1D89-46AF-A412-FEA9D54C3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FD6F2BCA-2EDD-4289-BA7B-7553A6808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627D67-9034-480B-B7E4-F370892E64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9B973084-39D9-4518-A0FD-C68C12CC6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581BE470-4D5D-4EC6-8613-21F7D385C4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C3D130BB-2DB7-49FF-85F2-7004C0C463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DCA36667-92D8-4339-9E5A-5CFAF8E96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C6C61E79-64FD-4F77-8BAD-2A7FEF8EDA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AC2AEC-B058-4244-9171-250B87C3CE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1E7DEB83-7C9F-4943-A332-821F9B1397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33F20669-9D1C-4802-AD69-DBFA37B35D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CD640D9C-4326-454B-BD3F-40A4144569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14C3A05A-C51E-4D50-94BA-DCE531E66C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744CF-AEDB-4F15-B563-3E614728F5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906E7EE6-2D5E-4898-AEBA-BC0B181F3C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7A3BDB17-3D62-4EE5-9879-035205BA64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537A343E-8142-40CC-82E6-18A042DE33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5C378252-635C-475A-A83C-9CC23DB7FA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0402DB65-75AC-48A6-9BCB-1052ACABB9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CB5DB8A5-35DE-4F5B-B0D3-4E67DDC3CF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08D438E6-15AC-45DC-9183-33D4E9D556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990AD2-E7CD-4F45-B1DE-D4EC20EFBB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72A7C65C-AC82-4412-A825-EF70AA0A0C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2BD617D8-0F2A-4EA1-BC20-3C7F469A4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088B35-DD1D-4C67-9F9D-05DF53B9D6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A619CA64-761D-4615-AE6B-D56EA52DAA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58DEFE9F-2D92-4BB5-8F60-F6E63294FAF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71A22EF7-624C-4154-9D9B-B0A8676D1FB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4A321A73-14A0-408B-A2B1-A742DD6E84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EAADFA80-AAB8-434B-B726-5E0823F756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F4BDD194-95D1-45F0-A5E2-37131C3208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2A2819D6-D845-4014-AAB0-E5EFF04017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1289B52C-67DE-4BD2-A4B8-8ABF13A7D16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A34C2BD5-6D52-4907-A170-185EBA9E52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F3484F-D808-48C3-BFAC-F20CF068AC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26BA11-88F2-448D-BE36-AE46B907D3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226C7188-992C-4488-9DEA-DC69B9B9608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3398B0E2-B6D8-4806-8B86-C6586C3496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F044D56B-D3CC-477F-B88C-7E5D4BCCFB3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E78F4310-A8B1-4A29-B746-FB6E3ED8F2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346675A2-D5B1-41D9-9D4C-1896FA6FD0A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69322795-4982-4853-9AD4-37A2FED0F6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D62855C7-E401-4358-A61D-CEBC2C4C0C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6998E9B8-865F-4379-9DEC-9F21DB35A1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71BF373B-2416-4AB2-89B7-B31FCAABDC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32E35672-382A-4C28-9D7F-C7091D407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C8A37-068D-4641-B30E-0135B19FCF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0A153562-F00E-43FD-8723-D2D0B24BC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BA0C4-6330-4CFE-9073-8464F6D2A3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F02D9-85AA-40A0-ACD4-5BE76D4CB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F50952-B553-4A98-A8D5-FE6DD4D5A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DD2D-EFB0-4F2C-B437-A31DD7C0757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85FF-4032-447B-AFDD-632C46B96E6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D416-806B-437B-A024-968972BFDED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7E93-690A-467C-B068-3295B8C8B7A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AD1E-E2C3-40A0-A022-836C643CB4F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tools.ietf.org/wg/bfcpbis/draft-ietf-bfcpbis-rfc4582bis/" TargetMode="External"/><Relationship Id="rId2" Type="http://schemas.openxmlformats.org/officeDocument/2006/relationships/hyperlink" Target="http://tools.ietf.org/wg/bfcpbis/draft-ietf-bfcpbis-rfc4583bis/"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inary Floor Control Protocol BIS (BFCPBIS)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Keith Drage &lt;keith.drage@alcatel-lucent.com&gt;</a:t>
            </a:r>
            <a:endParaRPr b="0" lang="en-US" sz="20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lt;eckelcu@cisco.com&gt;</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4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August 3,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ogistics</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e-tak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scrib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room: xmpp:bfcpbis@jabber.ietf.org?jo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ue sheets</a:t>
            </a:r>
            <a:endParaRPr b="0" lang="en-US" sz="2800" spc="-1" strike="noStrike">
              <a:solidFill>
                <a:srgbClr val="000000"/>
              </a:solidFill>
              <a:latin typeface="Gill Sans MT"/>
            </a:endParaRPr>
          </a:p>
        </p:txBody>
      </p:sp>
      <p:sp>
        <p:nvSpPr>
          <p:cNvPr id="213"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3A38-12CB-4BF1-B834-333E589DF98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14"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te Well</a:t>
            </a:r>
            <a:endParaRPr b="0" lang="en-US" sz="3200" spc="-1" strike="noStrike">
              <a:solidFill>
                <a:srgbClr val="464653"/>
              </a:solidFill>
              <a:latin typeface="Bookman Old Style"/>
            </a:endParaRPr>
          </a:p>
        </p:txBody>
      </p:sp>
      <p:sp>
        <p:nvSpPr>
          <p:cNvPr id="216" name=""/>
          <p:cNvSpPr txBox="1"/>
          <p:nvPr/>
        </p:nvSpPr>
        <p:spPr>
          <a:xfrm>
            <a:off x="457200" y="1143000"/>
            <a:ext cx="8229600" cy="5105520"/>
          </a:xfrm>
          <a:prstGeom prst="rect">
            <a:avLst/>
          </a:prstGeom>
          <a:noFill/>
          <a:ln w="0">
            <a:noFill/>
          </a:ln>
        </p:spPr>
        <p:txBody>
          <a:bodyPr anchor="t">
            <a:normAutofit fontScale="96000"/>
          </a:bodyPr>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ETF plenary session</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ESG, or any member thereof on behalf of the IESG</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IETF mailing list, including the IETF list itself, any working group or design team list, or any other list functioning under IETF auspices</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IETF working group or portion thereof</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Birds of a Feather (BOF) session</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AB or any member thereof on behalf of the IAB</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RFC Editor or the Internet-Drafts function</a:t>
            </a:r>
            <a:endParaRPr b="0" lang="en-US" sz="1200" spc="-1" strike="noStrike">
              <a:solidFill>
                <a:srgbClr val="464653"/>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ll IETF Contributions are subject to the rules of RFC 5378 and RFC 3979 (updated by RFC 4879).</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Please consult RFC 5378 and RFC 3979 for details.</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is deemed to accept all IETF rules of process, as documented in Best Current Practices RFCs and IESG Statements.</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acknowledges that written, audio and video records of meetings may be made and may be available to the public. </a:t>
            </a:r>
            <a:endParaRPr b="0" lang="en-US" sz="1400" spc="-1" strike="noStrike">
              <a:solidFill>
                <a:srgbClr val="000000"/>
              </a:solidFill>
              <a:latin typeface="Gill Sans MT"/>
            </a:endParaRPr>
          </a:p>
        </p:txBody>
      </p:sp>
      <p:sp>
        <p:nvSpPr>
          <p:cNvPr id="217"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
        <p:nvSpPr>
          <p:cNvPr id="218"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EFAA-96A0-4ABC-B28B-E04FC64F1D2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genda</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30  Agenda Bash and Status Update</a:t>
            </a:r>
            <a:r>
              <a:rPr b="0" lang="en-US" sz="2000" spc="-1" strike="noStrike">
                <a:solidFill>
                  <a:srgbClr val="000000"/>
                </a:solidFill>
                <a:latin typeface="Gill Sans MT"/>
              </a:rPr>
              <a:t>	</a:t>
            </a:r>
            <a:r>
              <a:rPr b="0" lang="en-US" sz="2000" spc="-1" strike="noStrike">
                <a:solidFill>
                  <a:srgbClr val="000000"/>
                </a:solidFill>
                <a:latin typeface="Gill Sans MT"/>
              </a:rPr>
              <a:t>(Chairs, 5)</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35  draft-ietf-bfcpbis-rfc4582bis-04</a:t>
            </a:r>
            <a:r>
              <a:rPr b="0" lang="en-US" sz="2000" spc="-1" strike="noStrike">
                <a:solidFill>
                  <a:srgbClr val="000000"/>
                </a:solidFill>
                <a:latin typeface="Gill Sans MT"/>
              </a:rPr>
              <a:t>	</a:t>
            </a:r>
            <a:r>
              <a:rPr b="0" lang="en-US" sz="2000" spc="-1" strike="noStrike">
                <a:solidFill>
                  <a:srgbClr val="000000"/>
                </a:solidFill>
                <a:latin typeface="Gill Sans MT"/>
              </a:rPr>
              <a:t>(Tom Kristensen, 30)</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292ca"/>
                </a:solidFill>
                <a:uFillTx/>
                <a:latin typeface="Gill Sans MT"/>
                <a:hlinkClick r:id="rId1"/>
              </a:rPr>
              <a:t>http://tools.ietf.org/wg/bfcpbis/draft-ietf-bfcpbis-rfc4582bis/</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05  draft-ietf-bfcpbis-rfc4583bis-02</a:t>
            </a:r>
            <a:r>
              <a:rPr b="0" lang="en-US" sz="2000" spc="-1" strike="noStrike">
                <a:solidFill>
                  <a:srgbClr val="000000"/>
                </a:solidFill>
                <a:latin typeface="Gill Sans MT"/>
              </a:rPr>
              <a:t>	</a:t>
            </a:r>
            <a:r>
              <a:rPr b="0" lang="en-US" sz="2000" spc="-1" strike="noStrike">
                <a:solidFill>
                  <a:srgbClr val="000000"/>
                </a:solidFill>
                <a:latin typeface="Gill Sans MT"/>
              </a:rPr>
              <a:t>(Tom Kristensen, 20)</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292ca"/>
                </a:solidFill>
                <a:uFillTx/>
                <a:latin typeface="Gill Sans MT"/>
                <a:hlinkClick r:id="rId2"/>
              </a:rPr>
              <a:t>http://tools.ietf.org/wg/bfcpbis/draft-ietf-bfcpbis-rfc4583bis/</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25  Next St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Chairs, 5)</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30  End</a:t>
            </a:r>
            <a:endParaRPr b="0" lang="en-US" sz="20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B2D2-4DD5-4194-A224-CA837BB2F7F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tatus</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2bis-04</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osted July 14</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ome review comments provided via mailing list</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riving toward start of WGLC</a:t>
            </a:r>
            <a:endParaRPr b="0" lang="en-US" sz="24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3bis-02</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osted July 14</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 review comments</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riving toward start of WGLC</a:t>
            </a:r>
            <a:endParaRPr b="0" lang="en-US" sz="24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lestones</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ehind schedule</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Milestone date discussion during “Next Steps”</a:t>
            </a:r>
            <a:endParaRPr b="0" lang="en-US" sz="2400" spc="-1" strike="noStrike">
              <a:solidFill>
                <a:srgbClr val="464653"/>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0323-240C-44E1-B5AB-6FE9482BCD3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ext Steps</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lestone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Jun 2012 - Draft revision of RFC 4582 to IESG</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Jun 2012 - Draft revision of RFC 4583 to IESG</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2</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GLC for update following IETF 84</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3</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GLC for update following IETF 84</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view by SDP directorate</a:t>
            </a:r>
            <a:endParaRPr b="0" lang="en-US" sz="2400" spc="-1" strike="noStrike">
              <a:solidFill>
                <a:srgbClr val="464653"/>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CCB2-863A-4351-8FEE-D901813A892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2-07-31T17:00:47Z</dcterms:modified>
  <cp:revision>588</cp:revision>
  <dc:subject/>
  <dc:title>Slide 1</dc:title>
</cp:coreProperties>
</file>