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09F60-C255-4BED-895B-757BD33617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B160C-7268-4144-86D4-A2F4BFF089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4493D-9825-42BD-8772-FD0A096B3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EBA74-9842-4C25-BD55-B4037B677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F308E-D7EE-452C-A4F4-51DA84BF5F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646C8-077F-4706-8A3F-8438A67A96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5E704-D4F9-4224-8409-E1D5FE294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8766F-F05F-4813-9B79-15E6DB4AC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8319D-FEE1-424D-8F98-EEB52CF21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1EB57-8A08-492A-85F8-43D4A762A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44CD4-0B0D-4FE4-8E33-E92CC35FE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BFDE2-DCF1-4C79-A437-DFF39B36B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3AB06-78D4-4189-8C17-F3CC618F9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73F5D-B913-41B1-B957-06CB05CC36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C01F4-CC3A-47BD-A930-FE445C67F6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268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directional Forwarding Detection (BFD) on Link Aggregation Group (LAG) Interfaces Interfaces</a:t>
            </a:r>
            <a:endParaRPr b="0" lang="en-US" sz="2800" spc="-1" strike="noStrike">
              <a:solidFill>
                <a:srgbClr val="000000"/>
              </a:solidFill>
              <a:latin typeface="Arial"/>
            </a:endParaRPr>
          </a:p>
        </p:txBody>
      </p:sp>
      <p:sp>
        <p:nvSpPr>
          <p:cNvPr id="49" name="PlaceHolder 2"/>
          <p:cNvSpPr>
            <a:spLocks noGrp="1"/>
          </p:cNvSpPr>
          <p:nvPr>
            <p:ph type="subTitle"/>
          </p:nvPr>
        </p:nvSpPr>
        <p:spPr>
          <a:xfrm>
            <a:off x="1549440" y="4140360"/>
            <a:ext cx="2565360" cy="2279520"/>
          </a:xfrm>
          <a:prstGeom prst="rect">
            <a:avLst/>
          </a:prstGeom>
          <a:noFill/>
          <a:ln w="0">
            <a:noFill/>
          </a:ln>
        </p:spPr>
        <p:txBody>
          <a:bodyPr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or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v Bhatia</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ch C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i Boutro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c Binderberg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ff Haas</a:t>
            </a:r>
            <a:endParaRPr b="0" lang="en-US" sz="2000" spc="-1" strike="noStrike">
              <a:solidFill>
                <a:srgbClr val="000000"/>
              </a:solidFill>
              <a:latin typeface="Arial"/>
            </a:endParaRPr>
          </a:p>
        </p:txBody>
      </p:sp>
      <p:sp>
        <p:nvSpPr>
          <p:cNvPr id="5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F13F6-AAC0-4C06-93CE-9C337BDB9A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矩形 4"/>
          <p:cNvSpPr/>
          <p:nvPr/>
        </p:nvSpPr>
        <p:spPr>
          <a:xfrm>
            <a:off x="3492360" y="292428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TextBox 5"/>
          <p:cNvSpPr/>
          <p:nvPr/>
        </p:nvSpPr>
        <p:spPr>
          <a:xfrm>
            <a:off x="2362320" y="3048120"/>
            <a:ext cx="4444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mmm-bfd-on-lag-05</a:t>
            </a:r>
            <a:endParaRPr b="0" lang="en-US" sz="2000" spc="-1" strike="noStrike">
              <a:solidFill>
                <a:srgbClr val="000000"/>
              </a:solidFill>
              <a:latin typeface="Arial"/>
            </a:endParaRPr>
          </a:p>
        </p:txBody>
      </p:sp>
      <p:sp>
        <p:nvSpPr>
          <p:cNvPr id="53" name="Rectangle 3"/>
          <p:cNvSpPr/>
          <p:nvPr/>
        </p:nvSpPr>
        <p:spPr>
          <a:xfrm>
            <a:off x="5460840" y="4095720"/>
            <a:ext cx="2267280" cy="2279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r:</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i Boutros</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TF84, July 2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s from 03 </a:t>
            </a:r>
            <a:r>
              <a:rPr b="0" lang="en-US" sz="4400" spc="-1" strike="noStrike">
                <a:solidFill>
                  <a:srgbClr val="000000"/>
                </a:solidFill>
                <a:latin typeface="Wingdings"/>
                <a:ea typeface="Wingdings"/>
              </a:rPr>
              <a:t></a:t>
            </a:r>
            <a:r>
              <a:rPr b="0" lang="en-US" sz="4400" spc="-1" strike="noStrike">
                <a:solidFill>
                  <a:srgbClr val="000000"/>
                </a:solidFill>
                <a:latin typeface="Arial"/>
              </a:rPr>
              <a:t> 05 (Dedicated MAC)</a:t>
            </a: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dicated MAC address MUST be used for the immediate next hop when micro BFD session is in the Down/AdminDown and Init stat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Up state, the MAC address from the received BFD packets for the session MUST be use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 BFD packets MUST always be sent untagged.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operating in the context of IEEE 802.1q or IEEE 802.qinq, the micro BFD packets should either be untagged or sent with a vlan tag of Zero (802.1p priority tagged).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ations compliant to this standard MUST be able to receive both untagged and 802.1p priority tagged micro BFD packets.</a:t>
            </a:r>
            <a:endParaRPr b="0" lang="en-US" sz="1600" spc="-1" strike="noStrike">
              <a:solidFill>
                <a:srgbClr val="000000"/>
              </a:solidFill>
              <a:latin typeface="Arial"/>
            </a:endParaRPr>
          </a:p>
        </p:txBody>
      </p:sp>
      <p:sp>
        <p:nvSpPr>
          <p:cNvPr id="5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E2704-A655-4842-A0BB-05A463D457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s from 03 </a:t>
            </a:r>
            <a:r>
              <a:rPr b="0" lang="en-US" sz="4400" spc="-1" strike="noStrike">
                <a:solidFill>
                  <a:srgbClr val="000000"/>
                </a:solidFill>
                <a:latin typeface="Wingdings"/>
                <a:ea typeface="Wingdings"/>
              </a:rPr>
              <a:t></a:t>
            </a:r>
            <a:r>
              <a:rPr b="0" lang="en-US" sz="4400" spc="-1" strike="noStrike">
                <a:solidFill>
                  <a:srgbClr val="000000"/>
                </a:solidFill>
                <a:latin typeface="Arial"/>
              </a:rPr>
              <a:t> 05</a:t>
            </a:r>
            <a:br>
              <a:rPr sz="4400"/>
            </a:br>
            <a:r>
              <a:rPr b="0" lang="en-US" sz="4400" spc="-1" strike="noStrike">
                <a:solidFill>
                  <a:srgbClr val="000000"/>
                </a:solidFill>
                <a:latin typeface="Arial"/>
              </a:rPr>
              <a:t>(LACP interaction)</a:t>
            </a:r>
            <a:endParaRPr b="0" lang="en-US"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ed IEEE Liaison, no LACP interaction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MM uses the status of the BFD session to determine whether the member link should be included in the LAG L2 load balance tabl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 to LACP coming up, the micro BFD session is Passive and does not send BFD control packet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 when LACP is used and considers the member link to be ready to forward traffic, the member link is only used by the traffic load balancer when the micro BFD session is Up. </a:t>
            </a:r>
            <a:endParaRPr b="0" lang="en-US" sz="1600" spc="-1" strike="noStrike">
              <a:solidFill>
                <a:srgbClr val="000000"/>
              </a:solidFill>
              <a:latin typeface="Arial"/>
            </a:endParaRPr>
          </a:p>
        </p:txBody>
      </p:sp>
      <p:sp>
        <p:nvSpPr>
          <p:cNvPr id="5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DCD4D-06F9-45C3-AD86-150C5ED403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more comments are appreciated.</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y for WG adoption.</a:t>
            </a:r>
            <a:endParaRPr b="0" lang="en-US" sz="3200" spc="-1" strike="noStrike">
              <a:solidFill>
                <a:srgbClr val="000000"/>
              </a:solidFill>
              <a:latin typeface="Arial"/>
            </a:endParaRPr>
          </a:p>
        </p:txBody>
      </p:sp>
      <p:sp>
        <p:nvSpPr>
          <p:cNvPr id="62" name="Rectangle 4"/>
          <p:cNvSpPr/>
          <p:nvPr/>
        </p:nvSpPr>
        <p:spPr>
          <a:xfrm>
            <a:off x="395280" y="3860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endParaRPr b="0" lang="en-US" sz="4400" spc="-1" strike="noStrike">
              <a:solidFill>
                <a:srgbClr val="000000"/>
              </a:solidFill>
              <a:latin typeface="Arial"/>
            </a:endParaRPr>
          </a:p>
        </p:txBody>
      </p:sp>
      <p:sp>
        <p:nvSpPr>
          <p:cNvPr id="63"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B1FFE-FC28-4743-A09C-63BF31E2A6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7T17:07:31Z</dcterms:created>
  <dc:creator>Zhihua Liu</dc:creator>
  <dc:description/>
  <cp:keywords>draft</cp:keywords>
  <dc:language>en-US</dc:language>
  <cp:lastModifiedBy>Sami Boutros</cp:lastModifiedBy>
  <dcterms:modified xsi:type="dcterms:W3CDTF">2012-07-29T20:51:13Z</dcterms:modified>
  <cp:revision>225</cp:revision>
  <dc:subject/>
  <dc:title>draft-liu-l2vpn-vpls-inter-domain-redundancy</dc:title>
</cp:coreProperties>
</file>