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4FB08-D4CD-47DE-9316-4FB17ABDC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7D882-E6BF-4F38-9F1E-366F2E47F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3C8A4-067F-4CB3-8077-73D963E1C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CE5BB-1D20-4079-A5FB-74077AD6D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146F3-4AF0-4240-BD2C-C30E151C6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5CC43-F0F5-4534-A12C-30D322908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95B-38DF-4627-AF7A-446E1B3E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546-761E-4660-B6FB-E92B208F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F8D-5DDC-45E4-8779-BB3D7565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F47-101F-4704-A168-699CFDD9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45CA-027D-4515-B1DF-9F9EF91C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E15E-47AB-461D-8D0A-83E941D1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A5B4-AD48-4A89-8049-F8EBC9B9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ADC7-40DD-46EC-9307-6BBF58C5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E8AF-4EDC-483C-A168-551A7506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0DB1-B3EC-4F1D-A4FF-C06298D5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0B0E-AE80-4A5D-96B1-E49C7B0E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90B-A424-4201-ADD5-5D624FD0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C566-6066-4744-B1EE-903A0E35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E3C2-1BDF-44B8-871F-F6CE5824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F2C3-7B60-40E5-9ADA-7DFC80BF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907E-B1B4-478A-A820-EC46809F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0825-CC29-4054-837D-4CF45FDA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0DE-6E94-420A-95A5-7750D1F5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4FD-E540-416B-921E-C6364C3B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5CF-BD52-4A90-8051-B26D6245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9D7-A38F-448F-B6C5-BD0E90D8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842-95A8-46B3-8B12-86D6C7D6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B47-2E6E-45C6-B2F1-6A7BD7CF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CD2-E3A7-4427-8222-8A1AAAD7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6Jul 201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F9B30-3555-4F02-B7AA-6C7801416730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inux Biolinum 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6Jul 201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13416-B178-4935-99DD-F99C9208FC46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papneja-bgp-basic-dp-convergence-0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6Jul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394D5-BC54-4900-9181-8328DA6437C4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2920" y="1417680"/>
            <a:ext cx="856764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BGP Data-Plane Benchmarking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Applicable to Modern Routers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82400" y="3475080"/>
            <a:ext cx="7056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jiv Papneja 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ya Varlashkin 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avani Parise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n Lee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e Hares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6Jul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BE3C3-B9ED-4B5D-B5D4-A3016C2397E0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Background/ Current Status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4320" y="1493640"/>
            <a:ext cx="9070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inux Biolinum O"/>
                <a:ea typeface="MS PGothic"/>
              </a:rPr>
              <a:t>Terminology for Benchmarking BGP Device Convergence in the (RFC 4098) / June 2005</a:t>
            </a:r>
            <a:endParaRPr b="0" lang="en-US" sz="2500" spc="-1" strike="noStrike">
              <a:solidFill>
                <a:srgbClr val="000000"/>
              </a:solidFill>
              <a:latin typeface="Linux Biolinum O"/>
            </a:endParaRPr>
          </a:p>
          <a:p>
            <a:pPr marL="457200" indent="-45720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inux Biolinum O"/>
                <a:ea typeface="MS PGothic"/>
              </a:rPr>
              <a:t>Two complementing BGP Methodology drafts in progress</a:t>
            </a:r>
            <a:endParaRPr b="0" lang="en-US" sz="2500" spc="-1" strike="noStrike">
              <a:solidFill>
                <a:srgbClr val="000000"/>
              </a:solidFill>
              <a:latin typeface="Linux Biolinum O"/>
            </a:endParaRPr>
          </a:p>
          <a:p>
            <a:pPr marL="457200" indent="-45720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inux Biolinum O"/>
                <a:ea typeface="MS PGothic"/>
              </a:rPr>
              <a:t>Draft-1  focusing on the BGP Data Plane convergence was posted prior IETF 80</a:t>
            </a:r>
            <a:endParaRPr b="0" lang="en-US" sz="2500" spc="-1" strike="noStrike">
              <a:solidFill>
                <a:srgbClr val="000000"/>
              </a:solidFill>
              <a:latin typeface="Linux Biolinum O"/>
            </a:endParaRPr>
          </a:p>
          <a:p>
            <a:pPr lvl="1" marL="857160" indent="-45720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inux Biolinum O"/>
                <a:ea typeface="MS PGothic"/>
              </a:rPr>
              <a:t>draft-papneja-bgp-basic-dp-convergence-03</a:t>
            </a:r>
            <a:endParaRPr b="0" lang="en-US" sz="2200" spc="-1" strike="noStrike">
              <a:solidFill>
                <a:srgbClr val="000000"/>
              </a:solidFill>
              <a:latin typeface="Linux Biolinum O"/>
            </a:endParaRPr>
          </a:p>
          <a:p>
            <a:pPr lvl="3" marL="1714680" indent="-457200">
              <a:lnSpc>
                <a:spcPct val="7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nux Biolinum O"/>
                <a:ea typeface="MS PGothic"/>
              </a:rPr>
              <a:t>Author team: Rajiv Papneja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havani Parise, Sue Hares, Ilya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lashkin</a:t>
            </a:r>
            <a:endParaRPr b="0" lang="en-US" sz="1600" spc="-1" strike="noStrike">
              <a:solidFill>
                <a:srgbClr val="000000"/>
              </a:solidFill>
              <a:latin typeface="Linux Biolinum O"/>
            </a:endParaRPr>
          </a:p>
          <a:p>
            <a:pPr lvl="3" marL="1714680" indent="-457200">
              <a:lnSpc>
                <a:spcPct val="7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ors: Deal Lee, Eric Brendal, Mohan Nanduri, Jay Karthik</a:t>
            </a:r>
            <a:endParaRPr b="0" lang="en-US" sz="1600" spc="-1" strike="noStrike">
              <a:solidFill>
                <a:srgbClr val="000000"/>
              </a:solidFill>
              <a:latin typeface="Linux Biolinum O"/>
            </a:endParaRPr>
          </a:p>
          <a:p>
            <a:pPr marL="457200" indent="-45720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inux Biolinum O"/>
                <a:ea typeface="MS PGothic"/>
              </a:rPr>
              <a:t>Draft-2 focuses on </a:t>
            </a:r>
            <a:r>
              <a:rPr b="0" lang="en-US" sz="2500" spc="-1" strike="noStrike">
                <a:solidFill>
                  <a:srgbClr val="000000"/>
                </a:solidFill>
                <a:latin typeface="Linux Biolinum O"/>
              </a:rPr>
              <a:t>Data-plane convergence on modern routers, which have local restoration capability was posted prior to IETF 82</a:t>
            </a:r>
            <a:endParaRPr b="0" lang="en-US" sz="2500" spc="-1" strike="noStrike">
              <a:solidFill>
                <a:srgbClr val="000000"/>
              </a:solidFill>
              <a:latin typeface="Linux Biolinum O"/>
            </a:endParaRPr>
          </a:p>
          <a:p>
            <a:pPr lvl="1" marL="857160" indent="-45720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inux Biolinum O"/>
              </a:rPr>
              <a:t>draft-varlashkin-router-conv-bench-00</a:t>
            </a:r>
            <a:endParaRPr b="0" lang="en-US" sz="2200" spc="-1" strike="noStrike">
              <a:solidFill>
                <a:srgbClr val="000000"/>
              </a:solidFill>
              <a:latin typeface="Linux Biolinum O"/>
            </a:endParaRPr>
          </a:p>
          <a:p>
            <a:pPr lvl="3" marL="1714680" indent="-457200">
              <a:lnSpc>
                <a:spcPct val="7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nux Biolinum O"/>
              </a:rPr>
              <a:t>Author Team: Ilya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lashkin, Rajiv Papneja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havani Parise, Dean Lee</a:t>
            </a:r>
            <a:endParaRPr b="0" lang="en-US" sz="1600" spc="-1" strike="noStrike">
              <a:solidFill>
                <a:srgbClr val="000000"/>
              </a:solidFill>
              <a:latin typeface="Linux Biolinum O"/>
            </a:endParaRPr>
          </a:p>
          <a:p>
            <a:pPr lvl="3" marL="1714680" indent="-457200">
              <a:lnSpc>
                <a:spcPct val="7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er: Tara Van Unen</a:t>
            </a:r>
            <a:endParaRPr b="0" lang="en-US" sz="1600" spc="-1" strike="noStrike">
              <a:solidFill>
                <a:srgbClr val="000000"/>
              </a:solidFill>
              <a:latin typeface="Linux Biolinum O"/>
            </a:endParaRPr>
          </a:p>
          <a:p>
            <a:pPr lvl="2" marL="1257480" indent="0">
              <a:lnSpc>
                <a:spcPct val="75000"/>
              </a:lnSpc>
              <a:spcAft>
                <a:spcPts val="850"/>
              </a:spcAft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6Jul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DC5CB-41A2-4C43-862E-E7C9C9FCB234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Current Status &amp; Action Items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from IETF83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Obtained feedback from multiple Service Providers. Various tests from the draft termed as ‘Valuable’ and ‘Important’ by the Provider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Presented and solicited feedback from IDR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Performed Benchmarking tests based on the methodology from the draft and Presented the Results to BMWG 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Current version of draft addresses comments from prior IETFs and comments from WG list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31960" indent="-3240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nux Biolinum O"/>
              </a:rPr>
              <a:t>http://tools.ietf.org/html/draft-papneja-bgp-basic-dp-convergence-03</a:t>
            </a:r>
            <a:endParaRPr b="0" lang="en-US" sz="20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6Jul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947AD-FC1F-4546-A3AF-46DE7CC24EE4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Feedback Specifics for Draft-1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Tests considered by Verizon as Valuable and Important and have been demonstrated to them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Review from Compass, yielded in PIC test cases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Positive feedback and support on scope and test coverage from architect at FT-Orange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Contributions and Support from IDR Chair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This draft generated interest for collaboration with other draft work being pursued in IDR (gs-vpn-scaling)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26Jul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MWG@IETF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EA342-0AEB-4C56-8A9D-8667ADBF8B33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Linux Biolinum O"/>
              </a:rPr>
              <a:t>Current Status &amp; Action Items</a:t>
            </a:r>
            <a:endParaRPr b="1" lang="en-US" sz="4400" spc="-1" strike="noStrike">
              <a:solidFill>
                <a:srgbClr val="008000"/>
              </a:solidFill>
              <a:latin typeface="Linux Biolinum 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49364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For Draft-1: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1504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Linux Biolinum O"/>
                <a:hlinkClick r:id="rId1"/>
              </a:rPr>
              <a:t>http://tools.ietf.org/html/draft-papneja-bgp-basic-dp-convergence-03</a:t>
            </a:r>
            <a:endParaRPr b="0" lang="en-US" sz="2000" spc="-1" strike="noStrike">
              <a:solidFill>
                <a:srgbClr val="000000"/>
              </a:solidFill>
              <a:latin typeface="Linux Biolinum O"/>
            </a:endParaRPr>
          </a:p>
          <a:p>
            <a:pPr lvl="1" marL="81504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nux Biolinum O"/>
              </a:rPr>
              <a:t>Obtained more positive feedback from additional Service Providers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lvl="1" marL="81504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nux Biolinum O"/>
              </a:rPr>
              <a:t>Can we agree on approach and direction?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lvl="1" marL="81504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nux Biolinum O"/>
              </a:rPr>
              <a:t>Agree on WG-item adoption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For Draft-2: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  <a:p>
            <a:pPr lvl="1" marL="81504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nux Biolinum O"/>
              </a:rPr>
              <a:t>http://tools.ietf.org/html/draft-varlashkin-router-conv-bench-00</a:t>
            </a:r>
            <a:endParaRPr b="0" lang="en-US" sz="2000" spc="-1" strike="noStrike">
              <a:solidFill>
                <a:srgbClr val="000000"/>
              </a:solidFill>
              <a:latin typeface="Linux Biolinum O"/>
            </a:endParaRPr>
          </a:p>
          <a:p>
            <a:pPr lvl="1" marL="81504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nux Biolinum O"/>
              </a:rPr>
              <a:t>Lack of Capabilities in Protocol Simulators hindering certain test scenarios. Alternative Setup being explored</a:t>
            </a:r>
            <a:endParaRPr b="0" lang="en-US" sz="2400" spc="-1" strike="noStrike">
              <a:solidFill>
                <a:srgbClr val="000000"/>
              </a:solidFill>
              <a:latin typeface="Linux Biolinum O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inux Biolinum O"/>
              </a:rPr>
              <a:t>Inputs welcome!</a:t>
            </a:r>
            <a:endParaRPr b="0" lang="en-US" sz="2800" spc="-1" strike="noStrike">
              <a:solidFill>
                <a:srgbClr val="000000"/>
              </a:solidFill>
              <a:latin typeface="Linux Biolinum 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20:13:19Z</dcterms:created>
  <dc:creator>Rajiv</dc:creator>
  <dc:description/>
  <dc:language>en-US</dc:language>
  <cp:lastModifiedBy>admin</cp:lastModifiedBy>
  <dcterms:modified xsi:type="dcterms:W3CDTF">2012-07-26T19:08:44Z</dcterms:modified>
  <cp:revision>32</cp:revision>
  <dc:subject/>
  <dc:title>Measuring convergence of contemporary rou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0cwwkvETLRX9EFIw0iRD1ghKPFCnXEN1ee04ug8PiOLORWNRiPoWOQVtiflDZUlyCgA1Z1iO
uICwyuo2mkin530I/ZJy+ga1BDe9a58GmkokV0dLvkEjBe9ismDty709NiltoeM42qqLvQ/X
Fhp9JSdxOJa0kUUXOXCqBTzBrgET27USYZiaAInJc03hgR7Ju8qGbtzVC65e5PMaJJvzklCS
M6yGe9mBnqlhekfENqfqR</vt:lpwstr>
  </property>
  <property fmtid="{D5CDD505-2E9C-101B-9397-08002B2CF9AE}" pid="3" name="_ms_pID_7253431">
    <vt:lpwstr>V+036Lj/gk7mew/nTR9+vfDK9RnEjTg3c1n5r9ff22VFcKN3aK2
EJlqMFXhaLDG4/UE1z8naa/J6bHf2Y5XYYKl+6oyy6lARfquEbR4qcQkr+r+esMkMsRs7ONR
Ld7CRwG7xF/kZlWWzp8xMvgW7Hy2xGZMU00A7MwWO8I8rQ==</vt:lpwstr>
  </property>
  <property fmtid="{D5CDD505-2E9C-101B-9397-08002B2CF9AE}" pid="4" name="sflag">
    <vt:lpwstr>1343144893</vt:lpwstr>
  </property>
</Properties>
</file>