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6FBE3-BF2D-44C1-9792-A2E819D8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BBF78-4A28-4D3D-9675-7BC51C33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90E6F-86E7-4F79-BF14-4137E6FDF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732E-4179-4872-ABE6-FA56C2CD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E590E-48F3-4131-BA9C-7D3B3B6D6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2FCB7-76DF-4096-8BCD-6C9A48D2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72B-57CB-4B7D-A527-79C99C86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53B-E3F6-4DE0-8BC9-60FD8019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759-E37F-4C7C-A94C-8F193EC0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57D-348B-4839-8989-2C1F5697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FBEB-E10C-473A-9068-806C151E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B8B6-CC98-48E5-B9D7-C1A16EDE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6D0-2163-444D-A6C1-068B7B17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F27-AC48-47A7-AFD4-3DA60BA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D081-E6F6-4F26-BA02-607D917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42A0-64DE-4664-AF6C-1E6403B8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228-0FD1-48F8-8229-BD86C69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6AF-E370-4218-94DF-1DF6BC7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9C72-9E26-4B75-BFD9-69CF20F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04C-3D59-4DED-80C8-B1CBC5F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F6F-C16C-4C33-97A1-CCD7843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D4C-5D5B-447A-8F74-1BB32CA2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41C-CA9B-4303-99F4-C1334F5F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A21-CC23-4E07-8995-311293E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E79-CC27-48CC-86F5-15ACAA4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AC0-578D-4806-A049-0FAB5AC6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270-9D46-41FC-9FF3-FC95D21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C8D-3457-4C87-95E9-D2F3F8F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496-B8DF-4301-A663-0EBBB8F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144-D634-48E2-8450-0134D0C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FC87E-BB92-491D-A20D-B6A9B61CD747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E7F05-92D5-4BEE-B000-BCA2C5333FAD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papneja-bgp-basic-dp-convergence-0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9C0D1-4CC3-4DD9-BD01-AB494A921463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2920" y="1417680"/>
            <a:ext cx="8567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GP Data-Plane Benchmark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pplicable to Modern Router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82400" y="3475080"/>
            <a:ext cx="7056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jiv Papneja 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ya Varlashkin 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avani Paris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 Le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 Hares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0D1F9-2D81-46BA-B579-706B9B4D859B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ackground/ Current Statu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4320" y="14936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Terminology for Benchmarking BGP Device Convergence in the (RFC 4098) / June 2005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Two complementing BGP Methodology drafts in progress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1  focusing on the BGP Data Plane convergence was posted prior IETF 80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lvl="1" marL="857160" indent="-45720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papneja-bgp-basic-dp-convergence-03</a:t>
            </a:r>
            <a:endParaRPr b="0" lang="en-US" sz="2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Author team: Rajiv Papnej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havani Parise, Sue Hares, Ily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lashkin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ors: Deal Lee, Eric Brendal, Mohan Nanduri, Jay Karthik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2 focuses on </a:t>
            </a:r>
            <a:r>
              <a:rPr b="0" lang="en-US" sz="2500" spc="-1" strike="noStrike">
                <a:solidFill>
                  <a:srgbClr val="000000"/>
                </a:solidFill>
                <a:latin typeface="Linux Biolinum O"/>
              </a:rPr>
              <a:t>Data-plane convergence on modern routers, which have local restoration capability was posted prior to IETF 82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lvl="1" marL="857160" indent="-45720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inux Biolinum O"/>
              </a:rPr>
              <a:t>draft-varlashkin-router-conv-bench-00</a:t>
            </a:r>
            <a:endParaRPr b="0" lang="en-US" sz="2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nux Biolinum O"/>
              </a:rPr>
              <a:t>Author Team: Ily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lashkin, Rajiv Papnej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havani Parise, Dean Lee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r: Tara Van Unen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2" marL="1257480" indent="0">
              <a:lnSpc>
                <a:spcPct val="75000"/>
              </a:lnSpc>
              <a:spcAft>
                <a:spcPts val="850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0D0E-6535-40ED-8102-9D5DFECFD04F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urrent Status &amp; Action Items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from IETF83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Obtained feedback from multiple Service Providers. Various tests from the draft termed as ‘Valuable’ and ‘Important’ by the Provider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resented and solicited feedback from IDR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erformed Benchmarking tests based on the methodology from the draft and Presented the Results to BMWG 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urrent version of draft addresses comments from prior IETFs and comments from WG lis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3196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http://tools.ietf.org/html/draft-papneja-bgp-basic-dp-convergence-03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9EEEC-79B1-4F8F-8A98-4925F17FA12D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Feedback Specifics for Draft-1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ests considered by Verizon as Valuable and Important and have been demonstrated to them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view from Compass, yielded in PIC test case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ositive feedback and support on scope and test coverage from architect at FT-Orang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ontributions and Support from IDR Chair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his draft generated interest for collaboration with other draft work being pursued in IDR (gs-vpn-scaling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B05F5-A45D-413D-97B6-23C5EB595CC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urrent Status &amp; Action Item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49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For Draft-1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Linux Biolinum O"/>
                <a:hlinkClick r:id="rId1"/>
              </a:rPr>
              <a:t>http://tools.ietf.org/html/draft-papneja-bgp-basic-dp-convergence-03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Obtained more positive feedback from additional Service Providers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Can we agree on approach and direction?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Agree on WG-item adoption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For Draft-2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http://tools.ietf.org/html/draft-varlashkin-router-conv-bench-00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Lack of Capabilities in Protocol Simulators hindering certain test scenarios. Alternative Setup being explored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Inputs welcome!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3:19Z</dcterms:created>
  <dc:creator>Rajiv</dc:creator>
  <dc:description/>
  <dc:language>en-US</dc:language>
  <cp:lastModifiedBy>admin</cp:lastModifiedBy>
  <dcterms:modified xsi:type="dcterms:W3CDTF">2012-07-26T19:08:44Z</dcterms:modified>
  <cp:revision>32</cp:revision>
  <dc:subject/>
  <dc:title>Measuring convergence of contemporary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0cwwkvETLRX9EFIw0iRD1ghKPFCnXEN1ee04ug8PiOLORWNRiPoWOQVtiflDZUlyCgA1Z1iO
uICwyuo2mkin530I/ZJy+ga1BDe9a58GmkokV0dLvkEjBe9ismDty709NiltoeM42qqLvQ/X
Fhp9JSdxOJa0kUUXOXCqBTzBrgET27USYZiaAInJc03hgR7Ju8qGbtzVC65e5PMaJJvzklCS
M6yGe9mBnqlhekfENqfqR</vt:lpwstr>
  </property>
  <property fmtid="{D5CDD505-2E9C-101B-9397-08002B2CF9AE}" pid="3" name="_ms_pID_7253431">
    <vt:lpwstr>V+036Lj/gk7mew/nTR9+vfDK9RnEjTg3c1n5r9ff22VFcKN3aK2
EJlqMFXhaLDG4/UE1z8naa/J6bHf2Y5XYYKl+6oyy6lARfquEbR4qcQkr+r+esMkMsRs7ONR
Ld7CRwG7xF/kZlWWzp8xMvgW7Hy2xGZMU00A7MwWO8I8rQ==</vt:lpwstr>
  </property>
  <property fmtid="{D5CDD505-2E9C-101B-9397-08002B2CF9AE}" pid="4" name="sflag">
    <vt:lpwstr>1343144893</vt:lpwstr>
  </property>
</Properties>
</file>