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10080625" cy="7559675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Bitstream Vera Sans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ans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ans"/>
            </a:endParaRPr>
          </a:p>
        </p:txBody>
      </p:sp>
      <p:sp>
        <p:nvSpPr>
          <p:cNvPr id="44" name="AutoShape 3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ans"/>
            </a:endParaRPr>
          </a:p>
        </p:txBody>
      </p:sp>
      <p:sp>
        <p:nvSpPr>
          <p:cNvPr id="45" name="AutoShape 4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ans"/>
            </a:endParaRPr>
          </a:p>
        </p:txBody>
      </p:sp>
      <p:sp>
        <p:nvSpPr>
          <p:cNvPr id="46" name="AutoShape 5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ans"/>
            </a:endParaRPr>
          </a:p>
        </p:txBody>
      </p:sp>
      <p:sp>
        <p:nvSpPr>
          <p:cNvPr id="47" name="AutoShape 6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ans"/>
            </a:endParaRPr>
          </a:p>
        </p:txBody>
      </p:sp>
      <p:sp>
        <p:nvSpPr>
          <p:cNvPr id="48" name="AutoShape 7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ans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1257120" y="728640"/>
            <a:ext cx="4787640" cy="358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itstream Vera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731520" y="4559400"/>
            <a:ext cx="5840280" cy="430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162240" cy="46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ans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dt" idx="4"/>
          </p:nvPr>
        </p:nvSpPr>
        <p:spPr>
          <a:xfrm>
            <a:off x="4140360" y="-360"/>
            <a:ext cx="3162240" cy="46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ans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ftr" idx="5"/>
          </p:nvPr>
        </p:nvSpPr>
        <p:spPr>
          <a:xfrm>
            <a:off x="0" y="9119880"/>
            <a:ext cx="3162240" cy="46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ans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 type="sldNum" idx="6"/>
          </p:nvPr>
        </p:nvSpPr>
        <p:spPr>
          <a:xfrm>
            <a:off x="4140360" y="9119880"/>
            <a:ext cx="3162240" cy="46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8000"/>
              </a:lnSpc>
              <a:buNone/>
              <a:tabLst>
                <a:tab algn="l" pos="0"/>
                <a:tab algn="l" pos="433440"/>
                <a:tab algn="l" pos="866880"/>
                <a:tab algn="l" pos="1301760"/>
                <a:tab algn="l" pos="1735200"/>
                <a:tab algn="l" pos="2168640"/>
                <a:tab algn="l" pos="2602080"/>
                <a:tab algn="l" pos="3036960"/>
                <a:tab algn="l" pos="3470400"/>
                <a:tab algn="l" pos="3903840"/>
                <a:tab algn="l" pos="4336920"/>
                <a:tab algn="l" pos="4770360"/>
                <a:tab algn="l" pos="5205240"/>
                <a:tab algn="l" pos="5638680"/>
                <a:tab algn="l" pos="6072120"/>
                <a:tab algn="l" pos="6505560"/>
                <a:tab algn="l" pos="6940440"/>
                <a:tab algn="l" pos="7373880"/>
                <a:tab algn="l" pos="7807320"/>
                <a:tab algn="l" pos="8240760"/>
                <a:tab algn="l" pos="8675640"/>
                <a:tab algn="l" pos="9101160"/>
                <a:tab algn="l" pos="9534600"/>
                <a:tab algn="l" pos="9968040"/>
                <a:tab algn="l" pos="10401480"/>
                <a:tab algn="l" pos="10834560"/>
              </a:tabLst>
              <a:defRPr b="0" lang="en-GB" sz="1300" spc="-1" strike="noStrike">
                <a:solidFill>
                  <a:srgbClr val="000000"/>
                </a:solidFill>
                <a:latin typeface="Bitstream Vera Sans"/>
              </a:defRPr>
            </a:lvl1pPr>
          </a:lstStyle>
          <a:p>
            <a:pPr indent="0" algn="r">
              <a:lnSpc>
                <a:spcPct val="98000"/>
              </a:lnSpc>
              <a:buNone/>
              <a:tabLst>
                <a:tab algn="l" pos="0"/>
                <a:tab algn="l" pos="433440"/>
                <a:tab algn="l" pos="866880"/>
                <a:tab algn="l" pos="1301760"/>
                <a:tab algn="l" pos="1735200"/>
                <a:tab algn="l" pos="2168640"/>
                <a:tab algn="l" pos="2602080"/>
                <a:tab algn="l" pos="3036960"/>
                <a:tab algn="l" pos="3470400"/>
                <a:tab algn="l" pos="3903840"/>
                <a:tab algn="l" pos="4336920"/>
                <a:tab algn="l" pos="4770360"/>
                <a:tab algn="l" pos="5205240"/>
                <a:tab algn="l" pos="5638680"/>
                <a:tab algn="l" pos="6072120"/>
                <a:tab algn="l" pos="6505560"/>
                <a:tab algn="l" pos="6940440"/>
                <a:tab algn="l" pos="7373880"/>
                <a:tab algn="l" pos="7807320"/>
                <a:tab algn="l" pos="8240760"/>
                <a:tab algn="l" pos="8675640"/>
                <a:tab algn="l" pos="9101160"/>
                <a:tab algn="l" pos="9534600"/>
                <a:tab algn="l" pos="9968040"/>
                <a:tab algn="l" pos="10401480"/>
                <a:tab algn="l" pos="10834560"/>
              </a:tabLst>
            </a:pPr>
            <a:fld id="{CD00ACBD-8ED2-470F-8789-32E5730852E0}" type="slidenum">
              <a:rPr b="0" lang="en-GB" sz="1300" spc="-1" strike="noStrike">
                <a:solidFill>
                  <a:srgbClr val="000000"/>
                </a:solidFill>
                <a:latin typeface="Bitstream Vera Sans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Bitstream Ver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13"/>
          <p:cNvSpPr/>
          <p:nvPr/>
        </p:nvSpPr>
        <p:spPr>
          <a:xfrm>
            <a:off x="4140360" y="9120240"/>
            <a:ext cx="31622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8000"/>
              </a:lnSpc>
              <a:tabLst>
                <a:tab algn="l" pos="0"/>
                <a:tab algn="l" pos="433440"/>
                <a:tab algn="l" pos="866880"/>
                <a:tab algn="l" pos="1301760"/>
                <a:tab algn="l" pos="1735200"/>
                <a:tab algn="l" pos="2168640"/>
                <a:tab algn="l" pos="2602080"/>
                <a:tab algn="l" pos="3036960"/>
                <a:tab algn="l" pos="3470400"/>
                <a:tab algn="l" pos="3903840"/>
                <a:tab algn="l" pos="4336920"/>
                <a:tab algn="l" pos="4770360"/>
                <a:tab algn="l" pos="5205240"/>
                <a:tab algn="l" pos="5638680"/>
                <a:tab algn="l" pos="6072120"/>
                <a:tab algn="l" pos="6505560"/>
                <a:tab algn="l" pos="6940440"/>
                <a:tab algn="l" pos="7373880"/>
                <a:tab algn="l" pos="7807320"/>
                <a:tab algn="l" pos="8240760"/>
                <a:tab algn="l" pos="8675640"/>
                <a:tab algn="l" pos="9101160"/>
                <a:tab algn="l" pos="9534600"/>
                <a:tab algn="l" pos="9968040"/>
                <a:tab algn="l" pos="10401480"/>
                <a:tab algn="l" pos="10834560"/>
              </a:tabLst>
            </a:pPr>
            <a:fld id="{E0442B5B-517A-46CA-A180-14F4E7CEA85B}" type="slidenum">
              <a:rPr b="0" lang="en-GB" sz="1300" spc="-1" strike="noStrike">
                <a:solidFill>
                  <a:srgbClr val="000000"/>
                </a:solidFill>
                <a:latin typeface="Bitstream Vera Sans"/>
              </a:rPr>
              <a:t>&lt;number&gt;</a:t>
            </a:fld>
            <a:endParaRPr b="0" lang="en-US" sz="1300" spc="-1" strike="noStrike">
              <a:solidFill>
                <a:srgbClr val="ffffcc"/>
              </a:solidFill>
              <a:latin typeface="Bitstream Vera Sans"/>
            </a:endParaRPr>
          </a:p>
        </p:txBody>
      </p:sp>
      <p:sp>
        <p:nvSpPr>
          <p:cNvPr id="80" name="Text Box 1"/>
          <p:cNvSpPr/>
          <p:nvPr/>
        </p:nvSpPr>
        <p:spPr>
          <a:xfrm>
            <a:off x="1290600" y="728640"/>
            <a:ext cx="47340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ans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42080" cy="43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13"/>
          <p:cNvSpPr/>
          <p:nvPr/>
        </p:nvSpPr>
        <p:spPr>
          <a:xfrm>
            <a:off x="4140360" y="9120240"/>
            <a:ext cx="31622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8000"/>
              </a:lnSpc>
              <a:tabLst>
                <a:tab algn="l" pos="0"/>
                <a:tab algn="l" pos="433440"/>
                <a:tab algn="l" pos="866880"/>
                <a:tab algn="l" pos="1301760"/>
                <a:tab algn="l" pos="1735200"/>
                <a:tab algn="l" pos="2168640"/>
                <a:tab algn="l" pos="2602080"/>
                <a:tab algn="l" pos="3036960"/>
                <a:tab algn="l" pos="3470400"/>
                <a:tab algn="l" pos="3903840"/>
                <a:tab algn="l" pos="4336920"/>
                <a:tab algn="l" pos="4770360"/>
                <a:tab algn="l" pos="5205240"/>
                <a:tab algn="l" pos="5638680"/>
                <a:tab algn="l" pos="6072120"/>
                <a:tab algn="l" pos="6505560"/>
                <a:tab algn="l" pos="6940440"/>
                <a:tab algn="l" pos="7373880"/>
                <a:tab algn="l" pos="7807320"/>
                <a:tab algn="l" pos="8240760"/>
                <a:tab algn="l" pos="8675640"/>
                <a:tab algn="l" pos="9101160"/>
                <a:tab algn="l" pos="9534600"/>
                <a:tab algn="l" pos="9968040"/>
                <a:tab algn="l" pos="10401480"/>
                <a:tab algn="l" pos="10834560"/>
              </a:tabLst>
            </a:pPr>
            <a:fld id="{26C98FAF-6FCC-46DD-B3B1-C4CCA408EF5B}" type="slidenum">
              <a:rPr b="0" lang="en-GB" sz="1300" spc="-1" strike="noStrike">
                <a:solidFill>
                  <a:srgbClr val="000000"/>
                </a:solidFill>
                <a:latin typeface="Bitstream Vera Sans"/>
              </a:rPr>
              <a:t>&lt;number&gt;</a:t>
            </a:fld>
            <a:endParaRPr b="0" lang="en-US" sz="1300" spc="-1" strike="noStrike">
              <a:solidFill>
                <a:srgbClr val="ffffcc"/>
              </a:solidFill>
              <a:latin typeface="Bitstream Vera Sans"/>
            </a:endParaRPr>
          </a:p>
        </p:txBody>
      </p:sp>
      <p:sp>
        <p:nvSpPr>
          <p:cNvPr id="83" name="Text Box 1"/>
          <p:cNvSpPr/>
          <p:nvPr/>
        </p:nvSpPr>
        <p:spPr>
          <a:xfrm>
            <a:off x="1290600" y="728640"/>
            <a:ext cx="4732200" cy="3598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ans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42080" cy="43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13"/>
          <p:cNvSpPr/>
          <p:nvPr/>
        </p:nvSpPr>
        <p:spPr>
          <a:xfrm>
            <a:off x="4140360" y="9120240"/>
            <a:ext cx="31622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8000"/>
              </a:lnSpc>
              <a:tabLst>
                <a:tab algn="l" pos="0"/>
                <a:tab algn="l" pos="433440"/>
                <a:tab algn="l" pos="866880"/>
                <a:tab algn="l" pos="1301760"/>
                <a:tab algn="l" pos="1735200"/>
                <a:tab algn="l" pos="2168640"/>
                <a:tab algn="l" pos="2602080"/>
                <a:tab algn="l" pos="3036960"/>
                <a:tab algn="l" pos="3470400"/>
                <a:tab algn="l" pos="3903840"/>
                <a:tab algn="l" pos="4336920"/>
                <a:tab algn="l" pos="4770360"/>
                <a:tab algn="l" pos="5205240"/>
                <a:tab algn="l" pos="5638680"/>
                <a:tab algn="l" pos="6072120"/>
                <a:tab algn="l" pos="6505560"/>
                <a:tab algn="l" pos="6940440"/>
                <a:tab algn="l" pos="7373880"/>
                <a:tab algn="l" pos="7807320"/>
                <a:tab algn="l" pos="8240760"/>
                <a:tab algn="l" pos="8675640"/>
                <a:tab algn="l" pos="9101160"/>
                <a:tab algn="l" pos="9534600"/>
                <a:tab algn="l" pos="9968040"/>
                <a:tab algn="l" pos="10401480"/>
                <a:tab algn="l" pos="10834560"/>
              </a:tabLst>
            </a:pPr>
            <a:fld id="{96A223F0-185C-4DA3-A632-5E30DF7BE784}" type="slidenum">
              <a:rPr b="0" lang="en-GB" sz="1300" spc="-1" strike="noStrike">
                <a:solidFill>
                  <a:srgbClr val="000000"/>
                </a:solidFill>
                <a:latin typeface="Bitstream Vera Sans"/>
              </a:rPr>
              <a:t>&lt;number&gt;</a:t>
            </a:fld>
            <a:endParaRPr b="0" lang="en-US" sz="1300" spc="-1" strike="noStrike">
              <a:solidFill>
                <a:srgbClr val="ffffcc"/>
              </a:solidFill>
              <a:latin typeface="Bitstream Vera Sans"/>
            </a:endParaRPr>
          </a:p>
        </p:txBody>
      </p:sp>
      <p:sp>
        <p:nvSpPr>
          <p:cNvPr id="86" name="Text Box 1"/>
          <p:cNvSpPr/>
          <p:nvPr/>
        </p:nvSpPr>
        <p:spPr>
          <a:xfrm>
            <a:off x="1290600" y="728640"/>
            <a:ext cx="4732200" cy="3598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ans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42080" cy="43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13"/>
          <p:cNvSpPr/>
          <p:nvPr/>
        </p:nvSpPr>
        <p:spPr>
          <a:xfrm>
            <a:off x="4140360" y="9120240"/>
            <a:ext cx="31622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8000"/>
              </a:lnSpc>
              <a:tabLst>
                <a:tab algn="l" pos="0"/>
                <a:tab algn="l" pos="433440"/>
                <a:tab algn="l" pos="866880"/>
                <a:tab algn="l" pos="1301760"/>
                <a:tab algn="l" pos="1735200"/>
                <a:tab algn="l" pos="2168640"/>
                <a:tab algn="l" pos="2602080"/>
                <a:tab algn="l" pos="3036960"/>
                <a:tab algn="l" pos="3470400"/>
                <a:tab algn="l" pos="3903840"/>
                <a:tab algn="l" pos="4336920"/>
                <a:tab algn="l" pos="4770360"/>
                <a:tab algn="l" pos="5205240"/>
                <a:tab algn="l" pos="5638680"/>
                <a:tab algn="l" pos="6072120"/>
                <a:tab algn="l" pos="6505560"/>
                <a:tab algn="l" pos="6940440"/>
                <a:tab algn="l" pos="7373880"/>
                <a:tab algn="l" pos="7807320"/>
                <a:tab algn="l" pos="8240760"/>
                <a:tab algn="l" pos="8675640"/>
                <a:tab algn="l" pos="9101160"/>
                <a:tab algn="l" pos="9534600"/>
                <a:tab algn="l" pos="9968040"/>
                <a:tab algn="l" pos="10401480"/>
                <a:tab algn="l" pos="10834560"/>
              </a:tabLst>
            </a:pPr>
            <a:fld id="{394AD055-E796-41DA-8205-F8B2ECE4B9A4}" type="slidenum">
              <a:rPr b="0" lang="en-GB" sz="1300" spc="-1" strike="noStrike">
                <a:solidFill>
                  <a:srgbClr val="000000"/>
                </a:solidFill>
                <a:latin typeface="Bitstream Vera Sans"/>
              </a:rPr>
              <a:t>&lt;number&gt;</a:t>
            </a:fld>
            <a:endParaRPr b="0" lang="en-US" sz="1300" spc="-1" strike="noStrike">
              <a:solidFill>
                <a:srgbClr val="ffffcc"/>
              </a:solidFill>
              <a:latin typeface="Bitstream Vera Sans"/>
            </a:endParaRPr>
          </a:p>
        </p:txBody>
      </p:sp>
      <p:sp>
        <p:nvSpPr>
          <p:cNvPr id="89" name="Text Box 1"/>
          <p:cNvSpPr/>
          <p:nvPr/>
        </p:nvSpPr>
        <p:spPr>
          <a:xfrm>
            <a:off x="1290600" y="728640"/>
            <a:ext cx="4732200" cy="3598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ans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42080" cy="43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9C31A-39E5-46CA-BDF0-3062D4D0D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976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5976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68600"/>
            <a:ext cx="905976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AAE3C-67FA-49F6-BC4F-A622176CF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976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080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5480" y="1767960"/>
            <a:ext cx="442080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68600"/>
            <a:ext cx="442080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5480" y="4368600"/>
            <a:ext cx="442080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33FD6-2506-4D88-9B2E-465E69BB2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976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708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6520" y="1767960"/>
            <a:ext cx="291708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29760" y="1767960"/>
            <a:ext cx="291708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68600"/>
            <a:ext cx="291708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6520" y="4368600"/>
            <a:ext cx="291708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29760" y="4368600"/>
            <a:ext cx="291708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F4FAE-CADB-40B5-A42A-29FBA56EA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976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59760" cy="49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760"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AC21B-896B-48B7-BCA7-05E88A193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976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59760" cy="49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B4C9B-2008-4772-B245-3AEF9F238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976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0800" cy="49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5480" y="1767960"/>
            <a:ext cx="4420800" cy="49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81F75-04B8-49C9-A03A-18553DA95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976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5CD38-66F7-42E7-9F31-2557560A6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59760" cy="57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760"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3D38A-BFB0-41E8-9FFB-732F1B0FD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976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080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5480" y="1767960"/>
            <a:ext cx="4420800" cy="49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68600"/>
            <a:ext cx="442080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4F51A-7FF8-4E27-B861-2B9E6F210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976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0800" cy="49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5480" y="1767960"/>
            <a:ext cx="442080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5480" y="4368600"/>
            <a:ext cx="442080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D809A-BDA9-4F50-8146-8A9100AE9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976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080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5480" y="1767960"/>
            <a:ext cx="442080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68600"/>
            <a:ext cx="905976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BFD3F-9757-49B1-89C3-7CE13098D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976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itstream Vera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59760" cy="49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-316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2480" indent="-282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284120" indent="-2124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3" marL="1716120" indent="-2048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4" marL="2147760" indent="-2062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5" marL="2147760" indent="-2062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6" marL="2147760" indent="-2062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3532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827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Bitstream Vera Sans"/>
              </a:defRPr>
            </a:lvl1pPr>
          </a:lstStyle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Bitstream Vera Sans"/>
            </a:endParaRPr>
          </a:p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Bitstream Vera Sans"/>
              </a:rPr>
              <a:t>IETF #74 - NETCONF WG session</a:t>
            </a:r>
            <a:endParaRPr b="0" lang="en-US" sz="14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3532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400" spc="-1" strike="noStrike">
                <a:solidFill>
                  <a:srgbClr val="000000"/>
                </a:solidFill>
                <a:latin typeface="Bitstream Vera Sans"/>
              </a:defRPr>
            </a:lvl1pPr>
          </a:lstStyle>
          <a:p>
            <a:pPr indent="0" algn="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1400"/>
            </a:br>
            <a:fld id="{4F55B887-4E7E-48B6-9E1A-453AE05A821B}" type="slidenum">
              <a:rPr b="0" lang="en-GB" sz="1200" spc="-1" strike="noStrike">
                <a:solidFill>
                  <a:srgbClr val="000000"/>
                </a:solidFill>
                <a:latin typeface="Bitstream Vera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itstream Ver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mhamilton@breakingpoint.com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Slide Number Placeholder 4"/>
          <p:cNvSpPr/>
          <p:nvPr/>
        </p:nvSpPr>
        <p:spPr>
          <a:xfrm>
            <a:off x="7226280" y="6886440"/>
            <a:ext cx="233532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1400"/>
            </a:br>
            <a:fld id="{C3E794EB-4206-4F95-BD6F-4AC3828F27C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Bitstream Vera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2920" y="660240"/>
            <a:ext cx="907236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Content-Aware Device Benchmarking Methodology/Terminology</a:t>
            </a:r>
            <a:br>
              <a:rPr sz="4000"/>
            </a:b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(draft-ietf-bmwg-ca-bench-meth-02)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502920" y="215532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BMWG Meeting</a:t>
            </a:r>
            <a:endParaRPr b="0" lang="en-US" sz="3600" spc="-1" strike="noStrike">
              <a:solidFill>
                <a:srgbClr val="000000"/>
              </a:solidFill>
              <a:latin typeface="Bitstream Vera Sans"/>
            </a:endParaRPr>
          </a:p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IETF-84 Vancouver</a:t>
            </a:r>
            <a:endParaRPr b="0" lang="en-US" sz="3600" spc="-1" strike="noStrike">
              <a:solidFill>
                <a:srgbClr val="000000"/>
              </a:solidFill>
              <a:latin typeface="Bitstream Vera Sans"/>
            </a:endParaRPr>
          </a:p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July 2012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Bitstream Vera Sans"/>
            </a:endParaRPr>
          </a:p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Bitstream Vera Sans"/>
            </a:endParaRPr>
          </a:p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Calibri"/>
              </a:rPr>
              <a:t>Mike Hamilton</a:t>
            </a:r>
            <a:endParaRPr b="0" lang="en-US" sz="2500" spc="-1" strike="noStrike">
              <a:solidFill>
                <a:srgbClr val="000000"/>
              </a:solidFill>
              <a:latin typeface="Bitstream Vera Sans"/>
            </a:endParaRPr>
          </a:p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2500" spc="-1" strike="noStrike" u="sng">
                <a:solidFill>
                  <a:srgbClr val="0000cc"/>
                </a:solidFill>
                <a:uFillTx/>
                <a:latin typeface="Calibri"/>
                <a:hlinkClick r:id="rId1"/>
              </a:rPr>
              <a:t>mhamilton@breakingpoint.com</a:t>
            </a:r>
            <a:endParaRPr b="0" lang="en-US" sz="2500" spc="-1" strike="noStrike">
              <a:solidFill>
                <a:srgbClr val="000000"/>
              </a:solidFill>
              <a:latin typeface="Bitstream Vera Sans"/>
            </a:endParaRPr>
          </a:p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Calibri"/>
              </a:rPr>
              <a:t>BreakingPoint Systems</a:t>
            </a:r>
            <a:endParaRPr b="0" lang="en-US" sz="25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Slide Number Placeholder 5"/>
          <p:cNvSpPr/>
          <p:nvPr/>
        </p:nvSpPr>
        <p:spPr>
          <a:xfrm>
            <a:off x="7226280" y="6886440"/>
            <a:ext cx="233532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1400"/>
            </a:br>
            <a:fld id="{142C061E-530D-403C-B9B7-25548D6BCD0B}" type="slidenum">
              <a:rPr b="0" lang="en-GB" sz="1200" spc="-1" strike="noStrike">
                <a:solidFill>
                  <a:srgbClr val="000000"/>
                </a:solidFill>
                <a:latin typeface="Bitstream Vera Sans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Bitstream Vera Sans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Questions</a:t>
            </a: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60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ans"/>
            </a:endParaRPr>
          </a:p>
        </p:txBody>
      </p:sp>
      <p:sp>
        <p:nvSpPr>
          <p:cNvPr id="61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ans"/>
            </a:endParaRPr>
          </a:p>
        </p:txBody>
      </p:sp>
      <p:sp>
        <p:nvSpPr>
          <p:cNvPr id="62" name="AutoShape 1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ans"/>
            </a:endParaRPr>
          </a:p>
        </p:txBody>
      </p:sp>
      <p:sp>
        <p:nvSpPr>
          <p:cNvPr id="63" name="AutoShape 1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ans"/>
            </a:endParaRPr>
          </a:p>
        </p:txBody>
      </p:sp>
      <p:sp>
        <p:nvSpPr>
          <p:cNvPr id="64" name="Rectangle 8"/>
          <p:cNvSpPr/>
          <p:nvPr/>
        </p:nvSpPr>
        <p:spPr>
          <a:xfrm>
            <a:off x="239760" y="1733400"/>
            <a:ext cx="944892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Bitstream Vera Sans"/>
              </a:rPr>
              <a:t>Do we need to define the specific flows?</a:t>
            </a:r>
            <a:endParaRPr b="0" lang="en-US" sz="2500" spc="-1" strike="noStrike">
              <a:solidFill>
                <a:srgbClr val="ffffcc"/>
              </a:solidFill>
              <a:latin typeface="Bitstream Vera Sans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ffffcc"/>
              </a:solidFill>
              <a:latin typeface="Bitstream Vera Sans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Bitstream Vera Sans"/>
              </a:rPr>
              <a:t>Traffic Mix</a:t>
            </a:r>
            <a:endParaRPr b="0" lang="en-US" sz="2500" spc="-1" strike="noStrike">
              <a:solidFill>
                <a:srgbClr val="ffffcc"/>
              </a:solidFill>
              <a:latin typeface="Bitstream Vera Sans"/>
            </a:endParaRPr>
          </a:p>
          <a:p>
            <a:pPr lvl="1" marL="420840" indent="-2113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Bitstream Vera Sans"/>
                <a:ea typeface="ＭＳ Ｐゴシック"/>
              </a:rPr>
              <a:t>Utilize industry-specific resources, i.e. Sandvine traffic mix</a:t>
            </a:r>
            <a:endParaRPr b="0" lang="en-US" sz="2500" spc="-1" strike="noStrike">
              <a:solidFill>
                <a:srgbClr val="ffffcc"/>
              </a:solidFill>
              <a:latin typeface="Bitstream Vera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Slide Number Placeholder 5"/>
          <p:cNvSpPr/>
          <p:nvPr/>
        </p:nvSpPr>
        <p:spPr>
          <a:xfrm>
            <a:off x="7226280" y="6886440"/>
            <a:ext cx="233532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1400"/>
            </a:br>
            <a:fld id="{FDA6F6AD-3B98-498B-93B5-4F50D122F350}" type="slidenum">
              <a:rPr b="0" lang="en-GB" sz="1200" spc="-1" strike="noStrike">
                <a:solidFill>
                  <a:srgbClr val="000000"/>
                </a:solidFill>
                <a:latin typeface="Bitstream Vera Sans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Bitstream Vera Sans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tatus Update</a:t>
            </a: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67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ans"/>
            </a:endParaRPr>
          </a:p>
        </p:txBody>
      </p:sp>
      <p:sp>
        <p:nvSpPr>
          <p:cNvPr id="68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ans"/>
            </a:endParaRPr>
          </a:p>
        </p:txBody>
      </p:sp>
      <p:sp>
        <p:nvSpPr>
          <p:cNvPr id="69" name="AutoShape 1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ans"/>
            </a:endParaRPr>
          </a:p>
        </p:txBody>
      </p:sp>
      <p:sp>
        <p:nvSpPr>
          <p:cNvPr id="70" name="AutoShape 1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ans"/>
            </a:endParaRPr>
          </a:p>
        </p:txBody>
      </p:sp>
      <p:sp>
        <p:nvSpPr>
          <p:cNvPr id="71" name="Rectangle 8"/>
          <p:cNvSpPr/>
          <p:nvPr/>
        </p:nvSpPr>
        <p:spPr>
          <a:xfrm>
            <a:off x="239760" y="1733400"/>
            <a:ext cx="9448920" cy="35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Bitstream Vera Sans"/>
              </a:rPr>
              <a:t>Resolved </a:t>
            </a:r>
            <a:endParaRPr b="0" lang="en-US" sz="2500" spc="-1" strike="noStrike">
              <a:solidFill>
                <a:srgbClr val="ffffcc"/>
              </a:solidFill>
              <a:latin typeface="Bitstream Vera Sans"/>
            </a:endParaRPr>
          </a:p>
          <a:p>
            <a:pPr lvl="1" marL="420840" indent="-2113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Bitstream Vera Sans"/>
                <a:ea typeface="ＭＳ Ｐゴシック"/>
              </a:rPr>
              <a:t>Traffic Composition</a:t>
            </a:r>
            <a:endParaRPr b="0" lang="en-US" sz="2500" spc="-1" strike="noStrike">
              <a:solidFill>
                <a:srgbClr val="ffffcc"/>
              </a:solidFill>
              <a:latin typeface="Bitstream Vera Sans"/>
            </a:endParaRPr>
          </a:p>
          <a:p>
            <a:pPr lvl="2" marL="636480" indent="-2062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Bitstream Vera Sans"/>
                <a:ea typeface="ＭＳ Ｐゴシック"/>
              </a:rPr>
              <a:t>How to define a single protocol within the mix</a:t>
            </a:r>
            <a:endParaRPr b="0" lang="en-US" sz="2500" spc="-1" strike="noStrike">
              <a:solidFill>
                <a:srgbClr val="ffffcc"/>
              </a:solidFill>
              <a:latin typeface="Bitstream Vera Sans"/>
            </a:endParaRPr>
          </a:p>
          <a:p>
            <a:pPr lvl="3" marL="852480" indent="-2127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Bitstream Vera Sans"/>
                <a:ea typeface="ＭＳ Ｐゴシック"/>
              </a:rPr>
              <a:t>Can we? </a:t>
            </a:r>
            <a:endParaRPr b="0" lang="en-US" sz="2500" spc="-1" strike="noStrike">
              <a:solidFill>
                <a:srgbClr val="ffffcc"/>
              </a:solidFill>
              <a:latin typeface="Bitstream Vera Sans"/>
            </a:endParaRPr>
          </a:p>
          <a:p>
            <a:pPr lvl="2" marL="636480" indent="-2062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Bitstream Vera Sans"/>
                <a:ea typeface="ＭＳ Ｐゴシック"/>
              </a:rPr>
              <a:t>Malformed traffic</a:t>
            </a:r>
            <a:endParaRPr b="0" lang="en-US" sz="2500" spc="-1" strike="noStrike">
              <a:solidFill>
                <a:srgbClr val="ffffcc"/>
              </a:solidFill>
              <a:latin typeface="Bitstream Vera Sans"/>
            </a:endParaRPr>
          </a:p>
          <a:p>
            <a:pPr lvl="3" marL="852480" indent="-2127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Bitstream Vera Sans"/>
                <a:ea typeface="ＭＳ Ｐゴシック"/>
              </a:rPr>
              <a:t>How to define</a:t>
            </a:r>
            <a:endParaRPr b="0" lang="en-US" sz="2500" spc="-1" strike="noStrike">
              <a:solidFill>
                <a:srgbClr val="ffffcc"/>
              </a:solidFill>
              <a:latin typeface="Bitstream Vera Sans"/>
            </a:endParaRPr>
          </a:p>
          <a:p>
            <a:pPr lvl="4" marL="1068480" indent="-208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Bitstream Vera Sans"/>
                <a:ea typeface="ＭＳ Ｐゴシック"/>
              </a:rPr>
              <a:t>Open-source TCP/IP/UDP(sic)</a:t>
            </a:r>
            <a:endParaRPr b="0" lang="en-US" sz="2500" spc="-1" strike="noStrike">
              <a:solidFill>
                <a:srgbClr val="ffffcc"/>
              </a:solidFill>
              <a:latin typeface="Bitstream Vera Sans"/>
            </a:endParaRPr>
          </a:p>
          <a:p>
            <a:pPr lvl="1" marL="420840" indent="-2113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Bitstream Vera Sans"/>
                <a:ea typeface="ＭＳ Ｐゴシック"/>
              </a:rPr>
              <a:t>Comments from (before) IETF 82/83/84</a:t>
            </a:r>
            <a:endParaRPr b="0" lang="en-US" sz="2500" spc="-1" strike="noStrike">
              <a:solidFill>
                <a:srgbClr val="ffffcc"/>
              </a:solidFill>
              <a:latin typeface="Bitstream Vera Sans"/>
            </a:endParaRPr>
          </a:p>
          <a:p>
            <a:pPr lvl="2" marL="636480" indent="-2062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Bitstream Vera Sans"/>
                <a:ea typeface="ＭＳ Ｐゴシック"/>
              </a:rPr>
              <a:t>Barry, Al, Tom</a:t>
            </a:r>
            <a:endParaRPr b="0" lang="en-US" sz="2500" spc="-1" strike="noStrike">
              <a:solidFill>
                <a:srgbClr val="ffffcc"/>
              </a:solidFill>
              <a:latin typeface="Bitstream Vera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Slide Number Placeholder 5"/>
          <p:cNvSpPr/>
          <p:nvPr/>
        </p:nvSpPr>
        <p:spPr>
          <a:xfrm>
            <a:off x="7226280" y="6886440"/>
            <a:ext cx="233532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1400"/>
            </a:br>
            <a:fld id="{66EA19A4-2DAC-4D83-8448-FBB2D21108DD}" type="slidenum">
              <a:rPr b="0" lang="en-GB" sz="1200" spc="-1" strike="noStrike">
                <a:solidFill>
                  <a:srgbClr val="000000"/>
                </a:solidFill>
                <a:latin typeface="Bitstream Vera Sans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Bitstream Vera Sans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ext Steps</a:t>
            </a: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74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ans"/>
            </a:endParaRPr>
          </a:p>
        </p:txBody>
      </p:sp>
      <p:sp>
        <p:nvSpPr>
          <p:cNvPr id="75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ans"/>
            </a:endParaRPr>
          </a:p>
        </p:txBody>
      </p:sp>
      <p:sp>
        <p:nvSpPr>
          <p:cNvPr id="76" name="AutoShape 1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ans"/>
            </a:endParaRPr>
          </a:p>
        </p:txBody>
      </p:sp>
      <p:sp>
        <p:nvSpPr>
          <p:cNvPr id="77" name="AutoShape 1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ans"/>
            </a:endParaRPr>
          </a:p>
        </p:txBody>
      </p:sp>
      <p:sp>
        <p:nvSpPr>
          <p:cNvPr id="78" name="Rectangle 8"/>
          <p:cNvSpPr/>
          <p:nvPr/>
        </p:nvSpPr>
        <p:spPr>
          <a:xfrm>
            <a:off x="239760" y="1733400"/>
            <a:ext cx="944892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Bitstream Vera Sans"/>
              </a:rPr>
              <a:t>Work left to do</a:t>
            </a:r>
            <a:endParaRPr b="0" lang="en-US" sz="2500" spc="-1" strike="noStrike">
              <a:solidFill>
                <a:srgbClr val="ffffcc"/>
              </a:solidFill>
              <a:latin typeface="Bitstream Vera Sans"/>
            </a:endParaRPr>
          </a:p>
          <a:p>
            <a:pPr lvl="1" marL="420840" indent="-2113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Bitstream Vera Sans"/>
                <a:ea typeface="ＭＳ Ｐゴシック"/>
              </a:rPr>
              <a:t>Incorporate feedback from Bill Cerveney and Al from just prior to BMWG meeting in Vancouver</a:t>
            </a:r>
            <a:endParaRPr b="0" lang="en-US" sz="2500" spc="-1" strike="noStrike">
              <a:solidFill>
                <a:srgbClr val="ffffcc"/>
              </a:solidFill>
              <a:latin typeface="Bitstream Vera Sans"/>
            </a:endParaRPr>
          </a:p>
          <a:p>
            <a:pPr lvl="1" marL="420840" indent="-2113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Bitstream Vera Sans"/>
                <a:ea typeface="ＭＳ Ｐゴシック"/>
              </a:rPr>
              <a:t>Incorporate feedback from Aamer from Paris</a:t>
            </a:r>
            <a:endParaRPr b="0" lang="en-US" sz="2500" spc="-1" strike="noStrike">
              <a:solidFill>
                <a:srgbClr val="ffffcc"/>
              </a:solidFill>
              <a:latin typeface="Bitstream Vera Sans"/>
            </a:endParaRPr>
          </a:p>
          <a:p>
            <a:pPr lvl="1" marL="420840" indent="-2113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Bitstream Vera Sans"/>
                <a:ea typeface="ＭＳ Ｐゴシック"/>
              </a:rPr>
              <a:t>Submit terminology draft</a:t>
            </a:r>
            <a:endParaRPr b="0" lang="en-US" sz="2500" spc="-1" strike="noStrike">
              <a:solidFill>
                <a:srgbClr val="ffffcc"/>
              </a:solidFill>
              <a:latin typeface="Bitstream Vera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8T08:01:51Z</dcterms:created>
  <dc:creator/>
  <dc:description/>
  <cp:keywords>IETF NETCONF</cp:keywords>
  <dc:language>en-US</dc:language>
  <cp:lastModifiedBy>Mike Hamilton</cp:lastModifiedBy>
  <dcterms:modified xsi:type="dcterms:W3CDTF">2012-08-02T23:30:43Z</dcterms:modified>
  <cp:revision>82</cp:revision>
  <dc:subject/>
  <dc:title>NETCONF @IETF70 - Agenda slides</dc:title>
</cp:coreProperties>
</file>