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8764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02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  <a:defRPr b="0" lang="en-GB" sz="13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0150C8D6-D1FC-40C5-BF95-B5AF9604EA19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945049EC-2645-4A74-B357-4EC8A7C2BE77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FC32E6E4-9DEB-40D8-95AA-C17E0755B631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3BDE45F4-B1D2-453F-83B8-1A627A1E58FE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4140360" y="9120240"/>
            <a:ext cx="3162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3440"/>
                <a:tab algn="l" pos="866880"/>
                <a:tab algn="l" pos="1301760"/>
                <a:tab algn="l" pos="1735200"/>
                <a:tab algn="l" pos="2168640"/>
                <a:tab algn="l" pos="2602080"/>
                <a:tab algn="l" pos="3036960"/>
                <a:tab algn="l" pos="3470400"/>
                <a:tab algn="l" pos="3903840"/>
                <a:tab algn="l" pos="4336920"/>
                <a:tab algn="l" pos="4770360"/>
                <a:tab algn="l" pos="5205240"/>
                <a:tab algn="l" pos="5638680"/>
                <a:tab algn="l" pos="6072120"/>
                <a:tab algn="l" pos="6505560"/>
                <a:tab algn="l" pos="6940440"/>
                <a:tab algn="l" pos="7373880"/>
                <a:tab algn="l" pos="7807320"/>
                <a:tab algn="l" pos="8240760"/>
                <a:tab algn="l" pos="867564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fld id="{09209909-1218-4041-93D6-CC7E1C2D578D}" type="slidenum">
              <a:rPr b="0" lang="en-GB" sz="13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20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65D-0A51-4032-B2FC-CE179DA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00A-313B-48F1-ACAF-85E383F4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100-1D0F-4959-85B6-0A82E6C8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637-A6E9-4C7D-B8F2-96AA736C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956-F3AC-4085-977D-95A3855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6CB-5043-46AF-8616-77E91B25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298-8D8C-4451-B44C-A797C3F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504-788E-4636-9A0C-EEE4ACB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567-9374-4B90-A6B2-315C80E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EBC-B917-4B34-A5FA-18FAFDE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EC-7376-4108-9E2A-AB93841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FE5-52F3-4788-8CF4-2748540C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2480" indent="-282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4120" indent="-212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16120" indent="-204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47760" indent="-206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2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IETF #74 - NETCONF WG session</a:t>
            </a:r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fld id="{F1970AFB-69AD-402C-B099-ABD9CFE628CE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hamilton@breakingpoin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6B143535-8090-4E1B-ABAD-076955111E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66024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ntent-Aware Device Benchmarking Methodology/Terminology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draft-ietf-bmwg-ca-bench-meth-0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15532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MWG Meeting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ETF-84 Vancouver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July 201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Mike Hamilton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mhamilton@breakingpoint.com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BreakingPoint Systems</a:t>
            </a:r>
            <a:endParaRPr b="0" lang="en-US" sz="25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9B897CB4-A0B1-4E7C-A3CF-190FE83FBCF1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39760" y="1733400"/>
            <a:ext cx="944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Do we need to define the specific flows?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Utilize industry-specific resources, i.e. Sandvine traffic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53845F3A-57D6-47AD-BD57-4A7780011531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Updat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9760" y="1733400"/>
            <a:ext cx="94489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Resolved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Traffic Composition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 a single protocol within the mix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an we? 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Malformed traffic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3" marL="852480" indent="-212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How to define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4" marL="1068480" indent="-208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pen-source TCP/IP/UDP(sic)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Comments from (before) IETF 82/83/84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2" marL="63648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Barry, Al, Tom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7226280" y="6886440"/>
            <a:ext cx="2335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fld id="{150ADAE6-598D-413C-87F2-176C6FE85B2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an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39760" y="1733400"/>
            <a:ext cx="94489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Work left to do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feedback from Bill Cerveney and Al from just prior to BMWG meeting in Vancouver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Incorporate feedback from Aamer from Paris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Submit terminology draft</a:t>
            </a:r>
            <a:endParaRPr b="0" lang="en-US" sz="2500" spc="-1" strike="noStrike">
              <a:solidFill>
                <a:srgbClr val="ffffcc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01:51Z</dcterms:created>
  <dc:creator/>
  <dc:description/>
  <cp:keywords>IETF NETCONF</cp:keywords>
  <dc:language>en-US</dc:language>
  <cp:lastModifiedBy>Mike Hamilton</cp:lastModifiedBy>
  <dcterms:modified xsi:type="dcterms:W3CDTF">2012-08-02T23:30:43Z</dcterms:modified>
  <cp:revision>82</cp:revision>
  <dc:subject/>
  <dc:title>NETCONF @IETF70 - Agenda slides</dc:title>
</cp:coreProperties>
</file>