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038-28F8-4262-92F9-8636B90B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54C-7C0F-43BC-B383-2E35089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C25-9965-404F-88B9-37685295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F8F-DC24-4D4F-8F22-DB4C5CBB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3A9-695F-4347-9E83-F98D035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EE5-9881-45A3-9E3B-D3C2335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B34-7C28-4C79-9B12-74FCDB6A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C85-CB97-4FCA-9034-60185956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CCD-6A57-4194-9F53-EF0E26B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6C7-5CEB-4705-885F-75F78C6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59B-FC24-416D-804D-C0EFD04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D4E-02B8-4339-A2B9-07350AC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A027-EB64-465C-9DB9-5BCCA9463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4:46:23Z</dcterms:created>
  <dc:creator>Daniele Ceccarelli</dc:creator>
  <dc:description/>
  <dc:language>en-US</dc:language>
  <cp:lastModifiedBy>Daniele Ceccarelli</cp:lastModifiedBy>
  <dcterms:modified xsi:type="dcterms:W3CDTF">2012-07-23T14:46:47Z</dcterms:modified>
  <cp:revision>1</cp:revision>
  <dc:subject/>
  <dc:title>CCAMP</dc:title>
</cp:coreProperties>
</file>