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E67-2836-4D41-8B5C-ED23D28D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CAA-94C8-4A1F-AB35-DCB04478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989-1B5C-4F80-841C-70D00937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3A9-BC3D-475F-A51B-C47681C9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4D0-1209-401C-9EE6-91BC9773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A82-FE93-4647-A21E-74144A93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AB8-94C0-406E-939B-74D59918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0AF-A90D-4B07-9930-82C847E2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83A-E1A0-4C84-8207-4CC86E5A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F24-845D-43CC-AF75-BD11C99D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657-7120-49FD-B744-AB535E71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1CF-90D8-4CF0-9445-38587E46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F2DD-3EEA-4D18-9132-3774E28DA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14:46:23Z</dcterms:created>
  <dc:creator>Daniele Ceccarelli</dc:creator>
  <dc:description/>
  <dc:language>en-US</dc:language>
  <cp:lastModifiedBy>Daniele Ceccarelli</cp:lastModifiedBy>
  <dcterms:modified xsi:type="dcterms:W3CDTF">2012-07-23T14:46:47Z</dcterms:modified>
  <cp:revision>1</cp:revision>
  <dc:subject/>
  <dc:title>CCAMP</dc:title>
</cp:coreProperties>
</file>