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C49498-F8B9-407E-B9B2-12A12502777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2364E-E16B-47D4-A82D-A2BC4E5AF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19220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DA72C-9D79-409B-AA9D-6B941CDA2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352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C9C57-41C6-42AD-A8EE-D2621BE4B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280" y="19807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1360" y="19807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1922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280" y="41922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1360" y="41922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D67FC-8155-446F-9153-78748FAE8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7F64C-1EF5-42BA-9D1B-DFA38692F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81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DE21D-F752-4141-BE57-B7ECDBCFE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8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24398-5498-4783-81EF-ED9C2CCFF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82300-6087-4E60-BA05-DD66B6A7B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430D5-ED52-4787-9574-0958A42AB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25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BA324-5F9B-4B10-9990-113E6E6CF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51160-A2D0-4D36-B1D0-BFB23FAE6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81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6ACED-1354-4EB0-BFB6-3AB1708F7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352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6B431-E40C-4288-9323-A4AE20422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19220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24CBA-A355-4236-895C-562AEF4E3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19220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0BB43-B23D-4F08-A7A8-0ED6FD15A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352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284F9-04D4-4968-8DE9-BA50B4E01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280" y="19807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1360" y="19807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1922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280" y="41922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1360" y="41922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B9623-7BC6-421B-8A3C-9114733E1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8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08B30-0761-4605-B34E-A21F4F646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A31C5-00C8-4222-BFF0-6B315460C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7EBB7-7216-4A8B-B158-33E3D34DA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25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1F288-2894-4150-9FCD-89C1004C4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3AD4B-4BEC-4612-97B9-76F6BD455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352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ED589-E864-49F8-8169-6742E45FC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9220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4DC0B-9B1D-4483-A6EA-74E62B8A0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020BCFF-C97C-4A83-BB4B-C93C56711156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2200" cy="544680"/>
            <a:chOff x="0" y="0"/>
            <a:chExt cx="9142200" cy="54468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480" cy="532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560" y="134640"/>
              <a:ext cx="8729640" cy="273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320" y="134640"/>
              <a:ext cx="137520" cy="1404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200" y="0"/>
              <a:ext cx="139320" cy="1375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200" y="134640"/>
              <a:ext cx="139320" cy="140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320" y="273600"/>
              <a:ext cx="136080" cy="1375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400" y="136080"/>
              <a:ext cx="140760" cy="1375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320" y="270720"/>
              <a:ext cx="137520" cy="1375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320" y="408600"/>
              <a:ext cx="136080" cy="13608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8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2200" cy="6856560"/>
            <a:chOff x="0" y="0"/>
            <a:chExt cx="9142200" cy="685656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460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5760" y="1690200"/>
              <a:ext cx="7426440" cy="25329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320"/>
              <a:ext cx="2864520" cy="3155040"/>
              <a:chOff x="0" y="1066320"/>
              <a:chExt cx="2864520" cy="3155040"/>
            </a:xfrm>
          </p:grpSpPr>
          <p:sp>
            <p:nvSpPr>
              <p:cNvPr id="55" name=""/>
              <p:cNvSpPr/>
              <p:nvPr/>
            </p:nvSpPr>
            <p:spPr>
              <a:xfrm>
                <a:off x="572400" y="3580920"/>
                <a:ext cx="575640" cy="6404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4680" y="1689480"/>
                <a:ext cx="573840" cy="642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79520" y="1066320"/>
                <a:ext cx="585000" cy="6343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0480" y="3580920"/>
                <a:ext cx="583200" cy="6404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79520" y="1689480"/>
                <a:ext cx="585000" cy="642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0480" y="2322720"/>
                <a:ext cx="583200" cy="6325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2720"/>
                <a:ext cx="581760" cy="6325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4680" y="2322720"/>
                <a:ext cx="573840" cy="6325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2400" y="2946240"/>
                <a:ext cx="575640" cy="6436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0480" y="2946240"/>
                <a:ext cx="583200" cy="6436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8DB6DEB-A365-4328-93A0-0AE5E328D35B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440" y="1828800"/>
            <a:ext cx="6018120" cy="22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440" y="1828800"/>
            <a:ext cx="5776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MP Test Messages Extensions for Evolutive OT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0" y="443664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draft-ceccarelli-ccamp-gmpls-g709-lmp-test-0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宋体"/>
              </a:rPr>
              <a:t>CCAMP WG, IETF 84</a:t>
            </a:r>
            <a:r>
              <a:rPr b="0" lang="en-US" sz="34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th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宋体"/>
              </a:rPr>
              <a:t> Vancouv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Authors/Contribu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it-IT" sz="2800" spc="-1" strike="noStrike" u="sng">
                <a:solidFill>
                  <a:srgbClr val="000000"/>
                </a:solidFill>
                <a:uFillTx/>
                <a:latin typeface="Arial"/>
              </a:rPr>
              <a:t>Daniele Ceccarel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daniele.ceccarelli@ericsson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Arial"/>
              </a:rPr>
              <a:t>Diego Cavig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diego.caviglia@ericsson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Arial"/>
              </a:rPr>
              <a:t>Francesco Fondel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francesco.fondelli@ericsson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Arial"/>
              </a:rPr>
              <a:t>Fatai Zha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zhangfatai@huawei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Arial"/>
              </a:rPr>
              <a:t>Dan 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danli@huawei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Arial"/>
              </a:rPr>
              <a:t>Dieter Be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dieter.beller@alcatel-lucen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016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98320"/>
            <a:ext cx="8229600" cy="52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Recap up to -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Link Connectivity Verification [RFC4204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EGIN_VERIFY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race Moni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宋体"/>
              </a:rPr>
              <a:t>New TRACE object for G709v3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宋体"/>
              </a:rPr>
              <a:t>Discovery response message for Layer Adjacency discover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hanges from -03 to -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Link Connectivity Ver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n band transmission of test messages over data link to verify physical connectivity, discover DP resources, exchanged IF_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Aft>
                <a:spcPts val="1749"/>
              </a:spcAft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egin Verify Class: [RFC4204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476360" y="3429000"/>
            <a:ext cx="6408720" cy="2664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19280" y="4797360"/>
            <a:ext cx="1440000" cy="28728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716360" y="4797360"/>
            <a:ext cx="2951280" cy="28728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19280" y="5170320"/>
            <a:ext cx="6048360" cy="28764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Trace Monito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race Object Class: [RFC 4207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New C-Type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race Type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sed to identify the type of trace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ODU TTI, OTU TTI and 6 levels of T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race Mess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ncludes the value of the expected message to be received in-b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 valid length and value combinations are determined by the ITU.T G.709 recommen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258920" y="2309760"/>
            <a:ext cx="6337440" cy="196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overy Response Message for Layer Adjacency Discove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[G.7714.1] – Automatic layer adjacency discovery procedure applicable to G.709 OT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iscovery message sent via T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ppendix III of G.7714.1 describes how to send a discovery response message to the originator (“discovery agent”) via LM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eMonitor message [RFC4207] is used to convey the discovery response mess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0"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overy respons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 attribut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pping int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eMonito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 objects o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fields of the LMP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79280" y="4221000"/>
            <a:ext cx="5830920" cy="221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-03 to -0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宋体"/>
              </a:rPr>
              <a:t>Removed non normative signal typ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宋体"/>
              </a:rPr>
              <a:t>ODU3e1, ODU3e2 – G.sup43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宋体"/>
              </a:rPr>
              <a:t>LMP behavior negotiation update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OTN test bit in the BehaviorConfig (c-type=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O bit – Indicates support for the OTN specific test messages defined in this 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55640" y="3573360"/>
            <a:ext cx="7488360" cy="126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step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宋体"/>
              </a:rPr>
              <a:t>Keep on monitoring G.7714.1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宋体"/>
              </a:rPr>
              <a:t>G.709v3 OTN data plane stable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G.709v3 OTN control plane s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dopt as working group docu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134100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QUESTION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8360" y="4292640"/>
            <a:ext cx="822960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6T06:55:26Z</dcterms:created>
  <dc:creator>diego caviglia</dc:creator>
  <dc:description/>
  <dc:language>en-US</dc:language>
  <cp:lastModifiedBy>Daniele Ceccarelli</cp:lastModifiedBy>
  <dcterms:modified xsi:type="dcterms:W3CDTF">2012-07-25T14:54:42Z</dcterms:modified>
  <cp:revision>81</cp:revision>
  <dc:subject/>
  <dc:title>CCAMP WG IETF 69 </dc:title>
</cp:coreProperties>
</file>