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9C4D3-A47A-402C-80DD-DB84FCA5E1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AD5AC-24CE-41AA-A104-59A5EBBF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ABA20-0BD3-43B9-A52C-6859F9B6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16705-C52C-46CF-BD80-817C4498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64C33-54AB-4C0A-AF2E-B97637E5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3913-3F0A-4380-BFD2-21C4BA2A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17AF-BE33-42CD-8586-A8546ABE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3F76-10B6-45FA-A876-9BD90ECD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FE56-443B-4737-9EB6-DD619D2D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4627-3EF2-4067-AF70-72B3926E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2A75-D0FA-4291-A9BF-81AC9AF3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F39E-EAD1-4CB1-9DF8-623CE794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4D32B-F400-4936-9059-DECF8F5E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FED4-A682-4492-BDCE-A0FDB29F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A206-F45B-4E56-AB9D-CD555358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8109-AD8C-4CD5-A26A-CA2E6647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A61A-DA19-4624-A016-6CB4EEEA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66DC-6A16-49C9-9F03-1C622639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9888B-9EC0-4722-AA87-37DC0FEF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1486A-1E3F-4E83-A8E9-494A1D75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40627-97DE-4B69-9320-4588D527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0DF9-66AE-49CF-A259-8F6E3DBB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E54AB-D004-4819-A10E-2E6176D8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1BBB8-658B-4037-96DE-0294D564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65728-C511-45A7-97F0-64708FD7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807A18-FB47-4342-A1D8-D964DE6FB85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A8DA97B-CE0B-481A-B81A-C51CD1567FA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5776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MP Test Messages Extensions for Evolutive OT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4436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raft-ceccarelli-ccamp-gmpls-g709-lmp-test-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CCAMP WG, IETF 84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 Vancouv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uthors/Contribu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Daniele Ceccar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daniele.ceccarelli@ericsso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Diego Cavig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diego.caviglia@ericsso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Francesco Fond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francesco.fondelli@ericsso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Fatai Zh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zhangfatai@huawe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Dan 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danli@huawe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Dieter Be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dieter.beller@alcatel-lucen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822960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cap up to -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ink Connectivity Verification [RFC420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GIN_VERIFY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ce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New TRACE object for G709v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Discovery response message for Layer Adjacency discove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hanges from -03 to -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Link Connectivity Ver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 band transmission of test messages over data link to verify physical connectivity, discover DP resources, exchanged IF_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egin Verify Class: [RFC420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6408720" cy="2664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19280" y="4797360"/>
            <a:ext cx="1440000" cy="2872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4797360"/>
            <a:ext cx="2951280" cy="2872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5170320"/>
            <a:ext cx="6048360" cy="2876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Trace Monito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ce Object Class: [RFC 4207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ew C-Type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race Typ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d to identify the type of trace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DU TTI, OTU TTI and 6 levels of T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race Mess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cludes the value of the expected message to be received in-b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valid length and value combinations are determined by the ITU.T G.709 recomme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58920" y="2309760"/>
            <a:ext cx="6337440" cy="19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y Response Message for Layer Adjacency Disco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[G.7714.1] – Automatic layer adjacency discovery procedure applicable to G.709 OT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covery message sent via 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ppendix III of G.7714.1 describes how to send a discovery response message to the originator (“discovery agent”) via LM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Monitor message [RFC4207] is used to convey the discovery response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 respon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ttribu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in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Moni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objects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ields of the LM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4221000"/>
            <a:ext cx="583092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-03 to -0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Removed non normative signal typ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ODU3e1, ODU3e2 – G.sup4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LMP behavior negotiation updat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TN test bit in the BehaviorConfig (c-type=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 bit – Indicates support for the OTN specific test messages defined in this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7488360" cy="12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Keep on monitoring G.7714.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G.709v3 OTN data plane stabl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.709v3 OTN control plan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opt as working group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4292640"/>
            <a:ext cx="8229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6:55:26Z</dcterms:created>
  <dc:creator>diego caviglia</dc:creator>
  <dc:description/>
  <dc:language>en-US</dc:language>
  <cp:lastModifiedBy>Daniele Ceccarelli</cp:lastModifiedBy>
  <dcterms:modified xsi:type="dcterms:W3CDTF">2012-07-25T14:54:42Z</dcterms:modified>
  <cp:revision>81</cp:revision>
  <dc:subject/>
  <dc:title>CCAMP WG IETF 69 </dc:title>
</cp:coreProperties>
</file>