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0BD3-D6B0-4461-BAD9-61CC72AB1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754D-AA08-4EFE-A62A-A45A0FC0A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2322-9187-4DCA-92CE-970385E8C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itrary spectral resource can be allocated to a channel acceding to the signal bitrate leading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E513-E532-4AF7-B3C8-974CFB8B4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8AA-ACA8-4E56-9BA8-07FDCB33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889-46A9-404F-A13D-A08F68DD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659-6882-47C2-8679-F7815758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F0AD-CB92-4291-A322-F0929FBB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2BA-2D6E-4191-88DD-862EBE04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4166-06AB-4992-8147-D49FBF66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26B-B7DE-4DE1-A71B-B03AF9D9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A6D-1C11-4327-BE41-F57A1C49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1619-CAAF-4FEB-BF87-CC3B0529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731-4D02-4843-8232-4A91533A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7967-57B6-4B9F-9E3B-53ACBFFD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CBF-60C0-423F-8D7B-443F2B77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6412-F9FE-4354-89BD-AC28204EA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zhang-ccamp-mpls-tp-rsvpte-ext-tunnel-num-0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ools.ietf.org/wg/ccamp/draft-ietf-ccamp-mpls-tp-rsvpte-ext-associated-lsp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072800"/>
            <a:ext cx="7746840" cy="17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SVP-TE Extensions to Exchange MPLS-TP LSP Tunne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tsShapeName" hidden="1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5520" y="2965320"/>
            <a:ext cx="8028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AMP WG, IETF 84th, Vancou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draft-zhang-ccamp-mpls-tp-rsvpte-ext-tunnel-num-03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900680" y="5340240"/>
            <a:ext cx="40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Fei Zhang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/ Xiao Bao, Z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enkatesan  Mahalingam, De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Yunbin Xu, CA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49176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44440" y="1944720"/>
            <a:ext cx="855972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udgment of mis-connectivity defect (RFC6371/RFC642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/Z9 nodes compare the pre-stored Z9/A1 MEP ID and the received Z9/A1 MEP/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PLS-TP LSP_MEP_ID (RFC637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1-{Global_ID::Node_ID::Tunnel_Num::LSP_Nu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9-{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Global_ID::Node_ID::Tunnel_Num::LSP_Nu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201600" y="4589640"/>
            <a:ext cx="8218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 needs to know Z9-Tunnel_Num before receiving CV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C3473 only specifies the A1-Tunnel_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1040" y="1022040"/>
            <a:ext cx="682920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pdate from V02 to V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2086920"/>
            <a:ext cx="8661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pe: co-routed bidirectional L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The contents about the associated bidirectional LSP are moved o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will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ddressed in the draf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ea typeface="SimSun"/>
                <a:hlinkClick r:id="rId1"/>
              </a:rPr>
              <a:t>draft-ietf-ccamp-mpls-tp-rsvpte-ext-associated-ls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3445560"/>
            <a:ext cx="8661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oautho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Venkatesan Mahaling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Yunbin X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0" y="4818600"/>
            <a:ext cx="86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Adrian, Lou, John, Mach … for the involved discussions during the po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553680"/>
            <a:ext cx="71118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4960" y="1615680"/>
            <a:ext cx="84852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ed as a WG docu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n issue, not solved by any current documents like draft-ietf-ccamp-rsvp-te-mpls-tp-oam-ext or draft-ietf-ccamp-assoc-ext or draft-ietf-ccamp-mpls-tp-rsvpte-ext-associated-l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to be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632040" y="5584680"/>
            <a:ext cx="96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77760" y="4724280"/>
            <a:ext cx="63802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rian</dc:creator>
  <dc:description/>
  <dc:language>en-US</dc:language>
  <cp:lastModifiedBy>180962</cp:lastModifiedBy>
  <dcterms:modified xsi:type="dcterms:W3CDTF">2012-07-27T09:42:20Z</dcterms:modified>
  <cp:revision>6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sflag">
    <vt:lpwstr>1300955573</vt:lpwstr>
  </property>
</Properties>
</file>