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9286-599F-49DE-8E90-5BD8216B3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905D-03D1-4B78-8D6C-EBA95CEB1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2020-6278-4096-ADCB-6512968A6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itrary spectral resource can be allocated to a channel acceding to the signal bitrate leading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FBB4-C63A-4111-9694-47007EC9C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1A84-F03C-423D-94B3-C8B3AC42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4682-CD34-4930-8F2A-2D36ADA5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AD3-29E5-4EA7-A788-10EFC005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135-0ACF-4D42-A9CE-20419A6D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CD5-3D88-4778-8E80-773305CE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97A-414F-4146-816B-D6F95522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D4EC-0327-46D0-8E45-AB96CF3D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87AC-6A09-4E90-B4EE-1D081F63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A45-1FDE-46FC-96A6-7FA3394D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835-421F-48C8-9B45-C62F0315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3D8A-9DDB-4046-B368-D6ED31DB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A1D-9B9D-4257-BBB9-2D43C67B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0D14-86C9-4EE8-96DF-D48AB81EE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zhang-ccamp-mpls-tp-rsvpte-ext-tunnel-num-0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ools.ietf.org/wg/ccamp/draft-ietf-ccamp-mpls-tp-rsvpte-ext-associated-lsp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1072800"/>
            <a:ext cx="7746840" cy="17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SVP-TE Extensions to Exchange MPLS-TP LSP Tunne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tsShapeName" hidden="1"/>
          <p:cNvSpPr/>
          <p:nvPr/>
        </p:nvSpPr>
        <p:spPr>
          <a:xfrm>
            <a:off x="0" y="0"/>
            <a:ext cx="1440" cy="1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5520" y="2965320"/>
            <a:ext cx="8028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AMP WG, IETF 84th, Vancou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draft-zhang-ccamp-mpls-tp-rsvpte-ext-tunnel-num-03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900680" y="5340240"/>
            <a:ext cx="40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Fei Zhang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/ Xiao Bao, Z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Venkatesan  Mahalingam, De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Yunbin Xu, CA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49176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244440" y="1944720"/>
            <a:ext cx="855972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judgment of mis-connectivity defect (RFC6371/RFC642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/Z9 nodes compare the pre-stored Z9/A1 MEP ID and the received Z9/A1 MEP/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LS-TP LSP_MEP_ID (RFC637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1-{Global_ID::Node_ID::Tunnel_Num::LSP_Nu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9-{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Global_ID::Node_ID::Tunnel_Num::LSP_Nu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201600" y="4589640"/>
            <a:ext cx="8218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 needs to know Z9-Tunnel_Num before receiving CV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C3473 only specifies the A1-Tunnel_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1040" y="1022040"/>
            <a:ext cx="6829200" cy="4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pdate from V02 to V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2086920"/>
            <a:ext cx="8661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pe: co-routed bidirectional L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The contents about the associated bidirectional LSP are moved o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will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ddressed in the draf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ea typeface="SimSun"/>
                <a:hlinkClick r:id="rId1"/>
              </a:rPr>
              <a:t>draft-ietf-ccamp-mpls-tp-rsvpte-ext-associated-ls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3445560"/>
            <a:ext cx="8661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oautho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Venkatesan Mahaling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Yunbin X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0" y="4818600"/>
            <a:ext cx="86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Adrian, Lou, John, Mach … for the involved discussions during the po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553680"/>
            <a:ext cx="71118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4960" y="1615680"/>
            <a:ext cx="84852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ed as a WG docu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n issue, not solved by any current documents like draft-ietf-ccamp-rsvp-te-mpls-tp-oam-ext or draft-ietf-ccamp-assoc-ext or draft-ietf-ccamp-mpls-tp-rsvpte-ext-associated-l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to be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632040" y="5584680"/>
            <a:ext cx="96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77760" y="4724280"/>
            <a:ext cx="63802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rian</dc:creator>
  <dc:description/>
  <dc:language>en-US</dc:language>
  <cp:lastModifiedBy>180962</cp:lastModifiedBy>
  <dcterms:modified xsi:type="dcterms:W3CDTF">2012-07-27T09:42:20Z</dcterms:modified>
  <cp:revision>6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300955573</vt:lpwstr>
  </property>
</Properties>
</file>