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CBA-1219-4C21-83F9-84700CBC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684-74C6-41A5-9EBD-7844EBEA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843-E95F-4874-8C5E-9107ABAE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00A-3C9B-485D-B965-741D7CBF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750-ADF3-4E62-B9E3-C767420D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770-4251-403C-8583-5ED5E6A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CFA-87F1-41C7-AF72-52E0F387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D76-2970-4677-AB10-11CA2698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E18-38C6-4CAA-9DBD-4BEEE1A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215-5F12-428B-9484-3BC873EF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A81-27CB-4C47-AC24-5C16E327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735-413E-4F61-A0DF-3E764B1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21DF-8F53-4CCF-9827-29F655EEC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4:46:23Z</dcterms:created>
  <dc:creator>Daniele Ceccarelli</dc:creator>
  <dc:description/>
  <dc:language>en-US</dc:language>
  <cp:lastModifiedBy>Daniele Ceccarelli</cp:lastModifiedBy>
  <dcterms:modified xsi:type="dcterms:W3CDTF">2012-07-23T14:46:47Z</dcterms:modified>
  <cp:revision>1</cp:revision>
  <dc:subject/>
  <dc:title>CCAMP</dc:title>
</cp:coreProperties>
</file>