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E75F-BAC9-4742-96DA-42EB9707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D574-C972-4349-8CCA-261B2426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D044-5B16-433F-8705-6B2EC42F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F36C-AFE1-48F6-ACCA-F041C9B1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2960-0DAA-4CD7-9C4F-7052C4C7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7E9-8197-4BCE-AFC0-BE3D8A87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AD26-850D-413E-AA19-EC2CAEAC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31C-10EE-4F61-B767-4EC89C45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3BCF-DBDB-4485-9FCD-99540273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7C94-FE4C-4880-B724-BDA4820B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C920-D0F4-4C6A-8C95-A15A4A07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797E-789A-455A-B2D0-B417D782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79F9-4E7C-4759-ADF6-03D4CC80D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3T14:46:23Z</dcterms:created>
  <dc:creator>Daniele Ceccarelli</dc:creator>
  <dc:description/>
  <dc:language>en-US</dc:language>
  <cp:lastModifiedBy>Daniele Ceccarelli</cp:lastModifiedBy>
  <dcterms:modified xsi:type="dcterms:W3CDTF">2012-07-23T14:46:47Z</dcterms:modified>
  <cp:revision>1</cp:revision>
  <dc:subject/>
  <dc:title>CCAMP</dc:title>
</cp:coreProperties>
</file>