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5BDC1-0426-48C0-BFD8-64E39170D8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CBB91-2C56-497A-AEA2-1EC338D5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7AF1A-3016-4F41-8BD0-E7251AB0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DAC2-B481-4CF3-8487-5F33A0E8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73CE4-1FE5-49ED-AE16-8D539892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FA59-BF2C-41F3-9D3A-C8B3FE05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FE7D-22D6-4A91-B922-69046477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23CD-8E80-40AB-BC76-4B34821C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5280-CC98-4B0A-9B87-9FA6906D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A945-3BCA-48AD-AD3C-314D7E08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25DE-D0CD-4F60-8B9D-E838EB62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F2D9-34F8-4EE9-9303-ECFCDE51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FC3B-80CD-4AE7-A928-90CC1647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28AE-CAF3-4C44-B146-797FFAE7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B6C8-E6BB-48D9-A98C-49B3B32D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BA94-BBAD-412D-A28E-8CC93916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3ED9-17D4-49FA-91A0-BDE9D5DC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4CF1-91ED-40E4-850A-58B3722C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F4721-CC90-4161-80DF-460CEB42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801E-E9B2-4120-BE99-AAAE3106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D8856-E6DE-471A-BB95-F8BE47FA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3142-C6C2-4D74-B35D-3574FB5F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1C70-5F29-4D37-8995-5F5549A7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9D021-5553-4362-9C34-C879D917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11EF8-20D8-4C95-B832-0C114295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FB00A3-7C6D-41F5-B87A-A5F485222CB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DB3315-99C2-423D-A032-633642E8D1D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577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SPF-TE extensions for GMPLS Control of Evolving G.709 O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4436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raft-ietf-ccamp-gmpls-ospf-g709v3-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CCAMP WG, IETF 84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 Vancou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98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anges since IETF 8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om version -01 to 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om version -02 to -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rom version -01 to -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patibility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implementations of this document MUST support advertisements as defined in this doc and [RFC432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mplementations SHOULD support the configuration of which advertisement procedures are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ANA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witching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ndwidth TL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7416720" cy="74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42920" y="5602320"/>
            <a:ext cx="7129440" cy="10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rom version -02 to -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.1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different TSGs –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OD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me hierarchy but different TSG == NON HOMOGENEOUS 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1: ODU1-&gt;ODU2 – TSG = 1,25 G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2: ODU1-&gt;ODU2 – TSG = 2.5 G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Link bundling: homogeneous hierarch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3139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5014800"/>
            <a:ext cx="647640" cy="646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335400" y="45957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DU1@1,25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771280" y="4797360"/>
            <a:ext cx="576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68360" y="5589720"/>
            <a:ext cx="444600" cy="4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ing different switching caps for each ODU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RFC2119] language alignment here and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ype 2 (unres bandwidth for variable containers) and Type 3 (MAX LSP bandwidth for variable containers always used in tand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tend TSG fields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patibility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mogeneous hierarchy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ra switch cap routing addressed, inter switch cap out of ISCD scope but in IAC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01640" cy="698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701640" cy="698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79280" y="2637000"/>
            <a:ext cx="701640" cy="698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00160" y="3645000"/>
            <a:ext cx="701640" cy="698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79280" y="4221000"/>
            <a:ext cx="701640" cy="698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79280" y="5373720"/>
            <a:ext cx="701640" cy="698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79280" y="4746600"/>
            <a:ext cx="70164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for WG Last C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6:55:26Z</dcterms:created>
  <dc:creator>diego caviglia</dc:creator>
  <dc:description/>
  <dc:language>en-US</dc:language>
  <cp:lastModifiedBy>Daniele Ceccarelli</cp:lastModifiedBy>
  <dcterms:modified xsi:type="dcterms:W3CDTF">2012-07-25T13:11:46Z</dcterms:modified>
  <cp:revision>160</cp:revision>
  <dc:subject/>
  <dc:title>CCAMP WG IETF 69 </dc:title>
</cp:coreProperties>
</file>