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88E14-75EC-4AD2-B176-3852CD091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A217-BB0A-4E6D-9211-5164A048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9C43-EC46-4F72-837D-196C118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04D3-FE6E-4AAD-AA5F-891C2391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DBCB-2F28-4271-A81D-FDDA1C89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B004-6B5B-406A-8F4C-ABD0476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C518-6527-4E06-9EFE-307CF7D5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B969-A083-44E8-A7D1-7DB58366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733F-B8B6-4629-924F-551E780C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4C8F-E176-48B5-82F2-8F372240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668B-B1F5-4DD6-9521-026A078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CB30-624A-4404-9CAE-9FFA4F27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1BEA-8A7F-443B-AC1C-554148D0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9791-339D-4014-989B-34F991F1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A403-52C9-4028-A3C2-79BB05F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555F-D168-4D61-9870-02097603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D695-6DDB-475B-9EB5-CDFE1146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D3BF-3257-44AE-B3BD-F450ECA1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6ACF-9343-430E-88DB-97803E00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5CD7-CC0B-490B-8C0E-AA33AD4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6696-0C1D-410E-8DBF-7FD21154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D0A3-6034-450A-A52B-F351177B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F6BF-63C6-42D1-A81B-0F80686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DC51-4346-4927-998C-9C837C3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12AD-02DD-407A-AA38-D9B36155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B3FF3C-10AD-4437-9FF0-837373761C6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C6BA9F-7FB8-4E69-93D7-AB47DDF04AB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577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SPF-TE extensions for GMPLS Control of Evolving G.709 O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436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raft-ietf-ccamp-gmpls-ospf-g709v3-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CCAMP WG, IETF 84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 Vancou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anges since IETF 8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1 to 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2 to -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1 to -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atibility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implementations of this document MUST support advertisements as defined in this doc and [RFC432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plementations SHOULD support the configuration of which advertisement procedures are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ANA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witch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ndwidth TL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7416720" cy="74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42920" y="5602320"/>
            <a:ext cx="7129440" cy="10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rom version -02 to 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.1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different TSGs –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me hierarchy but different TSG == NON HOMOGENEOUS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1: ODU1-&gt;ODU2 – TSG = 1,25 G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2: ODU1-&gt;ODU2 – TSG = 2.5 G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ink bundling: homogeneous hierarch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31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50148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335400" y="4595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DU1@1,2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71280" y="4797360"/>
            <a:ext cx="576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8360" y="5589720"/>
            <a:ext cx="444600" cy="4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ing different switching caps for each ODU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RFC2119] language alignment here and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ype 2 (unres bandwidth for variable containers) and Type 3 (MAX LSP bandwidth for variable containers always used in tan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tend TSG fields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atibility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mogeneous hierarchy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ra switch cap routing addressed, inter switch cap out of ISCD scope but in IAC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00160" y="364500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79280" y="4221000"/>
            <a:ext cx="701640" cy="698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79280" y="5373720"/>
            <a:ext cx="701640" cy="698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280" y="4746600"/>
            <a:ext cx="70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Aft>
                <a:spcPts val="1749"/>
              </a:spcAft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for WG Last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6:55:26Z</dcterms:created>
  <dc:creator>diego caviglia</dc:creator>
  <dc:description/>
  <dc:language>en-US</dc:language>
  <cp:lastModifiedBy>Daniele Ceccarelli</cp:lastModifiedBy>
  <dcterms:modified xsi:type="dcterms:W3CDTF">2012-07-25T13:11:46Z</dcterms:modified>
  <cp:revision>160</cp:revision>
  <dc:subject/>
  <dc:title>CCAMP WG IETF 69 </dc:title>
</cp:coreProperties>
</file>