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35E-3C26-47DE-AE4C-48C9413B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F39-550E-4B1C-A8AD-9B3C12A7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33FA-C525-48C7-B8F1-75C8A2F8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0F3-1472-455F-876E-84A87C9F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F76-DB3E-4644-9BE0-07F404D8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F68-B46D-4A1C-9A79-209D778B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BDF-C3C4-4923-8741-4A7B8A7F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186B-9B4A-484D-BA02-FD29ED38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16E-57C3-42B2-B702-FBB0FC0B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C9F-D1BC-44BA-8A13-139D47C0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25E-72AD-43C3-9AD6-61B33FF4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4AD-FFDE-4979-AF3F-14F78FEB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  <a:ea typeface="Meiryo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Meiryo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  <a:ea typeface="Meiryo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Meiryo U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alibri"/>
                <a:ea typeface="Meiryo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9CAE-467D-4BC7-AC9E-F02D92751267}" type="slidenum">
              <a:rPr b="0" lang="de-DE" sz="1000" spc="-1" strike="noStrike">
                <a:solidFill>
                  <a:srgbClr val="000000"/>
                </a:solidFill>
                <a:latin typeface="Calibri"/>
                <a:ea typeface="Meiryo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ulti layer implications in GMPLS controlled networks</a:t>
            </a:r>
            <a:br>
              <a:rPr sz="2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br>
              <a:rPr sz="16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ft-bcg-ccamp-gmpls-ml-implications-01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. Ceccarelli, Ed., F. Fondelli (Ericss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. Belotti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. Papadimitrio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Ed. (Alcatel-Luc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ify WG interest in the work (progress this doc as analysis against req. docu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d the scope from just inter-switching capability MLNs to intra-switching capability ML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 working on processing and format/encoding (separate do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tiva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al moti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fly multi-layer traffic groo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brid packet (switching and regeneration pool) optical switch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ices exposing capabilities of hybrid interfaces connected to an "opaque" matr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ance motivations (tradeoff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o few routing info =&gt; crankback or resource mis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o much routing info (and signaled info) =&gt; crankback too (blocking resulting from dynami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733920" y="457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6629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4952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 Unicode MS"/>
              </a:rPr>
              <a:t>blocking pr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6172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 Unicode MS"/>
              </a:rPr>
              <a:t>#info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4876920"/>
            <a:ext cx="3429000" cy="1447560"/>
          </a:xfrm>
          <a:custGeom>
            <a:avLst/>
            <a:gdLst/>
            <a:ahLst/>
            <a:rect l="l" t="t" r="r" b="b"/>
            <a:pathLst>
              <a:path w="2160" h="912">
                <a:moveTo>
                  <a:pt x="0" y="0"/>
                </a:moveTo>
                <a:lnTo>
                  <a:pt x="384" y="0"/>
                </a:lnTo>
                <a:lnTo>
                  <a:pt x="768" y="912"/>
                </a:lnTo>
                <a:lnTo>
                  <a:pt x="912" y="912"/>
                </a:lnTo>
                <a:lnTo>
                  <a:pt x="1296" y="336"/>
                </a:lnTo>
                <a:lnTo>
                  <a:pt x="2160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justment poo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justment pool: pool of reservable and sharable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cated on demand/dynamically (for "intra-node" capability interconnection/relationshi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ther assigned to a single SC (single adjustment pool model) or multiple SC (multiple adjustment pool model) or possibly their comb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Two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pool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ltiple pool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gle Poo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42960" y="4548240"/>
            <a:ext cx="40813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part of OTH TE Link_1...N advertis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1 for 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cc00"/>
              </a:buClr>
              <a:buFont typeface="Calibri"/>
              <a:buChar char="–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Calibri"/>
                <a:ea typeface="ＭＳ Ｐゴシック"/>
              </a:rPr>
              <a:t>IACD sub_TLV 1 for OTH to 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2560" y="3719520"/>
            <a:ext cx="2468520" cy="3062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02440" y="4964040"/>
            <a:ext cx="99216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8017920" y="565776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ib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960680" y="63198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ib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37440" y="4533840"/>
            <a:ext cx="1038240" cy="53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31120" y="5526000"/>
            <a:ext cx="6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35640" y="4600440"/>
            <a:ext cx="10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HO-S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35640" y="3873600"/>
            <a:ext cx="10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2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5467320" y="6008400"/>
            <a:ext cx="882720" cy="314640"/>
          </a:xfrm>
          <a:prstGeom prst="flowChartManualOperation">
            <a:avLst/>
          </a:prstGeom>
          <a:solidFill>
            <a:srgbClr val="64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76800" y="6121440"/>
            <a:ext cx="2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76800" y="6254640"/>
            <a:ext cx="2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76800" y="6386400"/>
            <a:ext cx="2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76800" y="6518160"/>
            <a:ext cx="2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32240" y="605628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32240" y="618804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32240" y="631980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78280" y="56577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ib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78280" y="631980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ib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75680" y="413712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75680" y="466740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34160" y="413712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75680" y="539424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75680" y="486576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4160" y="4865760"/>
            <a:ext cx="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2000" y="413712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012000" y="466740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539424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486576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413712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4865760"/>
            <a:ext cx="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rot="16200000">
            <a:off x="7359840" y="6008400"/>
            <a:ext cx="882720" cy="314280"/>
          </a:xfrm>
          <a:prstGeom prst="flowChartManualOperation">
            <a:avLst/>
          </a:prstGeom>
          <a:solidFill>
            <a:srgbClr val="64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375680" y="612144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375680" y="625464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375680" y="638640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375680" y="651816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959600" y="605628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959600" y="618804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959600" y="631980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99200" y="4948200"/>
            <a:ext cx="0" cy="37476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88040" y="5327640"/>
            <a:ext cx="2048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92800" y="4600440"/>
            <a:ext cx="141480" cy="0"/>
          </a:xfrm>
          <a:prstGeom prst="line">
            <a:avLst/>
          </a:prstGeom>
          <a:ln w="255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4419720"/>
            <a:ext cx="2286000" cy="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57840" y="3462480"/>
            <a:ext cx="0" cy="355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89840" y="3462480"/>
            <a:ext cx="0" cy="355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5994360"/>
            <a:ext cx="2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76800" y="5867280"/>
            <a:ext cx="2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2440" y="599436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5040" y="588024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37440" y="5262480"/>
            <a:ext cx="1038240" cy="138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11800" y="4249800"/>
            <a:ext cx="0" cy="33660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00640" y="4591080"/>
            <a:ext cx="2048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16480" y="4257720"/>
            <a:ext cx="2048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37440" y="3807000"/>
            <a:ext cx="1038240" cy="528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35640" y="3914640"/>
            <a:ext cx="10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L2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67560" y="330048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43720" y="3462480"/>
            <a:ext cx="0" cy="355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48240" y="5667480"/>
            <a:ext cx="10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962520" y="5181480"/>
            <a:ext cx="2209680" cy="152640"/>
          </a:xfrm>
          <a:prstGeom prst="line">
            <a:avLst/>
          </a:prstGeom>
          <a:ln w="349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657600"/>
            <a:ext cx="46483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part of L2SC TE Link_1..N adverti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1 for L2S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IACD sub_TLV 1 for L2SC to 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4600" y="30654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TE Link_1..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186200"/>
            <a:ext cx="86104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Lower SC value of IACD sub-TLV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: set to SC value of ISCD sub-TLV associated to the interface getting access to adjustment p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Upper SC value of IACD sub-TLV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: set to SC capability of adjustment resource pool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LSP (upper) encoding set to 0xFF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=&gt; Model typically used when node exposes only capability associated to its I/O (nodes in same TE domain can still take into account adjustment capacity usage on that nod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5638320"/>
            <a:ext cx="4343400" cy="916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Capacity associated to IACD 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interconnection capacity between  interface X (L2SC or OTH) to Y = (HO-SDH/TD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ltiple poo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er SC value of IACD sub-TL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set to SC value of ISCD sub-TLV of the interface(s) that gets access to the adjustment poo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per SC value of IACD sub-TL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set to SC capability of adjustment pool itself wher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he "upper SC" value corresponds to at least one of the SC value associated to ISCD sub-TLV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702320" y="3541680"/>
            <a:ext cx="4212720" cy="3164040"/>
            <a:chOff x="4702320" y="3541680"/>
            <a:chExt cx="4212720" cy="3164040"/>
          </a:xfrm>
        </p:grpSpPr>
        <p:sp>
          <p:nvSpPr>
            <p:cNvPr id="120" name=""/>
            <p:cNvSpPr/>
            <p:nvPr/>
          </p:nvSpPr>
          <p:spPr>
            <a:xfrm>
              <a:off x="5556960" y="3541680"/>
              <a:ext cx="2466720" cy="3164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8040" y="3961800"/>
              <a:ext cx="1341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52040" y="4887720"/>
              <a:ext cx="123336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3040" y="5580720"/>
              <a:ext cx="9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ber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884000" y="6243840"/>
              <a:ext cx="97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ber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60400" y="5185440"/>
              <a:ext cx="1038600" cy="1388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60400" y="3730320"/>
              <a:ext cx="1038600" cy="52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60400" y="4457880"/>
              <a:ext cx="1038600" cy="5292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55160" y="545004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O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8960" y="4524120"/>
              <a:ext cx="104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HO-S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58960" y="3796560"/>
              <a:ext cx="104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L2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5391360" y="5932440"/>
              <a:ext cx="882000" cy="313560"/>
            </a:xfrm>
            <a:prstGeom prst="flowChartManualOperation">
              <a:avLst/>
            </a:prstGeom>
            <a:solidFill>
              <a:srgbClr val="64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00480" y="5791680"/>
              <a:ext cx="972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00480" y="5913000"/>
              <a:ext cx="15120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00480" y="6045120"/>
              <a:ext cx="2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00480" y="6177600"/>
              <a:ext cx="2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00480" y="6310080"/>
              <a:ext cx="2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00480" y="6442200"/>
              <a:ext cx="2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6640" y="597924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56640" y="611136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56640" y="624384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2320" y="5580720"/>
              <a:ext cx="97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ber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2320" y="6243840"/>
              <a:ext cx="97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ber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99000" y="4060800"/>
              <a:ext cx="2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99000" y="4590360"/>
              <a:ext cx="2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58560" y="4060800"/>
              <a:ext cx="0" cy="5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99000" y="5317920"/>
              <a:ext cx="2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9000" y="4788720"/>
              <a:ext cx="2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58560" y="4788720"/>
              <a:ext cx="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99000" y="386244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18480" y="3862440"/>
              <a:ext cx="0" cy="165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299000" y="551628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35680" y="4060800"/>
              <a:ext cx="3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935320" y="4590360"/>
              <a:ext cx="3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35680" y="5317920"/>
              <a:ext cx="3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35680" y="4788720"/>
              <a:ext cx="3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40920" y="386244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40920" y="3862440"/>
              <a:ext cx="0" cy="165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40920" y="551628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35680" y="4060800"/>
              <a:ext cx="0" cy="5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35680" y="4788720"/>
              <a:ext cx="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16200000">
              <a:off x="7284240" y="5932440"/>
              <a:ext cx="882000" cy="313560"/>
            </a:xfrm>
            <a:prstGeom prst="flowChartManualOperation">
              <a:avLst/>
            </a:prstGeom>
            <a:solidFill>
              <a:srgbClr val="64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7299000" y="6045120"/>
              <a:ext cx="2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299000" y="6177600"/>
              <a:ext cx="2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299000" y="6310080"/>
              <a:ext cx="2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299000" y="6442200"/>
              <a:ext cx="2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883640" y="597924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7883640" y="611136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7883640" y="624384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99000" y="551628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8040" y="3961800"/>
              <a:ext cx="0" cy="18298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52040" y="4887720"/>
              <a:ext cx="0" cy="1025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39760" y="5791680"/>
              <a:ext cx="1299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85760" y="5913000"/>
              <a:ext cx="20520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39760" y="3951000"/>
              <a:ext cx="0" cy="18406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85760" y="4887720"/>
              <a:ext cx="0" cy="1025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84440" y="4171320"/>
              <a:ext cx="11901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73640" y="4160160"/>
              <a:ext cx="0" cy="374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62840" y="4524120"/>
              <a:ext cx="1407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85760" y="4160160"/>
              <a:ext cx="0" cy="374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55800" y="4524120"/>
              <a:ext cx="1404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85760" y="4160160"/>
              <a:ext cx="0" cy="37440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45000" y="4171320"/>
              <a:ext cx="140760" cy="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55800" y="4524120"/>
              <a:ext cx="140400" cy="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73640" y="4160160"/>
              <a:ext cx="0" cy="37440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62840" y="4171320"/>
              <a:ext cx="140760" cy="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17200" y="4524120"/>
              <a:ext cx="140400" cy="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25480" y="4169880"/>
              <a:ext cx="1731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86200" y="4038480"/>
            <a:ext cx="2286000" cy="30492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3583080"/>
            <a:ext cx="448308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part of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 Link_1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dvertisement (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Fiber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IACD sub_TLV 1 for L2SC to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1 for L2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2 for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3 for 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part of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 Link_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dvertisement (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Fiber 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1 for L2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2 for 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3 for 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ACD sub_TLV 1 for L2SC to 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2858400"/>
            <a:ext cx="8305920" cy="642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Capacity associated to </a:t>
            </a:r>
            <a:r>
              <a:rPr b="0" lang="de-DE" sz="1800" spc="-1" strike="noStrike">
                <a:solidFill>
                  <a:srgbClr val="0000ff"/>
                </a:solidFill>
                <a:latin typeface="Calibri"/>
                <a:ea typeface="Arial Unicode MS"/>
              </a:rPr>
              <a:t>IACD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interconnection capacity between pool HO-SDH/TDM and pool L2SC (accessed 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4648320"/>
            <a:ext cx="304812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ltiple poo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220760"/>
            <a:ext cx="448308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part of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 Link_1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dvertisement (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Fiber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1 for L2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2 for 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3 for 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IACD sub_TLV 1 for L2SC to 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cc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Calibri"/>
                <a:ea typeface="ＭＳ Ｐゴシック"/>
              </a:rPr>
              <a:t>IACD sub_TLV 2 for HO-SDH to 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part of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 Link_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dvertisement (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Fiber 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1 for L2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2 for 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CD sub_TLV 3 for 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ACD sub_TLV 1 for L2SC to HO-S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ACD sub_TLV 2 for HO-SDH to 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368960" y="1122480"/>
            <a:ext cx="5099760" cy="3830040"/>
            <a:chOff x="4368960" y="1122480"/>
            <a:chExt cx="5099760" cy="3830040"/>
          </a:xfrm>
        </p:grpSpPr>
        <p:sp>
          <p:nvSpPr>
            <p:cNvPr id="195" name=""/>
            <p:cNvSpPr/>
            <p:nvPr/>
          </p:nvSpPr>
          <p:spPr>
            <a:xfrm>
              <a:off x="5403600" y="1122480"/>
              <a:ext cx="2986200" cy="3830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8800" y="1631160"/>
              <a:ext cx="16239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23960" y="2752200"/>
              <a:ext cx="149328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8291520" y="3591000"/>
              <a:ext cx="117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ber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8221680" y="4393440"/>
              <a:ext cx="117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ber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55000" y="3112560"/>
              <a:ext cx="1257480" cy="1681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55000" y="1350720"/>
              <a:ext cx="1257480" cy="640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55000" y="2231640"/>
              <a:ext cx="1257480" cy="6408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90800" y="343260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O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53560" y="2311560"/>
              <a:ext cx="12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HO-S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53560" y="1431000"/>
              <a:ext cx="12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L2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5203080" y="4016520"/>
              <a:ext cx="1067760" cy="379800"/>
            </a:xfrm>
            <a:prstGeom prst="flowChartManualOperation">
              <a:avLst/>
            </a:prstGeom>
            <a:solidFill>
              <a:srgbClr val="64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0720" y="3846600"/>
              <a:ext cx="1180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0720" y="3993120"/>
              <a:ext cx="18324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40720" y="415332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0720" y="431388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40720" y="447372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40720" y="463392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19040" y="407340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19040" y="423360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19040" y="439344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68960" y="3591000"/>
              <a:ext cx="118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ber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68960" y="4393440"/>
              <a:ext cx="118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ber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12840" y="175104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12840" y="239184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26760" y="1751040"/>
              <a:ext cx="0" cy="6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12840" y="327276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12840" y="263196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26760" y="2631960"/>
              <a:ext cx="0" cy="64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12840" y="151092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41400" y="151092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512840" y="351288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62240" y="1751040"/>
              <a:ext cx="39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61880" y="2391840"/>
              <a:ext cx="39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2240" y="3272760"/>
              <a:ext cx="39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2240" y="2631960"/>
              <a:ext cx="39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26440" y="151092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26440" y="151092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6440" y="351288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62240" y="1751040"/>
              <a:ext cx="0" cy="6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62240" y="2631960"/>
              <a:ext cx="0" cy="64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rot="16200000">
              <a:off x="7495200" y="4016520"/>
              <a:ext cx="1067760" cy="379800"/>
            </a:xfrm>
            <a:prstGeom prst="flowChartManualOperation">
              <a:avLst/>
            </a:prstGeom>
            <a:solidFill>
              <a:srgbClr val="64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512840" y="415332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512840" y="43138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12840" y="447372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512840" y="463392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8220240" y="407340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8220240" y="423360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8220240" y="439344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12840" y="351288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58800" y="1631160"/>
              <a:ext cx="0" cy="2215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3960" y="2752200"/>
              <a:ext cx="0" cy="124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82760" y="3846600"/>
              <a:ext cx="1573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17600" y="3993120"/>
              <a:ext cx="24876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82760" y="1617840"/>
              <a:ext cx="0" cy="2228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17600" y="2752200"/>
              <a:ext cx="0" cy="124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63200" y="1884600"/>
              <a:ext cx="14410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50240" y="1871280"/>
              <a:ext cx="0" cy="4532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36920" y="2311560"/>
              <a:ext cx="1702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17600" y="1871280"/>
              <a:ext cx="0" cy="4532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60280" y="2311560"/>
              <a:ext cx="1699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17600" y="1871280"/>
              <a:ext cx="0" cy="45324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46960" y="1884600"/>
              <a:ext cx="170280" cy="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60280" y="2311560"/>
              <a:ext cx="169920" cy="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50240" y="1871280"/>
              <a:ext cx="0" cy="45324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36920" y="1884600"/>
              <a:ext cx="170280" cy="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02800" y="2311560"/>
              <a:ext cx="169920" cy="0"/>
            </a:xfrm>
            <a:prstGeom prst="line">
              <a:avLst/>
            </a:prstGeom>
            <a:ln w="255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302960" y="1883160"/>
              <a:ext cx="2095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V="1">
            <a:off x="3886200" y="2071800"/>
            <a:ext cx="2286000" cy="51912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2895480"/>
            <a:ext cx="2362320" cy="90720"/>
          </a:xfrm>
          <a:prstGeom prst="line">
            <a:avLst/>
          </a:prstGeom>
          <a:ln w="349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183360" y="3165480"/>
            <a:ext cx="950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84800" y="2793960"/>
            <a:ext cx="0" cy="380880"/>
          </a:xfrm>
          <a:prstGeom prst="line">
            <a:avLst/>
          </a:prstGeom>
          <a:ln w="349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8680" y="2803680"/>
            <a:ext cx="950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84800" y="2789280"/>
            <a:ext cx="0" cy="38088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473600" y="3165480"/>
            <a:ext cx="954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66120" y="2793960"/>
            <a:ext cx="0" cy="380880"/>
          </a:xfrm>
          <a:prstGeom prst="line">
            <a:avLst/>
          </a:prstGeom>
          <a:ln w="349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469280" y="2808360"/>
            <a:ext cx="950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66120" y="2798640"/>
            <a:ext cx="0" cy="38124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5295600"/>
            <a:ext cx="8077320" cy="11912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Capacity associated to </a:t>
            </a:r>
            <a:r>
              <a:rPr b="0" lang="de-DE" sz="1800" spc="-1" strike="noStrike">
                <a:solidFill>
                  <a:srgbClr val="0000ff"/>
                </a:solidFill>
                <a:latin typeface="Calibri"/>
                <a:ea typeface="Arial Unicode MS"/>
              </a:rPr>
              <a:t>IACD sub-TLV 1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interconnection capacity between pool HO-SDH/TDM and L2SC (accessed 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Capacity associated to </a:t>
            </a:r>
            <a:r>
              <a:rPr b="0" lang="de-DE" sz="1800" spc="-1" strike="noStrike">
                <a:solidFill>
                  <a:srgbClr val="00cc00"/>
                </a:solidFill>
                <a:latin typeface="Calibri"/>
                <a:ea typeface="Arial Unicode MS"/>
              </a:rPr>
              <a:t>IACD sub-TLV 2</a:t>
            </a:r>
            <a:r>
              <a:rPr b="0" lang="de-DE" sz="1800" spc="-1" strike="noStrike">
                <a:solidFill>
                  <a:srgbClr val="0000ff"/>
                </a:solidFill>
                <a:latin typeface="Calibri"/>
                <a:ea typeface="Arial Unicode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interconnection capacity between pool HO-SDH/TDM and OTH (accessed 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itional Requirements: 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317760" cy="2908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410080" y="2286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ODU2/T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22860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ODU1/T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3581280"/>
            <a:ext cx="2667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ODU3/T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472428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The relationship between IACD have to be maintained and advert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1406160"/>
            <a:ext cx="441972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Four different type of C/S scenarios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Signal type X to Signal type Y (1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Example: Ethernet over 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Signal type X to Intra switching technology Hierarchy Y (1:N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Example: Ethernet over O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Intra-switching technology Hierarchy X to Signal Type Y (M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Example: ODU over O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Intra-switching technology Hierarchy X to Intra switching technology Hierarchy Y (M: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Example: SDH over O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itional Requirements: 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317760" cy="2908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410080" y="2286000"/>
            <a:ext cx="2590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Single pool: ODU/T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4120" y="4724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The inner structure of the pool remains h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1406160"/>
            <a:ext cx="441972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Four different type of C/S scenarios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Signal type X to Signal type Y (1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Example: Ethernet over 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Signal type X to Intra switching technology Hierarchy Y (1:N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Example: Ethernet over O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Intra-switching technology Hierarchy X to Signal Type Y (M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Example: ODU over O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Intra-switching technology Hierarchy X to Intra switching technology Hierarchy Y (M: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Example: SDH over O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ck lis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 Capability to identify from which branch of X to which branch of Y the mapping is performed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 Adaptation information (e.g., type) from X to Y to be used in case of i) X mapped over Y and Y being switched or ii) both X and Y being switched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 Available bandwidth in the mapping between X and Y (as per actual IACD defini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 Capability to advertise intra-switching capability associated to internal interconn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 Capability to advertise inter-switching capability associated to internal interconnection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13:35:49Z</dcterms:created>
  <dc:creator>papadimitriou dimitri</dc:creator>
  <dc:description/>
  <dc:language>en-US</dc:language>
  <cp:lastModifiedBy>papadimitriou dimitri</cp:lastModifiedBy>
  <dcterms:modified xsi:type="dcterms:W3CDTF">2012-07-30T03:44:15Z</dcterms:modified>
  <cp:revision>9</cp:revision>
  <dc:subject/>
  <dc:title>Slide 1</dc:title>
</cp:coreProperties>
</file>