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AD06-F31E-4935-B73B-19B073F6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2D02-9321-4DFC-9460-B270574C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F9C4-6370-4FCD-9C93-5C5954B3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B639-C9E1-4ADD-A1C7-1BF0C2DB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5F6F-BE8D-4E3D-A268-8F13C3F9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DD0F-9E34-4A9F-9D37-AAB9E7BF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6757-F011-40F3-A8D4-F2C2607F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40B5-75DA-40A3-B737-1EE54CD7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1025-0312-4804-98EB-6386FDAA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1691-DE89-4B59-BDD5-B9B2021C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1CB9-D246-46DA-BFFF-74186D7A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73F3-2850-405B-84E6-AAA3B786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  <a:ea typeface="Meiryo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Meiryo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  <a:ea typeface="Meiryo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Meiryo UI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  <a:ea typeface="Meiryo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B8AC-2A40-412C-A32D-273D3DDF5691}" type="slidenum">
              <a:rPr b="0" lang="de-DE" sz="1000" spc="-1" strike="noStrike">
                <a:solidFill>
                  <a:srgbClr val="000000"/>
                </a:solidFill>
                <a:latin typeface="Calibri"/>
                <a:ea typeface="Meiryo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Multi layer implications in GMPLS controlled networks</a:t>
            </a:r>
            <a:br>
              <a:rPr sz="26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br>
              <a:rPr sz="16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ft-bcg-ccamp-gmpls-ml-implications-01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. Ceccarelli, Ed., F. Fondelli (Ericss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. Belotti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D. Papadimitriou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Ed. (Alcatel-Luce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ify WG interest in the work (progress this doc as analysis against req. docu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nd the scope from just inter-switching capability MLNs to intra-switching capability ML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 working on processing and format/encoding (separate do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tivation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ctional motiv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he fly multi-layer traffic groo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ybrid packet (switching and regeneration pool) optical switch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ices exposing capabilities of hybrid interfaces connected to an "opaque" matri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formance motivations (tradeoff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o few routing info =&gt; crankback or resource mis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o much routing info (and signaled info) =&gt; crankback too (blocking resulting from dynamic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733920" y="45716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66294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4952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Arial Unicode MS"/>
              </a:rPr>
              <a:t>blocking pr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6172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Arial Unicode MS"/>
              </a:rPr>
              <a:t>#info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4876920"/>
            <a:ext cx="3429000" cy="1447560"/>
          </a:xfrm>
          <a:custGeom>
            <a:avLst/>
            <a:gdLst/>
            <a:ahLst/>
            <a:rect l="l" t="t" r="r" b="b"/>
            <a:pathLst>
              <a:path w="2160" h="912">
                <a:moveTo>
                  <a:pt x="0" y="0"/>
                </a:moveTo>
                <a:lnTo>
                  <a:pt x="384" y="0"/>
                </a:lnTo>
                <a:lnTo>
                  <a:pt x="768" y="912"/>
                </a:lnTo>
                <a:lnTo>
                  <a:pt x="912" y="912"/>
                </a:lnTo>
                <a:lnTo>
                  <a:pt x="1296" y="336"/>
                </a:lnTo>
                <a:lnTo>
                  <a:pt x="2160" y="3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justment poo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justment pool: pool of reservable and sharable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ocated on demand/dynamically (for "intra-node" capability interconnection/relationshi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ither assigned to a single SC (single adjustment pool model) or multiple SC (multiple adjustment pool model) or possibly their comb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Two mod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gle pool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ltiple pool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ngle Poo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642960" y="4548240"/>
            <a:ext cx="40813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 part of OTH TE Link_1...N advertise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CD sub_TLV 1 for 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00cc00"/>
              </a:buClr>
              <a:buFont typeface="Calibri"/>
              <a:buChar char="–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Calibri"/>
                <a:ea typeface="ＭＳ Ｐゴシック"/>
              </a:rPr>
              <a:t>IACD sub_TLV 1 for OTH to HO-SD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2560" y="3719520"/>
            <a:ext cx="2468520" cy="30621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02440" y="4964040"/>
            <a:ext cx="99216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8017920" y="565776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Fib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960680" y="631980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Fib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37440" y="4533840"/>
            <a:ext cx="1038240" cy="530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31120" y="5526000"/>
            <a:ext cx="64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O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35640" y="4600440"/>
            <a:ext cx="104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HO-S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35640" y="3873600"/>
            <a:ext cx="104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2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5467320" y="6008400"/>
            <a:ext cx="882720" cy="314640"/>
          </a:xfrm>
          <a:prstGeom prst="flowChartManualOperation">
            <a:avLst/>
          </a:prstGeom>
          <a:solidFill>
            <a:srgbClr val="64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76800" y="6121440"/>
            <a:ext cx="26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76800" y="6254640"/>
            <a:ext cx="26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76800" y="6386400"/>
            <a:ext cx="26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76800" y="6518160"/>
            <a:ext cx="26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32240" y="605628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32240" y="618804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32240" y="631980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78280" y="56577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Fib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78280" y="631980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Fib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75680" y="4137120"/>
            <a:ext cx="258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75680" y="4667400"/>
            <a:ext cx="25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34160" y="4137120"/>
            <a:ext cx="0" cy="5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75680" y="5394240"/>
            <a:ext cx="25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75680" y="4865760"/>
            <a:ext cx="258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34160" y="4865760"/>
            <a:ext cx="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12000" y="4137120"/>
            <a:ext cx="3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012000" y="4667400"/>
            <a:ext cx="325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5394240"/>
            <a:ext cx="32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4865760"/>
            <a:ext cx="3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4137120"/>
            <a:ext cx="0" cy="5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2000" y="4865760"/>
            <a:ext cx="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rot="16200000">
            <a:off x="7359840" y="6008400"/>
            <a:ext cx="882720" cy="314280"/>
          </a:xfrm>
          <a:prstGeom prst="flowChartManualOperation">
            <a:avLst/>
          </a:prstGeom>
          <a:solidFill>
            <a:srgbClr val="64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7375680" y="6121440"/>
            <a:ext cx="25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375680" y="6254640"/>
            <a:ext cx="25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375680" y="6386400"/>
            <a:ext cx="25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7375680" y="6518160"/>
            <a:ext cx="25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7959600" y="605628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959600" y="618804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7959600" y="631980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99200" y="4948200"/>
            <a:ext cx="0" cy="37476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88040" y="5327640"/>
            <a:ext cx="20484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92800" y="4600440"/>
            <a:ext cx="141480" cy="0"/>
          </a:xfrm>
          <a:prstGeom prst="line">
            <a:avLst/>
          </a:prstGeom>
          <a:ln w="2556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4419720"/>
            <a:ext cx="2286000" cy="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57840" y="3462480"/>
            <a:ext cx="0" cy="3553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89840" y="3462480"/>
            <a:ext cx="0" cy="3553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76800" y="5994360"/>
            <a:ext cx="26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76800" y="5867280"/>
            <a:ext cx="26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2440" y="5994360"/>
            <a:ext cx="26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5040" y="5880240"/>
            <a:ext cx="26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37440" y="5262480"/>
            <a:ext cx="1038240" cy="138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11800" y="4249800"/>
            <a:ext cx="0" cy="33660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00640" y="4591080"/>
            <a:ext cx="20484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16480" y="4257720"/>
            <a:ext cx="20484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37440" y="3807000"/>
            <a:ext cx="1038240" cy="528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35640" y="3914640"/>
            <a:ext cx="104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L2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67560" y="330048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43720" y="3462480"/>
            <a:ext cx="0" cy="3553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48240" y="5667480"/>
            <a:ext cx="104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O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962520" y="5181480"/>
            <a:ext cx="2209680" cy="152640"/>
          </a:xfrm>
          <a:prstGeom prst="line">
            <a:avLst/>
          </a:prstGeom>
          <a:ln w="349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657600"/>
            <a:ext cx="46483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 part of L2SC TE Link_1..N advertis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CD sub_TLV 1 for L2S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IACD sub_TLV 1 for L2SC to HO-SD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4600" y="306540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TE Link_1..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1186200"/>
            <a:ext cx="861048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Lower SC value of IACD sub-TLV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: set to SC value of ISCD sub-TLV associated to the interface getting access to adjustment p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Upper SC value of IACD sub-TLV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: set to SC capability of adjustment resource pool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LSP (upper) encoding set to 0xFF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=&gt; Model typically used when node exposes only capability associated to its I/O (nodes in same TE domain can still take into account adjustment capacity usage on that nod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5638320"/>
            <a:ext cx="4343400" cy="916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Capacity associated to IACD 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interconnection capacity between  interface X (L2SC or OTH) to Y = (HO-SDH/TD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ltiple poo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wer SC value of IACD sub-TL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set to SC value of ISCD sub-TLV of the interface(s) that gets access to the adjustment poo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per SC value of IACD sub-TL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set to SC capability of adjustment pool itself where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The "upper SC" value corresponds to at least one of the SC value associated to ISCD sub-TLV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702320" y="3541680"/>
            <a:ext cx="4212720" cy="3164040"/>
            <a:chOff x="4702320" y="3541680"/>
            <a:chExt cx="4212720" cy="3164040"/>
          </a:xfrm>
        </p:grpSpPr>
        <p:sp>
          <p:nvSpPr>
            <p:cNvPr id="120" name=""/>
            <p:cNvSpPr/>
            <p:nvPr/>
          </p:nvSpPr>
          <p:spPr>
            <a:xfrm>
              <a:off x="5556960" y="3541680"/>
              <a:ext cx="2466720" cy="3164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8040" y="3961800"/>
              <a:ext cx="13413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52040" y="4887720"/>
              <a:ext cx="1233360" cy="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3040" y="5580720"/>
              <a:ext cx="9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Fiber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7884000" y="6243840"/>
              <a:ext cx="97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Fiber 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60400" y="5185440"/>
              <a:ext cx="1038600" cy="1388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60400" y="3730320"/>
              <a:ext cx="1038600" cy="52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60400" y="4457880"/>
              <a:ext cx="1038600" cy="5292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55160" y="5450040"/>
              <a:ext cx="64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O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58960" y="4524120"/>
              <a:ext cx="104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HO-S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58960" y="3796560"/>
              <a:ext cx="104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L2S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5391360" y="5932440"/>
              <a:ext cx="882000" cy="313560"/>
            </a:xfrm>
            <a:prstGeom prst="flowChartManualOperation">
              <a:avLst/>
            </a:prstGeom>
            <a:solidFill>
              <a:srgbClr val="64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00480" y="5791680"/>
              <a:ext cx="972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00480" y="5913000"/>
              <a:ext cx="151200" cy="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00480" y="6045120"/>
              <a:ext cx="25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00480" y="6177600"/>
              <a:ext cx="25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00480" y="6310080"/>
              <a:ext cx="25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00480" y="6442200"/>
              <a:ext cx="25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56640" y="597924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56640" y="611136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56640" y="624384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02320" y="5580720"/>
              <a:ext cx="97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Fiber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2320" y="6243840"/>
              <a:ext cx="97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Fiber 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99000" y="4060800"/>
              <a:ext cx="25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99000" y="4590360"/>
              <a:ext cx="25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58560" y="4060800"/>
              <a:ext cx="0" cy="5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99000" y="5317920"/>
              <a:ext cx="25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99000" y="4788720"/>
              <a:ext cx="25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58560" y="4788720"/>
              <a:ext cx="0" cy="5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99000" y="386244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18480" y="3862440"/>
              <a:ext cx="0" cy="165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7299000" y="551628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35680" y="4060800"/>
              <a:ext cx="3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5935320" y="4590360"/>
              <a:ext cx="3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35680" y="5317920"/>
              <a:ext cx="3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35680" y="4788720"/>
              <a:ext cx="3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40920" y="386244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40920" y="3862440"/>
              <a:ext cx="0" cy="165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40920" y="551628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35680" y="4060800"/>
              <a:ext cx="0" cy="5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35680" y="4788720"/>
              <a:ext cx="0" cy="5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rot="16200000">
              <a:off x="7284240" y="5932440"/>
              <a:ext cx="882000" cy="313560"/>
            </a:xfrm>
            <a:prstGeom prst="flowChartManualOperation">
              <a:avLst/>
            </a:prstGeom>
            <a:solidFill>
              <a:srgbClr val="64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7299000" y="6045120"/>
              <a:ext cx="25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7299000" y="6177600"/>
              <a:ext cx="25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7299000" y="6310080"/>
              <a:ext cx="25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7299000" y="6442200"/>
              <a:ext cx="25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883640" y="597924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7883640" y="611136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7883640" y="624384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99000" y="551628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98040" y="3961800"/>
              <a:ext cx="0" cy="18298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52040" y="4887720"/>
              <a:ext cx="0" cy="102528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39760" y="5791680"/>
              <a:ext cx="1299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85760" y="5913000"/>
              <a:ext cx="205200" cy="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39760" y="3951000"/>
              <a:ext cx="0" cy="18406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85760" y="4887720"/>
              <a:ext cx="0" cy="102528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84440" y="4171320"/>
              <a:ext cx="11901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73640" y="4160160"/>
              <a:ext cx="0" cy="3744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62840" y="4524120"/>
              <a:ext cx="1407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85760" y="4160160"/>
              <a:ext cx="0" cy="3744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55800" y="4524120"/>
              <a:ext cx="1404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85760" y="4160160"/>
              <a:ext cx="0" cy="374400"/>
            </a:xfrm>
            <a:prstGeom prst="line">
              <a:avLst/>
            </a:prstGeom>
            <a:ln w="25560">
              <a:solidFill>
                <a:srgbClr val="99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45000" y="4171320"/>
              <a:ext cx="140760" cy="0"/>
            </a:xfrm>
            <a:prstGeom prst="line">
              <a:avLst/>
            </a:prstGeom>
            <a:ln w="25560">
              <a:solidFill>
                <a:srgbClr val="99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55800" y="4524120"/>
              <a:ext cx="140400" cy="0"/>
            </a:xfrm>
            <a:prstGeom prst="line">
              <a:avLst/>
            </a:prstGeom>
            <a:ln w="25560">
              <a:solidFill>
                <a:srgbClr val="99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73640" y="4160160"/>
              <a:ext cx="0" cy="374400"/>
            </a:xfrm>
            <a:prstGeom prst="line">
              <a:avLst/>
            </a:prstGeom>
            <a:ln w="25560">
              <a:solidFill>
                <a:srgbClr val="99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62840" y="4171320"/>
              <a:ext cx="140760" cy="0"/>
            </a:xfrm>
            <a:prstGeom prst="line">
              <a:avLst/>
            </a:prstGeom>
            <a:ln w="25560">
              <a:solidFill>
                <a:srgbClr val="99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17200" y="4524120"/>
              <a:ext cx="140400" cy="0"/>
            </a:xfrm>
            <a:prstGeom prst="line">
              <a:avLst/>
            </a:prstGeom>
            <a:ln w="25560">
              <a:solidFill>
                <a:srgbClr val="99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125480" y="4169880"/>
              <a:ext cx="1731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886200" y="4038480"/>
            <a:ext cx="2286000" cy="30492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3583080"/>
            <a:ext cx="448308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 part of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 Link_1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dvertisement (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Fiber 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IACD sub_TLV 1 for L2SC to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HO-SD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CD sub_TLV 1 for L2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CD sub_TLV 2 for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HO-SD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CD sub_TLV 3 for 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 part of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 Link_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dvertisement (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Fiber 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CD sub_TLV 1 for L2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CD sub_TLV 2 for HO-SD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CD sub_TLV 3 for 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ACD sub_TLV 1 for L2SC to HO-SD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2858400"/>
            <a:ext cx="8305920" cy="6426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Capacity associated to </a:t>
            </a:r>
            <a:r>
              <a:rPr b="0" lang="de-DE" sz="1800" spc="-1" strike="noStrike">
                <a:solidFill>
                  <a:srgbClr val="0000ff"/>
                </a:solidFill>
                <a:latin typeface="Calibri"/>
                <a:ea typeface="Arial Unicode MS"/>
              </a:rPr>
              <a:t>IACD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interconnection capacity between pool HO-SDH/TDM and pool L2SC (accessed b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4648320"/>
            <a:ext cx="304812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ltiple poo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220760"/>
            <a:ext cx="4483080" cy="27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 part of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 Link_1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dvertisement (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Fiber 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CD sub_TLV 1 for L2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CD sub_TLV 2 for HO-SD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CD sub_TLV 3 for 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IACD sub_TLV 1 for L2SC to HO-SD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00"/>
              </a:spcBef>
              <a:buClr>
                <a:srgbClr val="00cc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Calibri"/>
                <a:ea typeface="ＭＳ Ｐゴシック"/>
              </a:rPr>
              <a:t>IACD sub_TLV 2 for HO-SDH to 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 part of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 Link_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dvertisement (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Fiber 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CD sub_TLV 1 for L2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CD sub_TLV 2 for HO-SD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CD sub_TLV 3 for 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ACD sub_TLV 1 for L2SC to HO-SD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ACD sub_TLV 2 for HO-SDH to 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368960" y="1122480"/>
            <a:ext cx="5099760" cy="3830040"/>
            <a:chOff x="4368960" y="1122480"/>
            <a:chExt cx="5099760" cy="3830040"/>
          </a:xfrm>
        </p:grpSpPr>
        <p:sp>
          <p:nvSpPr>
            <p:cNvPr id="195" name=""/>
            <p:cNvSpPr/>
            <p:nvPr/>
          </p:nvSpPr>
          <p:spPr>
            <a:xfrm>
              <a:off x="5403600" y="1122480"/>
              <a:ext cx="2986200" cy="3830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8800" y="1631160"/>
              <a:ext cx="16239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23960" y="2752200"/>
              <a:ext cx="1493280" cy="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8291520" y="3591000"/>
              <a:ext cx="117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Fiber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8221680" y="4393440"/>
              <a:ext cx="117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Fiber 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55000" y="3112560"/>
              <a:ext cx="1257480" cy="1681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55000" y="1350720"/>
              <a:ext cx="1257480" cy="640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55000" y="2231640"/>
              <a:ext cx="1257480" cy="6408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90800" y="343260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O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53560" y="2311560"/>
              <a:ext cx="12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HO-S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53560" y="1431000"/>
              <a:ext cx="12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L2S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5400000">
              <a:off x="5203080" y="4016520"/>
              <a:ext cx="1067760" cy="379800"/>
            </a:xfrm>
            <a:prstGeom prst="flowChartManualOperation">
              <a:avLst/>
            </a:prstGeom>
            <a:solidFill>
              <a:srgbClr val="64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0720" y="3846600"/>
              <a:ext cx="1180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40720" y="3993120"/>
              <a:ext cx="183240" cy="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40720" y="415332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0720" y="431388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40720" y="447372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40720" y="463392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19040" y="4073400"/>
              <a:ext cx="6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19040" y="4233600"/>
              <a:ext cx="6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19040" y="4393440"/>
              <a:ext cx="6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68960" y="3591000"/>
              <a:ext cx="118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Fiber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68960" y="4393440"/>
              <a:ext cx="118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Fiber 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12840" y="175104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12840" y="239184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26760" y="1751040"/>
              <a:ext cx="0" cy="64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12840" y="327276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12840" y="263196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26760" y="2631960"/>
              <a:ext cx="0" cy="64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12840" y="1510920"/>
              <a:ext cx="6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41400" y="1510920"/>
              <a:ext cx="0" cy="20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7512840" y="3512880"/>
              <a:ext cx="6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62240" y="1751040"/>
              <a:ext cx="39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861880" y="2391840"/>
              <a:ext cx="39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2240" y="3272760"/>
              <a:ext cx="39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62240" y="2631960"/>
              <a:ext cx="39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26440" y="1510920"/>
              <a:ext cx="6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26440" y="1510920"/>
              <a:ext cx="0" cy="20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26440" y="3512880"/>
              <a:ext cx="6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862240" y="1751040"/>
              <a:ext cx="0" cy="64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62240" y="2631960"/>
              <a:ext cx="0" cy="64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rot="16200000">
              <a:off x="7495200" y="4016520"/>
              <a:ext cx="1067760" cy="379800"/>
            </a:xfrm>
            <a:prstGeom prst="flowChartManualOperation">
              <a:avLst/>
            </a:prstGeom>
            <a:solidFill>
              <a:srgbClr val="64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512840" y="415332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512840" y="431388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512840" y="447372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7512840" y="463392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8220240" y="4073400"/>
              <a:ext cx="6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8220240" y="4233600"/>
              <a:ext cx="6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8220240" y="4393440"/>
              <a:ext cx="6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12840" y="3512880"/>
              <a:ext cx="6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58800" y="1631160"/>
              <a:ext cx="0" cy="2215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3960" y="2752200"/>
              <a:ext cx="0" cy="12409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82760" y="3846600"/>
              <a:ext cx="15732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17600" y="3993120"/>
              <a:ext cx="248760" cy="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82760" y="1617840"/>
              <a:ext cx="0" cy="22284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17600" y="2752200"/>
              <a:ext cx="0" cy="12409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163200" y="1884600"/>
              <a:ext cx="14410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50240" y="1871280"/>
              <a:ext cx="0" cy="4532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36920" y="2311560"/>
              <a:ext cx="1702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17600" y="1871280"/>
              <a:ext cx="0" cy="4532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60280" y="2311560"/>
              <a:ext cx="16992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17600" y="1871280"/>
              <a:ext cx="0" cy="453240"/>
            </a:xfrm>
            <a:prstGeom prst="line">
              <a:avLst/>
            </a:prstGeom>
            <a:ln w="25560">
              <a:solidFill>
                <a:srgbClr val="99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46960" y="1884600"/>
              <a:ext cx="170280" cy="0"/>
            </a:xfrm>
            <a:prstGeom prst="line">
              <a:avLst/>
            </a:prstGeom>
            <a:ln w="25560">
              <a:solidFill>
                <a:srgbClr val="99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60280" y="2311560"/>
              <a:ext cx="169920" cy="0"/>
            </a:xfrm>
            <a:prstGeom prst="line">
              <a:avLst/>
            </a:prstGeom>
            <a:ln w="25560">
              <a:solidFill>
                <a:srgbClr val="99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50240" y="1871280"/>
              <a:ext cx="0" cy="453240"/>
            </a:xfrm>
            <a:prstGeom prst="line">
              <a:avLst/>
            </a:prstGeom>
            <a:ln w="25560">
              <a:solidFill>
                <a:srgbClr val="99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136920" y="1884600"/>
              <a:ext cx="170280" cy="0"/>
            </a:xfrm>
            <a:prstGeom prst="line">
              <a:avLst/>
            </a:prstGeom>
            <a:ln w="25560">
              <a:solidFill>
                <a:srgbClr val="99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02800" y="2311560"/>
              <a:ext cx="169920" cy="0"/>
            </a:xfrm>
            <a:prstGeom prst="line">
              <a:avLst/>
            </a:prstGeom>
            <a:ln w="25560">
              <a:solidFill>
                <a:srgbClr val="99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7302960" y="1883160"/>
              <a:ext cx="20952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 flipV="1">
            <a:off x="3886200" y="2071800"/>
            <a:ext cx="2286000" cy="51912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9880" y="2895480"/>
            <a:ext cx="2362320" cy="90720"/>
          </a:xfrm>
          <a:prstGeom prst="line">
            <a:avLst/>
          </a:prstGeom>
          <a:ln w="349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183360" y="3165480"/>
            <a:ext cx="9504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84800" y="2793960"/>
            <a:ext cx="0" cy="380880"/>
          </a:xfrm>
          <a:prstGeom prst="line">
            <a:avLst/>
          </a:prstGeom>
          <a:ln w="349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178680" y="2803680"/>
            <a:ext cx="9504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84800" y="2789280"/>
            <a:ext cx="0" cy="380880"/>
          </a:xfrm>
          <a:prstGeom prst="line">
            <a:avLst/>
          </a:prstGeom>
          <a:ln w="349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473600" y="3165480"/>
            <a:ext cx="9540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566120" y="2793960"/>
            <a:ext cx="0" cy="380880"/>
          </a:xfrm>
          <a:prstGeom prst="line">
            <a:avLst/>
          </a:prstGeom>
          <a:ln w="349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7469280" y="2808360"/>
            <a:ext cx="9504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66120" y="2798640"/>
            <a:ext cx="0" cy="381240"/>
          </a:xfrm>
          <a:prstGeom prst="line">
            <a:avLst/>
          </a:prstGeom>
          <a:ln w="349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5295600"/>
            <a:ext cx="8077320" cy="11912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Capacity associated to </a:t>
            </a:r>
            <a:r>
              <a:rPr b="0" lang="de-DE" sz="1800" spc="-1" strike="noStrike">
                <a:solidFill>
                  <a:srgbClr val="0000ff"/>
                </a:solidFill>
                <a:latin typeface="Calibri"/>
                <a:ea typeface="Arial Unicode MS"/>
              </a:rPr>
              <a:t>IACD sub-TLV 1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interconnection capacity between pool HO-SDH/TDM and L2SC (accessed b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Capacity associated to </a:t>
            </a:r>
            <a:r>
              <a:rPr b="0" lang="de-DE" sz="1800" spc="-1" strike="noStrike">
                <a:solidFill>
                  <a:srgbClr val="00cc00"/>
                </a:solidFill>
                <a:latin typeface="Calibri"/>
                <a:ea typeface="Arial Unicode MS"/>
              </a:rPr>
              <a:t>IACD sub-TLV 2</a:t>
            </a:r>
            <a:r>
              <a:rPr b="0" lang="de-DE" sz="1800" spc="-1" strike="noStrike">
                <a:solidFill>
                  <a:srgbClr val="0000ff"/>
                </a:solidFill>
                <a:latin typeface="Calibri"/>
                <a:ea typeface="Arial Unicode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interconnection capacity between pool HO-SDH/TDM and OTH (accessed b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ditional Requirements: Exampl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3317760" cy="29080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410080" y="2286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ODU2/T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228600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ODU1/TD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3581280"/>
            <a:ext cx="2667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ODU3/T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4120" y="472428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The relationship between IACD have to be maintained and advert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1406160"/>
            <a:ext cx="4419720" cy="39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Four different type of C/S scenarios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Signal type X to Signal type Y (1: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Example: Ethernet over 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Signal type X to Intra switching technology Hierarchy Y (1:N)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Example: Ethernet over O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Intra-switching technology Hierarchy X to Signal Type Y (M: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Example: ODU over O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Intra-switching technology Hierarchy X to Intra switching technology Hierarchy Y (M: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Example: SDH over O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ditional Requirements: Exampl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3317760" cy="29080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410080" y="2286000"/>
            <a:ext cx="2590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Single pool: ODU/T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4120" y="47242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The inner structure of the pool remains hid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1406160"/>
            <a:ext cx="4419720" cy="39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Four different type of C/S scenarios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Signal type X to Signal type Y (1: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Example: Ethernet over 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Signal type X to Intra switching technology Hierarchy Y (1:N)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Example: Ethernet over O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Intra-switching technology Hierarchy X to Signal Type Y (M: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Example: ODU over O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Intra-switching technology Hierarchy X to Intra switching technology Hierarchy Y (M: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Example: SDH over O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eck lis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 Capability to identify from which branch of X to which branch of Y the mapping is performed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 Adaptation information (e.g., type) from X to Y to be used in case of i) X mapped over Y and Y being switched or ii) both X and Y being switched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 Available bandwidth in the mapping between X and Y (as per actual IACD defini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  Capability to advertise intra-switching capability associated to internal interconnec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 Capability to advertise inter-switching capability associated to internal interconnection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1T13:35:49Z</dcterms:created>
  <dc:creator>papadimitriou dimitri</dc:creator>
  <dc:description/>
  <dc:language>en-US</dc:language>
  <cp:lastModifiedBy>papadimitriou dimitri</cp:lastModifiedBy>
  <dcterms:modified xsi:type="dcterms:W3CDTF">2012-07-30T03:44:15Z</dcterms:modified>
  <cp:revision>9</cp:revision>
  <dc:subject/>
  <dc:title>Slide 1</dc:title>
</cp:coreProperties>
</file>