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 Bold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7BE6C-97B8-4FBB-B118-4E4FDF5084F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233BA-C8B7-4FC6-B75D-C4A52B29AE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F3217-E649-463C-BED3-370D303010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66D0B-C735-4CD1-8C05-A92B55F99D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773892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068120" y="4369320"/>
            <a:ext cx="773892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3001F-3C7C-44C3-BF9B-E8FFBE30FA6A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377640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033880" y="1981080"/>
            <a:ext cx="377640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1072800" y="0"/>
            <a:ext cx="7738920" cy="108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33880" y="1981080"/>
            <a:ext cx="377640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68120" y="436932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377640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03388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033880" y="436932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03388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1068120" y="4369320"/>
            <a:ext cx="773892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773892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1068120" y="4369320"/>
            <a:ext cx="773892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3388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068120" y="436932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5033880" y="436932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684600" y="198108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301080" y="198108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1068120" y="436932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684600" y="436932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301080" y="436932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3388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8120" y="436932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33880" y="436932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B4D21-B1EE-4163-BC01-DB528855F4BD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1068120" y="198108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377640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033880" y="1981080"/>
            <a:ext cx="377640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1072800" y="0"/>
            <a:ext cx="7738920" cy="108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033880" y="1981080"/>
            <a:ext cx="377640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068120" y="436932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377640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03388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033880" y="436932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03388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068120" y="4369320"/>
            <a:ext cx="773892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773892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1068120" y="4369320"/>
            <a:ext cx="773892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03388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1068120" y="436932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5033880" y="436932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84600" y="198108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01080" y="198108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068120" y="436932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84600" y="436932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01080" y="436932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01DFF-44D0-4076-A13C-377292BE2495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684600" y="198108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301080" y="198108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1068120" y="436932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684600" y="436932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301080" y="436932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1068120" y="198108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377640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033880" y="1981080"/>
            <a:ext cx="377640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1072800" y="0"/>
            <a:ext cx="7738920" cy="108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033880" y="1981080"/>
            <a:ext cx="377640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068120" y="436932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377640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03388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033880" y="436932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03388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068120" y="4369320"/>
            <a:ext cx="773892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773892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1068120" y="4369320"/>
            <a:ext cx="773892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503388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1068120" y="436932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5033880" y="436932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684600" y="198108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301080" y="198108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1068120" y="436932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684600" y="436932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301080" y="436932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1068120" y="198108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377640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5033880" y="1981080"/>
            <a:ext cx="377640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1072800" y="0"/>
            <a:ext cx="7738920" cy="108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033880" y="1981080"/>
            <a:ext cx="377640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068120" y="436932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68120" y="198108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377640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3388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033880" y="436932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03388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068120" y="4369320"/>
            <a:ext cx="773892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773892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1068120" y="4369320"/>
            <a:ext cx="773892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03388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1068120" y="436932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5033880" y="436932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684600" y="198108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301080" y="198108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1068120" y="436932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684600" y="436932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301080" y="436932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377640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33880" y="1981080"/>
            <a:ext cx="377640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072800" y="0"/>
            <a:ext cx="7738920" cy="108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33880" y="1981080"/>
            <a:ext cx="377640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068120" y="436932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068120" y="198108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8CCB4-BA22-484B-8D59-994689591A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377640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3388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033880" y="436932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3388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8120" y="4369320"/>
            <a:ext cx="773892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773892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1068120" y="4369320"/>
            <a:ext cx="773892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3388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68120" y="436932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033880" y="436932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684600" y="198108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301080" y="198108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1068120" y="436932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684600" y="436932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301080" y="436932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8120" y="198108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377640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33880" y="1981080"/>
            <a:ext cx="377640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FE16A-FF85-4975-A4C3-A209BA44E81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72800" y="0"/>
            <a:ext cx="7738920" cy="108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33880" y="1981080"/>
            <a:ext cx="377640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8120" y="436932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377640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3388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33880" y="436932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3388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8120" y="4369320"/>
            <a:ext cx="773892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773892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8120" y="4369320"/>
            <a:ext cx="773892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3388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8120" y="436932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33880" y="436932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84600" y="198108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01080" y="198108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8120" y="436932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84600" y="436932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01080" y="436932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068120" y="198108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377640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33880" y="1981080"/>
            <a:ext cx="377640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68AD0-A9F7-4992-927D-A2B086E4EDC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377640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033880" y="1981080"/>
            <a:ext cx="377640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1072800" y="0"/>
            <a:ext cx="7738920" cy="108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33880" y="1981080"/>
            <a:ext cx="377640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068120" y="436932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377640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3388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033880" y="436932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03388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068120" y="4369320"/>
            <a:ext cx="773892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773892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1068120" y="4369320"/>
            <a:ext cx="773892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3388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068120" y="436932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5033880" y="436932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684600" y="198108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301080" y="198108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1068120" y="436932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684600" y="436932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301080" y="436932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E9708-BB03-4082-9025-96A15DBCB15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068120" y="198108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377640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33880" y="1981080"/>
            <a:ext cx="377640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1072800" y="0"/>
            <a:ext cx="7738920" cy="108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033880" y="1981080"/>
            <a:ext cx="377640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068120" y="436932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377640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03388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033880" y="436932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03388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068120" y="4369320"/>
            <a:ext cx="773892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773892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1068120" y="4369320"/>
            <a:ext cx="773892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3388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068120" y="436932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5033880" y="436932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072800" y="0"/>
            <a:ext cx="7738920" cy="108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96F44-A992-4E3C-ACED-6EDFF8FD121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684600" y="198108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301080" y="198108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1068120" y="436932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684600" y="436932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301080" y="436932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068120" y="198108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377640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033880" y="1981080"/>
            <a:ext cx="377640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072800" y="0"/>
            <a:ext cx="7738920" cy="108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033880" y="1981080"/>
            <a:ext cx="377640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068120" y="436932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377640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3388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033880" y="436932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03388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068120" y="4369320"/>
            <a:ext cx="773892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33880" y="1981080"/>
            <a:ext cx="377640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068120" y="436932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CF2A1-64DC-46F8-BBBF-FC491E0696A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773892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068120" y="4369320"/>
            <a:ext cx="773892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3388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068120" y="436932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33880" y="436932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684600" y="198108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301080" y="198108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068120" y="436932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684600" y="436932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301080" y="436932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068120" y="198108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377640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033880" y="1981080"/>
            <a:ext cx="377640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072800" y="0"/>
            <a:ext cx="7738920" cy="108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033880" y="1981080"/>
            <a:ext cx="377640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1068120" y="436932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377640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388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33880" y="436932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57821-DF0A-4C22-AD02-B956630C9B4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377640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03388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033880" y="436932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03388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068120" y="4369320"/>
            <a:ext cx="773892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773892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1068120" y="4369320"/>
            <a:ext cx="773892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03388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1068120" y="436932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5033880" y="436932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684600" y="198108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301080" y="198108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1068120" y="436932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684600" y="436932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301080" y="436932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1068120" y="198108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377640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033880" y="1981080"/>
            <a:ext cx="377640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388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8120" y="4369320"/>
            <a:ext cx="773892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EF343-90F9-4FC1-8C75-740923F0FEA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1072800" y="0"/>
            <a:ext cx="7738920" cy="108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033880" y="1981080"/>
            <a:ext cx="377640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068120" y="436932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377640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03388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033880" y="436932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03388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1068120" y="4369320"/>
            <a:ext cx="773892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773892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1068120" y="4369320"/>
            <a:ext cx="773892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33880" y="198108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068120" y="436932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5033880" y="4369320"/>
            <a:ext cx="37764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684600" y="198108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301080" y="198108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1068120" y="436932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684600" y="436932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301080" y="4369320"/>
            <a:ext cx="249156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1068120" y="198108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068120" y="198108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 Bol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8120" y="198108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1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2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3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4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5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6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10100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47153-0D85-4B96-8C1E-089BAEE82529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 Bol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1068120" y="198108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1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2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3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4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5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6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 Bol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1068120" y="198108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1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2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3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4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5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6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 Bol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1068120" y="198108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1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2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3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4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5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6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 Bol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068120" y="198108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1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2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3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4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5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6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 Bol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068120" y="198108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1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2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3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4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5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6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 Bol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1068120" y="198108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1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2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3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4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5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6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 Bol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1068120" y="198108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1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2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3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4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5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6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 Bol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1068120" y="198108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1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2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3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4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5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6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 Bol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1068120" y="198108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1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2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3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4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5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6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 Bol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1068120" y="198108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1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2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3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4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5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6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72800" y="0"/>
            <a:ext cx="7738920" cy="234648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 Bol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1068120" y="198108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90360" tIns="38160" bIns="38160" anchor="t">
            <a:normAutofit/>
          </a:bodyPr>
          <a:p>
            <a:pPr marL="343080" indent="0">
              <a:lnSpc>
                <a:spcPct val="76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1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2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3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4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5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  <a:p>
            <a:pPr lvl="6" marL="343080" indent="-343080">
              <a:lnSpc>
                <a:spcPct val="76000"/>
              </a:lnSpc>
              <a:spcBef>
                <a:spcPts val="901"/>
              </a:spcBef>
              <a:buClr>
                <a:srgbClr val="000000"/>
              </a:buClr>
              <a:buFont typeface="Arial Bol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1" descr=""/>
          <p:cNvPicPr/>
          <p:nvPr/>
        </p:nvPicPr>
        <p:blipFill>
          <a:blip r:embed="rId1"/>
          <a:stretch/>
        </p:blipFill>
        <p:spPr>
          <a:xfrm>
            <a:off x="674640" y="5661000"/>
            <a:ext cx="1058760" cy="587520"/>
          </a:xfrm>
          <a:prstGeom prst="rect">
            <a:avLst/>
          </a:prstGeom>
          <a:ln w="0">
            <a:noFill/>
          </a:ln>
        </p:spPr>
      </p:pic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1142640" y="3809880"/>
            <a:ext cx="77598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70000"/>
              </a:lnSpc>
              <a:buNone/>
              <a:tabLst>
                <a:tab algn="l" pos="0"/>
                <a:tab algn="l" pos="3430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old"/>
            </a:endParaRPr>
          </a:p>
          <a:p>
            <a:pPr marL="343080" indent="0" algn="ctr">
              <a:lnSpc>
                <a:spcPct val="70000"/>
              </a:lnSpc>
              <a:buNone/>
              <a:tabLst>
                <a:tab algn="l" pos="0"/>
                <a:tab algn="l" pos="3430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old"/>
              </a:rPr>
              <a:t>Roni Even</a:t>
            </a:r>
            <a:endParaRPr b="0" lang="en-US" sz="2000" spc="-1" strike="noStrike">
              <a:solidFill>
                <a:srgbClr val="000000"/>
              </a:solidFill>
              <a:latin typeface="Arial Bold"/>
            </a:endParaRPr>
          </a:p>
          <a:p>
            <a:pPr marL="343080" indent="0" algn="ctr">
              <a:lnSpc>
                <a:spcPct val="70000"/>
              </a:lnSpc>
              <a:buNone/>
              <a:tabLst>
                <a:tab algn="l" pos="0"/>
                <a:tab algn="l" pos="3430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old"/>
            </a:endParaRPr>
          </a:p>
          <a:p>
            <a:pPr marL="343080" indent="0" algn="ctr">
              <a:lnSpc>
                <a:spcPct val="70000"/>
              </a:lnSpc>
              <a:buNone/>
              <a:tabLst>
                <a:tab algn="l" pos="0"/>
                <a:tab algn="l" pos="3430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old"/>
              </a:rPr>
              <a:t>Jonathan Lennox</a:t>
            </a:r>
            <a:endParaRPr b="0" lang="en-US" sz="2000" spc="-1" strike="noStrike">
              <a:solidFill>
                <a:srgbClr val="000000"/>
              </a:solidFill>
              <a:latin typeface="Arial Bold"/>
            </a:endParaRPr>
          </a:p>
          <a:p>
            <a:pPr marL="343080" indent="0" algn="ctr">
              <a:lnSpc>
                <a:spcPct val="70000"/>
              </a:lnSpc>
              <a:buNone/>
              <a:tabLst>
                <a:tab algn="l" pos="0"/>
                <a:tab algn="l" pos="3430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old"/>
            </a:endParaRPr>
          </a:p>
          <a:p>
            <a:pPr marL="343080" indent="0" algn="ctr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1068480" y="1231920"/>
            <a:ext cx="77594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"/>
              </a:rPr>
              <a:t>Mapping RTP streams to CLUE media cap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"/>
              </a:rPr>
              <a:t>draft-even-clue-rtp-mapping-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"/>
              </a:rPr>
              <a:t>IETF-8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839520" y="-360"/>
            <a:ext cx="8683560" cy="950760"/>
          </a:xfrm>
          <a:prstGeom prst="rect">
            <a:avLst/>
          </a:prstGeom>
          <a:noFill/>
          <a:ln w="0">
            <a:noFill/>
          </a:ln>
        </p:spPr>
        <p:txBody>
          <a:bodyPr lIns="38160" rIns="5580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Bold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468" name="Rectangle 2"/>
          <p:cNvSpPr/>
          <p:nvPr/>
        </p:nvSpPr>
        <p:spPr>
          <a:xfrm>
            <a:off x="496800" y="1092240"/>
            <a:ext cx="9372600" cy="38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1400" tIns="0" bIns="0" anchor="t">
            <a:noAutofit/>
          </a:bodyPr>
          <a:p>
            <a:pPr marL="264960" indent="-22356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old"/>
                <a:ea typeface="ヒラギノ角ゴ ProN W6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UE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21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s Media Captures that provide information about the semantics of streams, like spatial r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21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consumers to request specific Cap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TP is used to transmit the requested stre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DP is used to negotiate the characteristics of codecs and connections over which streams are s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to map between media captures and actual streams sent over R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y to avoid duplication of information between SDP and C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Slide Number Placeholder 1"/>
          <p:cNvSpPr/>
          <p:nvPr/>
        </p:nvSpPr>
        <p:spPr>
          <a:xfrm>
            <a:off x="710100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16C2D-B63D-4A5A-9385-A619028CC4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9520" y="-360"/>
            <a:ext cx="8683560" cy="950760"/>
          </a:xfrm>
          <a:prstGeom prst="rect">
            <a:avLst/>
          </a:prstGeom>
          <a:noFill/>
          <a:ln w="0">
            <a:noFill/>
          </a:ln>
        </p:spPr>
        <p:txBody>
          <a:bodyPr lIns="38160" rIns="5580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Bold"/>
              </a:rPr>
              <a:t>Assumptions</a:t>
            </a:r>
            <a:endParaRPr b="0" lang="en-US" sz="32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471" name="Rectangle 2"/>
          <p:cNvSpPr/>
          <p:nvPr/>
        </p:nvSpPr>
        <p:spPr>
          <a:xfrm>
            <a:off x="496800" y="1092240"/>
            <a:ext cx="9372600" cy="38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1400" tIns="0" bIns="0" anchor="t">
            <a:noAutofit/>
          </a:bodyPr>
          <a:p>
            <a:pPr marL="2649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UE systems support different top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21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 to poi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93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der source is one to one mapped to RTP stre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21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a mix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93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ders’ sources are visible as Contributing sources (CSRCs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21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a switching mix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93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der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source is visible as a Contributing source (CSRC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21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projection mix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93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media source is one to one mapped to a SSRC in Participant’s RTP sess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21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Slide Number Placeholder 1"/>
          <p:cNvSpPr/>
          <p:nvPr/>
        </p:nvSpPr>
        <p:spPr>
          <a:xfrm>
            <a:off x="710100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94FA7-923C-4633-A6D7-71BA5204F6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9520" y="-360"/>
            <a:ext cx="8683560" cy="950760"/>
          </a:xfrm>
          <a:prstGeom prst="rect">
            <a:avLst/>
          </a:prstGeom>
          <a:noFill/>
          <a:ln w="0">
            <a:noFill/>
          </a:ln>
        </p:spPr>
        <p:txBody>
          <a:bodyPr lIns="38160" rIns="5580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Bold"/>
              </a:rPr>
              <a:t>RTP/RTCP behavior</a:t>
            </a:r>
            <a:endParaRPr b="0" lang="en-US" sz="32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474" name="Rectangle 2"/>
          <p:cNvSpPr/>
          <p:nvPr/>
        </p:nvSpPr>
        <p:spPr>
          <a:xfrm>
            <a:off x="496800" y="1092240"/>
            <a:ext cx="9372600" cy="38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1400" tIns="0" bIns="0" anchor="t">
            <a:noAutofit/>
          </a:bodyPr>
          <a:p>
            <a:pPr marL="2649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pologies show two major behavi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221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Mixer either uses source SSRC or uses its own SSRC when forwarding RTP packe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793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One RTP session and source information is in SSRC or CSR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221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Mixer terminates RTCP from source, creating separate RTP sessions with pe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793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The source information is not available in RTCP but may be available using out of band means, e.g. SIP conference event package (RFC4575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Slide Number Placeholder 1"/>
          <p:cNvSpPr/>
          <p:nvPr/>
        </p:nvSpPr>
        <p:spPr>
          <a:xfrm>
            <a:off x="710100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FB9D9-C7DC-4B06-8419-318F5E93BE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9520" y="-360"/>
            <a:ext cx="8683560" cy="950760"/>
          </a:xfrm>
          <a:prstGeom prst="rect">
            <a:avLst/>
          </a:prstGeom>
          <a:noFill/>
          <a:ln w="0">
            <a:noFill/>
          </a:ln>
        </p:spPr>
        <p:txBody>
          <a:bodyPr lIns="38160" rIns="5580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Bold"/>
              </a:rPr>
              <a:t>SSRC behavior</a:t>
            </a:r>
            <a:endParaRPr b="0" lang="en-US" sz="32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477" name="Rectangle 2"/>
          <p:cNvSpPr/>
          <p:nvPr/>
        </p:nvSpPr>
        <p:spPr>
          <a:xfrm>
            <a:off x="496800" y="1092240"/>
            <a:ext cx="9372600" cy="38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1400" tIns="0" bIns="0" anchor="t">
            <a:noAutofit/>
          </a:bodyPr>
          <a:p>
            <a:pPr marL="2649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pologies show two major SSRC behavi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221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Static SSR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793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SSRCs assigned by MCU/mix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793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A static SSRC can be used for each CLUE media Cap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793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Source information may be conveyed in CSR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221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Dynamic SSR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793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SSRCs of the original source relayed by the Mixer/MCU to participa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793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Mapping between SSRCs and Media Captures changes with every source swit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Slide Number Placeholder 1"/>
          <p:cNvSpPr/>
          <p:nvPr/>
        </p:nvSpPr>
        <p:spPr>
          <a:xfrm>
            <a:off x="710100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2F761-7DD7-4571-A8A3-21B17B1E96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9520" y="-360"/>
            <a:ext cx="8683560" cy="950760"/>
          </a:xfrm>
          <a:prstGeom prst="rect">
            <a:avLst/>
          </a:prstGeom>
          <a:noFill/>
          <a:ln w="0">
            <a:noFill/>
          </a:ln>
        </p:spPr>
        <p:txBody>
          <a:bodyPr lIns="38160" rIns="5580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Bold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480" name="Rectangle 2"/>
          <p:cNvSpPr/>
          <p:nvPr/>
        </p:nvSpPr>
        <p:spPr>
          <a:xfrm>
            <a:off x="496800" y="1092240"/>
            <a:ext cx="9372600" cy="38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1400" tIns="0" bIns="0" anchor="t">
            <a:noAutofit/>
          </a:bodyPr>
          <a:p>
            <a:pPr lvl="1" marL="2649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Video switching MC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221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Media Mixer behavior for aud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221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a switching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Mixer or a Source-Projection Mixer for vide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221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The audio will be static source, whereas the video could be dynami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649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Endpoint may send the same sources both for static and dynamic captur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221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Endpoint can provide both three cameras (VC0, VC1, and VC2) for left, center, and right views, as well as a switched view (VC3) of the loudest pan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221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Using Source-Projection Mixer topology for VC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221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VC0, VC1, VC2 have static mapp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Slide Number Placeholder 1"/>
          <p:cNvSpPr/>
          <p:nvPr/>
        </p:nvSpPr>
        <p:spPr>
          <a:xfrm>
            <a:off x="710100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99D3E-53AD-4CFF-AA4A-F5E7909AE0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9520" y="-360"/>
            <a:ext cx="8683560" cy="950760"/>
          </a:xfrm>
          <a:prstGeom prst="rect">
            <a:avLst/>
          </a:prstGeom>
          <a:noFill/>
          <a:ln w="0">
            <a:noFill/>
          </a:ln>
        </p:spPr>
        <p:txBody>
          <a:bodyPr lIns="38160" rIns="5580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Bold"/>
              </a:rPr>
              <a:t>Mapping options (1)</a:t>
            </a:r>
            <a:endParaRPr b="0" lang="en-US" sz="32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483" name="Rectangle 2"/>
          <p:cNvSpPr/>
          <p:nvPr/>
        </p:nvSpPr>
        <p:spPr>
          <a:xfrm>
            <a:off x="496800" y="1092240"/>
            <a:ext cx="9372600" cy="38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1400" tIns="0" bIns="0" anchor="t">
            <a:noAutofit/>
          </a:bodyPr>
          <a:p>
            <a:pPr marL="2649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vertisements are created by the next pe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21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MCU / Mixer in multi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21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TP endpoint in point to point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a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ture ID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DP source attrib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21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For each SSRC and media capture. This is a static mapp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RTP Header extension as in draft-lennox-rtp-usage-0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23560">
              <a:lnSpc>
                <a:spcPct val="100000"/>
              </a:lnSpc>
              <a:tabLst>
                <a:tab algn="l" pos="0"/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                1                   2                  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23560">
              <a:lnSpc>
                <a:spcPct val="100000"/>
              </a:lnSpc>
              <a:tabLst>
                <a:tab algn="l" pos="0"/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 1 2 3 4 5 6 7 8 9 0 1 2 3 4 5 6 7 8 9 0 1 2 3 4 5 6 7 8 9 0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23560">
              <a:lnSpc>
                <a:spcPct val="100000"/>
              </a:lnSpc>
              <a:tabLst>
                <a:tab algn="l" pos="0"/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23560">
              <a:lnSpc>
                <a:spcPct val="100000"/>
              </a:lnSpc>
              <a:tabLst>
                <a:tab algn="l" pos="0"/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ID=1   |   length=4    |           Capture ID       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23560">
              <a:lnSpc>
                <a:spcPct val="100000"/>
              </a:lnSpc>
              <a:tabLst>
                <a:tab algn="l" pos="0"/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-+-+-+-+-+-+-+-+-+-+-+-+-+-+-+-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23560">
              <a:lnSpc>
                <a:spcPct val="100000"/>
              </a:lnSpc>
              <a:tabLst>
                <a:tab algn="l" pos="0"/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                              |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23560">
              <a:lnSpc>
                <a:spcPct val="100000"/>
              </a:lnSpc>
              <a:tabLst>
                <a:tab algn="l" pos="0"/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+-+-+-+-+-+-+-+-+-+-+-+-+-+-+-+-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Slide Number Placeholder 1"/>
          <p:cNvSpPr/>
          <p:nvPr/>
        </p:nvSpPr>
        <p:spPr>
          <a:xfrm>
            <a:off x="710100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D8D4B-BBC7-4780-89DD-2420D72C91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9520" y="-360"/>
            <a:ext cx="8683560" cy="950760"/>
          </a:xfrm>
          <a:prstGeom prst="rect">
            <a:avLst/>
          </a:prstGeom>
          <a:noFill/>
          <a:ln w="0">
            <a:noFill/>
          </a:ln>
        </p:spPr>
        <p:txBody>
          <a:bodyPr lIns="38160" rIns="5580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Bold"/>
              </a:rPr>
              <a:t>Mapping options (2)</a:t>
            </a:r>
            <a:endParaRPr b="0" lang="en-US" sz="32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486" name="Rectangle 2"/>
          <p:cNvSpPr/>
          <p:nvPr/>
        </p:nvSpPr>
        <p:spPr>
          <a:xfrm>
            <a:off x="496800" y="1092240"/>
            <a:ext cx="9372600" cy="38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1400" tIns="0" bIns="0" anchor="t">
            <a:noAutofit/>
          </a:bodyPr>
          <a:p>
            <a:pPr marL="2649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TP header extension sent with every packet (or with selected packets) of a dynamic mapped RTP stre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21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The RTP header extension is provided by the source for point to point calls and by the middle box in Multipoint c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ame Capture-ID value can be used when using static mapping in SDP and for dynamic mapping in the RTP header exten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Slide Number Placeholder 1"/>
          <p:cNvSpPr/>
          <p:nvPr/>
        </p:nvSpPr>
        <p:spPr>
          <a:xfrm>
            <a:off x="710100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695E2-4061-4BCF-BBD2-08F308625D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9520" y="-360"/>
            <a:ext cx="8683560" cy="950760"/>
          </a:xfrm>
          <a:prstGeom prst="rect">
            <a:avLst/>
          </a:prstGeom>
          <a:noFill/>
          <a:ln w="0">
            <a:noFill/>
          </a:ln>
        </p:spPr>
        <p:txBody>
          <a:bodyPr lIns="38160" rIns="55800" tIns="38160" bIns="3816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Bold"/>
              </a:rPr>
              <a:t>Proposal</a:t>
            </a:r>
            <a:endParaRPr b="0" lang="en-US" sz="3200" spc="-1" strike="noStrike">
              <a:solidFill>
                <a:srgbClr val="000000"/>
              </a:solidFill>
              <a:latin typeface="Times New Roman Bold"/>
            </a:endParaRPr>
          </a:p>
        </p:txBody>
      </p:sp>
      <p:sp>
        <p:nvSpPr>
          <p:cNvPr id="489" name="Rectangle 2"/>
          <p:cNvSpPr/>
          <p:nvPr/>
        </p:nvSpPr>
        <p:spPr>
          <a:xfrm>
            <a:off x="496800" y="1092240"/>
            <a:ext cx="9372600" cy="47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1400" tIns="0" bIns="0" anchor="t">
            <a:noAutofit/>
          </a:bodyPr>
          <a:p>
            <a:pPr marL="2649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a mixers and Media Switching mixers are common in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projection mixers are also used in produ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21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Allow more flexibility for switched cap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 may have mixed behavior for static and dynamic SSRC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ping static SSRCs to CLUE Media Captures - adding the RTP header extension for each packet is not necess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points MUST support, as receivers, both the static declaration of capture encoding SSRCs, and the RTP header extension method of sharing capture IDs, with the extension in every media pa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RFC3264 offer can specify a static mapping to a CaptureID for a given SSRC and later an RTP header extension can use the same CaptureID for a different SSRC. This will be a media switch for the specified CLUE media Cap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23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266760"/>
                <a:tab algn="l" pos="7239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Slide Number Placeholder 1"/>
          <p:cNvSpPr/>
          <p:nvPr/>
        </p:nvSpPr>
        <p:spPr>
          <a:xfrm>
            <a:off x="710100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D065A-9013-47F2-A3A9-A5B0AA66CF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oni Even</dc:creator>
  <dc:description/>
  <cp:keywords/>
  <dc:language>en-US</dc:language>
  <cp:lastModifiedBy>Mary Barnes</cp:lastModifiedBy>
  <dcterms:modified xsi:type="dcterms:W3CDTF">2012-07-27T21:54:29Z</dcterms:modified>
  <cp:revision>59</cp:revision>
  <dc:subject/>
  <dc:title>RTP mapping to media captures</dc:title>
</cp:coreProperties>
</file>