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60FF-78BD-408F-81EE-E5EA09F2D7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10E4-C6F2-4CC3-8F23-C8B5CF1D3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987D-5D8E-4AAE-9BBF-A11573860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8993-C08A-43FB-82F2-8262B0FF1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41A2-A88D-4DD4-B37C-E6C61AD085F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4A030-3972-4F78-852F-6F968692475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ACDC-7FEC-4B4E-840B-26E80DD51B1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5BAD-4912-49BA-99E2-71C6D14A0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6529-C167-4D44-BA9E-5DB5437468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1E48-17C9-4B5B-879D-9ADD43038F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1CB9-F140-4D53-BA14-1A194722A85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C460-EC47-4510-A8C9-60FF599E9A3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BA51-D72F-43F2-A322-40161F55960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FF9D-8DC2-41D6-9CAD-416C87D6902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29F6-A1FE-4E64-95B4-6D264869C6D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EF55-CB70-48EA-9D28-CE161B41678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" descr=""/>
          <p:cNvPicPr/>
          <p:nvPr/>
        </p:nvPicPr>
        <p:blipFill>
          <a:blip r:embed="rId1"/>
          <a:stretch/>
        </p:blipFill>
        <p:spPr>
          <a:xfrm>
            <a:off x="674640" y="5661000"/>
            <a:ext cx="1058760" cy="5875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142640" y="3809880"/>
            <a:ext cx="77598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old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Roni Even</a:t>
            </a:r>
            <a:endParaRPr b="0" lang="en-US" sz="2000" spc="-1" strike="noStrike">
              <a:solidFill>
                <a:srgbClr val="000000"/>
              </a:solidFill>
              <a:latin typeface="Arial Bold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old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Jonathan Lennox</a:t>
            </a:r>
            <a:endParaRPr b="0" lang="en-US" sz="2000" spc="-1" strike="noStrike">
              <a:solidFill>
                <a:srgbClr val="000000"/>
              </a:solidFill>
              <a:latin typeface="Arial Bold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old"/>
            </a:endParaRPr>
          </a:p>
          <a:p>
            <a:pPr marL="34308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1068480" y="1231920"/>
            <a:ext cx="77594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Mapping RTP streams to CLUE media cap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draft-even-clue-rtp-mapping-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IETF-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83560" cy="950760"/>
          </a:xfrm>
          <a:prstGeom prst="rect">
            <a:avLst/>
          </a:prstGeom>
          <a:noFill/>
          <a:ln w="0">
            <a:noFill/>
          </a:ln>
        </p:spPr>
        <p:txBody>
          <a:bodyPr lIns="38160" rIns="5580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496800" y="1092240"/>
            <a:ext cx="93726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old"/>
                <a:ea typeface="ヒラギノ角ゴ ProN W6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E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s Media Captures that provide information about the semantics of streams, like spatial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consumers to request specific Cap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P is used to transmit the requested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P is used to negotiate the characteristics of codecs and connections over which streams are 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map between media captures and actual streams sent over R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avoid duplication of information between SDP and C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1"/>
          <p:cNvSpPr/>
          <p:nvPr/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1509-98D5-4696-BABC-93862C793F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83560" cy="950760"/>
          </a:xfrm>
          <a:prstGeom prst="rect">
            <a:avLst/>
          </a:prstGeom>
          <a:noFill/>
          <a:ln w="0">
            <a:noFill/>
          </a:ln>
        </p:spPr>
        <p:txBody>
          <a:bodyPr lIns="38160" rIns="5580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</a:rPr>
              <a:t>Assumptions</a:t>
            </a:r>
            <a:endParaRPr b="0" lang="en-US" sz="32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496800" y="1092240"/>
            <a:ext cx="93726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E systems support different top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er source is one to one mapped to RTP 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mix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ers’ sources are visible as Contributing sources (CSRC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switching mix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er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source is visible as a Contributing source (CSRC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projection mix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media source is one to one mapped to a SSRC in Participant’s RTP se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1"/>
          <p:cNvSpPr/>
          <p:nvPr/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8019-B962-4F72-8132-CA9C10310E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83560" cy="950760"/>
          </a:xfrm>
          <a:prstGeom prst="rect">
            <a:avLst/>
          </a:prstGeom>
          <a:noFill/>
          <a:ln w="0">
            <a:noFill/>
          </a:ln>
        </p:spPr>
        <p:txBody>
          <a:bodyPr lIns="38160" rIns="5580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</a:rPr>
              <a:t>RTP/RTCP behavior</a:t>
            </a:r>
            <a:endParaRPr b="0" lang="en-US" sz="32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96800" y="1092240"/>
            <a:ext cx="93726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ologies show two major behavi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Mixer either uses source SSRC or uses its own SSRC when forwarding RTP pac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One RTP session and source information is in SSRC or CS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Mixer terminates RTCP from source, creating separate RTP sessions with pe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he source information is not available in RTCP but may be available using out of band means, e.g. SIP conference event package (RFC457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45D9-F3F8-4B61-8566-B3A4B055BA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83560" cy="950760"/>
          </a:xfrm>
          <a:prstGeom prst="rect">
            <a:avLst/>
          </a:prstGeom>
          <a:noFill/>
          <a:ln w="0">
            <a:noFill/>
          </a:ln>
        </p:spPr>
        <p:txBody>
          <a:bodyPr lIns="38160" rIns="5580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</a:rPr>
              <a:t>SSRC behavior</a:t>
            </a:r>
            <a:endParaRPr b="0" lang="en-US" sz="32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496800" y="1092240"/>
            <a:ext cx="93726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ologies show two major SSRC behavi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tatic SS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SRCs assigned by MCU/mix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A static SSRC can be used for each CLUE media Cap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ource information may be conveyed in CS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Dynamic SS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SRCs of the original source relayed by the Mixer/MCU to particip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Mapping between SSRCs and Media Captures changes with every source swi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1D61-4F3D-4A5E-8E84-0589652FCF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83560" cy="950760"/>
          </a:xfrm>
          <a:prstGeom prst="rect">
            <a:avLst/>
          </a:prstGeom>
          <a:noFill/>
          <a:ln w="0">
            <a:noFill/>
          </a:ln>
        </p:spPr>
        <p:txBody>
          <a:bodyPr lIns="38160" rIns="5580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496800" y="1092240"/>
            <a:ext cx="93726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lvl="1"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Video switching M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Media Mixer behavior for au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switch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Mixer or a Source-Projection Mixer for vide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he audio will be static source, whereas the video could be dynam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Endpoint may send the same sources both for static and dynamic capt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Endpoint can provide both three cameras (VC0, VC1, and VC2) for left, center, and right views, as well as a switched view (VC3) of the loudest pan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Using Source-Projection Mixer topology for VC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VC0, VC1, VC2 have static mapp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1"/>
          <p:cNvSpPr/>
          <p:nvPr/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B0E1-6282-40F5-9151-AE960B1CA3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83560" cy="950760"/>
          </a:xfrm>
          <a:prstGeom prst="rect">
            <a:avLst/>
          </a:prstGeom>
          <a:noFill/>
          <a:ln w="0">
            <a:noFill/>
          </a:ln>
        </p:spPr>
        <p:txBody>
          <a:bodyPr lIns="38160" rIns="5580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</a:rPr>
              <a:t>Mapping options (1)</a:t>
            </a:r>
            <a:endParaRPr b="0" lang="en-US" sz="32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83" name="Rectangle 2"/>
          <p:cNvSpPr/>
          <p:nvPr/>
        </p:nvSpPr>
        <p:spPr>
          <a:xfrm>
            <a:off x="496800" y="1092240"/>
            <a:ext cx="93726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ements are created by the next p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MCU / Mixer in multi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P endpoint in point to point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e 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DP source at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For each SSRC and media capture. This is a static map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TP Header extension as in draft-lennox-rtp-usage-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100000"/>
              </a:lnSpc>
              <a:tabLst>
                <a:tab algn="l" pos="0"/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100000"/>
              </a:lnSpc>
              <a:tabLst>
                <a:tab algn="l" pos="0"/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100000"/>
              </a:lnSpc>
              <a:tabLst>
                <a:tab algn="l" pos="0"/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100000"/>
              </a:lnSpc>
              <a:tabLst>
                <a:tab algn="l" pos="0"/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ID=1   |   length=4    |           Capture ID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100000"/>
              </a:lnSpc>
              <a:tabLst>
                <a:tab algn="l" pos="0"/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100000"/>
              </a:lnSpc>
              <a:tabLst>
                <a:tab algn="l" pos="0"/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     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100000"/>
              </a:lnSpc>
              <a:tabLst>
                <a:tab algn="l" pos="0"/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lide Number Placeholder 1"/>
          <p:cNvSpPr/>
          <p:nvPr/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B6C0-6522-416D-A557-AE2F40E908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83560" cy="950760"/>
          </a:xfrm>
          <a:prstGeom prst="rect">
            <a:avLst/>
          </a:prstGeom>
          <a:noFill/>
          <a:ln w="0">
            <a:noFill/>
          </a:ln>
        </p:spPr>
        <p:txBody>
          <a:bodyPr lIns="38160" rIns="5580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</a:rPr>
              <a:t>Mapping options (2)</a:t>
            </a:r>
            <a:endParaRPr b="0" lang="en-US" sz="32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86" name="Rectangle 2"/>
          <p:cNvSpPr/>
          <p:nvPr/>
        </p:nvSpPr>
        <p:spPr>
          <a:xfrm>
            <a:off x="496800" y="1092240"/>
            <a:ext cx="93726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P header extension sent with every packet (or with selected packets) of a dynamic mapped RTP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he RTP header extension is provided by the source for point to point calls and by the middle box in Multipoint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Capture-ID value can be used when using static mapping in SDP and for dynamic mapping in the RTP header exten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lide Number Placeholder 1"/>
          <p:cNvSpPr/>
          <p:nvPr/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2E8F-4B4A-42D2-BEA3-EBC4706A23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83560" cy="950760"/>
          </a:xfrm>
          <a:prstGeom prst="rect">
            <a:avLst/>
          </a:prstGeom>
          <a:noFill/>
          <a:ln w="0">
            <a:noFill/>
          </a:ln>
        </p:spPr>
        <p:txBody>
          <a:bodyPr lIns="38160" rIns="5580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496800" y="1092240"/>
            <a:ext cx="937260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 mixers and Media Switching mixers are common in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projection mixers are also used in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Allow more flexibility for switched cap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may have mixed behavior for static and dynamic SSRC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 static SSRCs to CLUE Media Captures - adding the RTP header extension for each packet is not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points MUST support, as receivers, both the static declaration of capture encoding SSRCs, and the RTP header extension method of sharing capture IDs, with the extension in every media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FC3264 offer can specify a static mapping to a CaptureID for a given SSRC and later an RTP header extension can use the same CaptureID for a different SSRC. This will be a media switch for the specified CLUE media Cap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1"/>
          <p:cNvSpPr/>
          <p:nvPr/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DBB6-C16C-4ECA-A77E-4967F213B5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ni Even</dc:creator>
  <dc:description/>
  <cp:keywords/>
  <dc:language>en-US</dc:language>
  <cp:lastModifiedBy>Mary Barnes</cp:lastModifiedBy>
  <dcterms:modified xsi:type="dcterms:W3CDTF">2012-07-27T21:54:29Z</dcterms:modified>
  <cp:revision>59</cp:revision>
  <dc:subject/>
  <dc:title>RTP mapping to media captures</dc:title>
</cp:coreProperties>
</file>