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6F7-5960-448C-802D-4E4CF521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2C4-FBC0-41C6-8896-1AB1D27A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106-7671-4CC8-A26A-5C1C98D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861-E0A7-44C8-BEBF-F2FFE11C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898-12BE-4153-88FD-2057F88E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650-979A-481E-8708-50975DE8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C54-8348-4D13-AAE5-AA759517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C92-8F37-4A6F-974E-99317D3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81B-DE7C-4BDD-977A-5FAE22C1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8AE-E330-4405-86C7-CEC7918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D2E-8F31-425D-B111-249AE79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F64-DF30-413A-91BD-4856E8C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961-33D0-47E5-9CED-08FB9FD66A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romanow-clue-call-flow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llyn Roma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ob Ha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run Krish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(eg, to alter bandwid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9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1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" name="Straight Arrow Connector 24"/>
          <p:cNvCxnSpPr/>
          <p:nvPr/>
        </p:nvCxnSpPr>
        <p:spPr>
          <a:xfrm>
            <a:off x="2484000" y="487044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</a:ln>
        </p:spPr>
      </p:cxnSp>
      <p:sp>
        <p:nvSpPr>
          <p:cNvPr id="105" name="TextBox 25"/>
          <p:cNvSpPr/>
          <p:nvPr/>
        </p:nvSpPr>
        <p:spPr>
          <a:xfrm>
            <a:off x="2484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(eg, to alter bandwid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3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Straight Arrow Connector 24"/>
          <p:cNvCxnSpPr/>
          <p:nvPr/>
        </p:nvCxnSpPr>
        <p:spPr>
          <a:xfrm>
            <a:off x="2484000" y="494352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</a:ln>
        </p:spPr>
      </p:cxnSp>
      <p:sp>
        <p:nvSpPr>
          <p:cNvPr id="119" name="TextBox 25"/>
          <p:cNvSpPr/>
          <p:nvPr/>
        </p:nvSpPr>
        <p:spPr>
          <a:xfrm>
            <a:off x="2484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3"/>
          <p:cNvCxnSpPr/>
          <p:nvPr/>
        </p:nvCxnSpPr>
        <p:spPr>
          <a:xfrm>
            <a:off x="2455560" y="53179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1" name="TextBox 14"/>
          <p:cNvSpPr/>
          <p:nvPr/>
        </p:nvSpPr>
        <p:spPr>
          <a:xfrm>
            <a:off x="2455920" y="501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12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>
            <a:off x="2455560" y="607968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3" name="TextBox 16"/>
          <p:cNvSpPr/>
          <p:nvPr/>
        </p:nvSpPr>
        <p:spPr>
          <a:xfrm>
            <a:off x="2455920" y="5775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2455920" y="53942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20"/>
          <p:cNvCxnSpPr/>
          <p:nvPr/>
        </p:nvCxnSpPr>
        <p:spPr>
          <a:xfrm flipH="1">
            <a:off x="2455560" y="569880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6" name="Straight Arrow Connector 24"/>
          <p:cNvCxnSpPr/>
          <p:nvPr/>
        </p:nvCxnSpPr>
        <p:spPr>
          <a:xfrm>
            <a:off x="2484000" y="652320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27" name="TextBox 25"/>
          <p:cNvSpPr/>
          <p:nvPr/>
        </p:nvSpPr>
        <p:spPr>
          <a:xfrm>
            <a:off x="2484360" y="61545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TP multiplex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ensus not yet reached 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lennox-clue-rtp-usage-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even-clue-rtp-mapping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ultiplex by SSRC or RTP extension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t for RTP extension hea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042920" y="4365720"/>
            <a:ext cx="7129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  ID=1 |  L=3 |            capture id                         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  capture id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l Flow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69236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6443640" y="133200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2195640" y="1917720"/>
            <a:ext cx="1440" cy="46083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1"/>
          <p:cNvSpPr/>
          <p:nvPr/>
        </p:nvSpPr>
        <p:spPr>
          <a:xfrm>
            <a:off x="6857280" y="1868400"/>
            <a:ext cx="17640" cy="45849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13"/>
          <p:cNvCxnSpPr/>
          <p:nvPr/>
        </p:nvCxnSpPr>
        <p:spPr>
          <a:xfrm>
            <a:off x="2361960" y="222048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9" name="TextBox 14"/>
          <p:cNvSpPr/>
          <p:nvPr/>
        </p:nvSpPr>
        <p:spPr>
          <a:xfrm>
            <a:off x="2362320" y="1916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5"/>
          <p:cNvCxnSpPr/>
          <p:nvPr/>
        </p:nvCxnSpPr>
        <p:spPr>
          <a:xfrm>
            <a:off x="2361960" y="298260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1" name="TextBox 16"/>
          <p:cNvSpPr/>
          <p:nvPr/>
        </p:nvSpPr>
        <p:spPr>
          <a:xfrm>
            <a:off x="2362320" y="267804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2362320" y="2297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20"/>
          <p:cNvCxnSpPr/>
          <p:nvPr/>
        </p:nvCxnSpPr>
        <p:spPr>
          <a:xfrm flipH="1">
            <a:off x="2361960" y="26017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" name="Straight Arrow Connector 22"/>
          <p:cNvCxnSpPr/>
          <p:nvPr/>
        </p:nvCxnSpPr>
        <p:spPr>
          <a:xfrm>
            <a:off x="2339640" y="3499920"/>
            <a:ext cx="4320360" cy="2520"/>
          </a:xfrm>
          <a:prstGeom prst="straightConnector1">
            <a:avLst/>
          </a:prstGeom>
          <a:ln w="25560">
            <a:solidFill>
              <a:srgbClr val="c00000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55" name="TextBox 23"/>
          <p:cNvSpPr/>
          <p:nvPr/>
        </p:nvSpPr>
        <p:spPr>
          <a:xfrm>
            <a:off x="2362320" y="31417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(optional) Single-stream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4"/>
          <p:cNvCxnSpPr/>
          <p:nvPr/>
        </p:nvCxnSpPr>
        <p:spPr>
          <a:xfrm>
            <a:off x="2555640" y="436572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7" name="TextBox 25"/>
          <p:cNvSpPr/>
          <p:nvPr/>
        </p:nvSpPr>
        <p:spPr>
          <a:xfrm>
            <a:off x="2556000" y="40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2556000" y="51465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29"/>
          <p:cNvCxnSpPr/>
          <p:nvPr/>
        </p:nvCxnSpPr>
        <p:spPr>
          <a:xfrm flipH="1" flipV="1">
            <a:off x="2555280" y="543204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0" name="Straight Arrow Connector 30"/>
          <p:cNvCxnSpPr/>
          <p:nvPr/>
        </p:nvCxnSpPr>
        <p:spPr>
          <a:xfrm>
            <a:off x="2340000" y="6041520"/>
            <a:ext cx="4393440" cy="2520"/>
          </a:xfrm>
          <a:prstGeom prst="straightConnector1">
            <a:avLst/>
          </a:prstGeom>
          <a:ln w="25560">
            <a:solidFill>
              <a:srgbClr val="c00000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61" name="TextBox 31"/>
          <p:cNvSpPr/>
          <p:nvPr/>
        </p:nvSpPr>
        <p:spPr>
          <a:xfrm>
            <a:off x="2362320" y="56610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Multi-stream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4"/>
          <p:cNvCxnSpPr/>
          <p:nvPr/>
        </p:nvCxnSpPr>
        <p:spPr>
          <a:xfrm>
            <a:off x="2339640" y="3949200"/>
            <a:ext cx="4343760" cy="10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TextBox 25"/>
          <p:cNvSpPr/>
          <p:nvPr/>
        </p:nvSpPr>
        <p:spPr>
          <a:xfrm>
            <a:off x="2340000" y="364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Negotiate CLU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556000" y="4427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29"/>
          <p:cNvCxnSpPr/>
          <p:nvPr/>
        </p:nvCxnSpPr>
        <p:spPr>
          <a:xfrm flipH="1" flipV="1">
            <a:off x="2555280" y="470196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6" name="Straight Arrow Connector 24"/>
          <p:cNvCxnSpPr/>
          <p:nvPr/>
        </p:nvCxnSpPr>
        <p:spPr>
          <a:xfrm>
            <a:off x="2555640" y="5084280"/>
            <a:ext cx="3888360" cy="252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TextBox 25"/>
          <p:cNvSpPr/>
          <p:nvPr/>
        </p:nvSpPr>
        <p:spPr>
          <a:xfrm>
            <a:off x="2556000" y="4788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llustrative Transport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CTP (over DTLS) over UD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iable, in-order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follow the same path as R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use 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be encrypted/authenticated with DT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wish to make this mandatory (null cipher for unencryp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gotiated in S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lementations may advertise one m-line per media type, or multiple if des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dio and video remain on separate m-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DP negotiates RTP session and codec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UE does not replace SDP; all media MUST remain within these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UE in SIP/S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116000" y="1438200"/>
            <a:ext cx="618804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VITE sip:bob@example.com SIP/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Supported: c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v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o=alice 2890844526 2890844526 IN IP4 client.atlanta.examp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=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=IN IP4 192.0.2.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fingerprint: SHA-1 4B:AC:B7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extmap:1 urn:ietf:params:clue:m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=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=AS:60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=audio 49172 RTP/AVP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=video 49174 RTP/AVP 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m=application 49176 UDP/DTLS/SCTP/CLU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setup:act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connection: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-SIP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-specific SDP parameters will be ignored by non-CLUE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ll result in a conventional single-stream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fore CLUE is negoti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be ready to receive single-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(SHOULD?) send single-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UE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all is made up of two independent, unidirectional CLUE negot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ditional advertisement/configure messages may be sent at any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ssages to include sequence numbers to identify the advertisement a configure message is referring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 encoding for mess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CTP channel re-establishment and CLUE s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d-call re-establishment of SCTP channel triggered by SDP may mean far end has no knowledge of previous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nce on re-establishment CLUE MUST be renegot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dpoints on hold should not deactivate the CLUE channel to avoid renegot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to make SDP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7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9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22:38:37Z</dcterms:created>
  <dc:creator>Rob Hansen</dc:creator>
  <dc:description/>
  <dc:language>en-US</dc:language>
  <cp:lastModifiedBy>Mary Barnes</cp:lastModifiedBy>
  <dcterms:modified xsi:type="dcterms:W3CDTF">2012-07-29T20:14:42Z</dcterms:modified>
  <cp:revision>43</cp:revision>
  <dc:subject/>
  <dc:title>Draft-romanow-clue-call-flow</dc:title>
</cp:coreProperties>
</file>