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F685C-8F65-4BA1-BBB1-EBAFBE00E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A46F2-713A-4D9C-9877-23E26A9A1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C823C-7482-4EBF-92E8-FE0C98A531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D0A08D-8C7C-48A9-B075-404ECC64B0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9D5105-1AFB-4445-B7A3-688121F3A7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647F9F-3D07-49E3-B410-B81E7F4C17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7F764-B216-4884-B31D-EEBAA4C83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5D481-94A8-4A36-8894-ECF91A2273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C4FAFD-DE73-4E1C-BAAC-8F64685A84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FF0220-2048-453E-AE9D-163B315CC6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7B4262-BA6E-41E6-9AAF-05A6FED450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9C947E-CF6C-4BDE-BA5D-C2BA2F5055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4D9F0-CDAF-4DF8-AB61-8B8ED618B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04B66A-29AE-474A-BA9A-4797EF783B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C75948-4A79-4E10-85DD-A1CE6DC981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D66BAB-0B3E-4D88-8EA8-BA9913546F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F814BB-0423-47E0-AFCA-EF00F6CC10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3DB052-7008-459D-834A-DB1D39B764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DB178D-CD53-4FFE-B4F4-D4C737A6A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9587AD-2706-4E8B-9470-6393509CAE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B058F0-EAB4-4999-BF8C-9CF6C84994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CD634F-8913-49EF-8D34-F91A2BEADC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00C260-4632-411B-B82F-D54C418635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C60C0-42AF-49AD-8525-1A2E47A58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85A7B5-CCD5-40B0-BADD-A8F326A164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54830C-7F28-43CD-B480-69258A3657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4D66C5-18D2-4183-A0BC-CF0B0D5443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65DFC3-2648-4C1C-88EC-2CCEA26757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31A6D2-0D1F-4106-8BEA-82520CEC64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A5549E-6672-4B78-BEEE-DB80C969A9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586B3F-3E13-4D22-A137-6067F78DA5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0F9B2F-3F8E-49DC-B779-1A7E00859F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9E201B-B5E2-43AA-9B86-CD863D78B3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D7BED2-93E1-4696-81DF-A5C7AAF658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CC6A4-4288-433B-9CFA-9B3D84AD4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CACA6B-0766-467D-BFA8-2D073B8D84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6C4259-55D5-49DC-BA97-E1D29BD7A0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F601CC-9145-4C42-BC19-A7FC57CE84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A8753-DEA5-4340-970F-DCDAB5EBF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83082-EE2C-4919-B17E-B2D4BE4AF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1F9D0-721C-4ECD-93E7-0D6F34A70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E2FAF-7D95-419B-8381-9BCC5070D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3215B-9B66-404D-B9E9-FC7E642DE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E1B74-1DC9-4998-885A-40BE92759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E6FC1-2046-4D2D-A520-4530362A1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5D3C3-EC0D-47B3-AE27-F96A55832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CBADD-D7FC-44CB-AACD-68171A2DD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58817-8601-4D57-8C70-3BEFC5DA5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DF47B-98F0-47F1-82FE-EE4CCB863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AFBE9-A518-4796-A639-F8F97F0E8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55615-B8F3-4642-B0D2-3850BC994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4D38A-C8A3-4C5C-A0F9-A907A4A2D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2E21A-403F-4630-B4B8-1AC1AC080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49153-DA1C-4A08-A668-1E9BCE9DE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54D3D-679F-4D23-9866-F8545BB06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1ECCF-F0C6-4E9B-9DB7-C7EBFEEC2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1C0E4-31AD-4DC2-8C94-22E71E147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42C6A-EC08-4658-A7D4-D3E1F6A3B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783BE-0F0B-44DA-AC4F-E7EF85923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D1E90-F613-4D20-B9CF-E43CDFB41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9F11C-268E-4245-A606-74EB20AC0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42168A-E2E3-4AD9-B471-AED0A9E6F7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7DD48-769C-4F9D-BF83-FDAE3A95F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E102C0-5903-43B8-B8C9-3A4140B5C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39591-DE90-4D9E-86B1-B7C8B8E91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06222-54AF-4E1F-A496-785C2247DC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6EAAC-B89D-4368-95A6-AD2843D7D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4A0FA-EA79-435F-B199-AF39C6D47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1D2AE9-E87A-4166-967C-7952B1486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BC7E0C-01FB-4AF6-AE5C-02009E0E2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787E8-F7D7-4F6F-BAC9-88C055456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CDF36-506A-46BD-908D-BABB2EF20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9310D-F674-4505-B3D1-0E2200E28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BC21E-B241-4D02-AFFF-DA2F3F3C1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CC60B5-CC4E-4B7E-8C28-115C367DD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667E01-03CB-4D58-A2D8-0E866AAB92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0FA7EB-9B0E-41B8-AD27-882BFB759F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AF03E-3FC8-4AA1-8A67-28040FD2C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795EBA-CAA0-45D0-8A35-9033FC9E0E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893119-7D38-4660-952B-DE5FA52E2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48103E-BA16-4958-83D8-8D3F13A9A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B8ED05-ABEB-478E-AC71-A2776DC17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C1578-C846-49A1-A497-508375AE0A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52BC1-AD5E-4709-8525-24E935386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593CB-BFF8-4817-9D9E-3A0E2BE84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A43EE-1B3D-4384-AB51-3C9E6B313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C66376-D9AD-4CB3-BF2B-1200DD6B0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014449-7327-4ACB-9769-4D934E7B50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68F3-B01A-4FD8-8EDD-074DA000F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40A793-A52A-463B-A9E1-6FC3C4F0AD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B4750-D40F-468C-9DA2-19199F6F45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D858D-2EB1-4546-BC98-353FE8EF6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39518B-33B5-46E2-959A-7723842EA6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00BCA-1874-46AB-8A85-6E541AFF4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926E2-562F-4602-9E45-D23E2C73E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08FCE1-ED43-48D4-9CED-DA33BC398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8DE89-BD1C-47FD-A297-EB1DE43AA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838A0-E1C8-4228-9F0F-6F2E681AF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7FFF0-EB34-4B57-881C-CA08A9E04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CE23-CFE0-4810-BF35-AEEDFDAAE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FBAA30-9CC9-4BFA-A4F5-6E0227324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7C655F-C504-43AF-9F03-0F9D8B69ED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D20BDC-A050-42C1-957F-BC8FE544CA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5C53E4-DCB4-454C-879E-5F8C4946DC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C65468-20A2-42DF-93F2-960F3FF5A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0B2AE-0550-4FAC-A1AA-96601ABA2E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FABD4-6CD2-45EA-8AA8-2C9BE2811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109754-DF12-4E88-8C15-8A7DBA903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B70B1-A99F-449F-B271-D244A50A8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8B25D-0352-4194-8D92-5A04833A9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1D8AD-7FD5-41BB-A9B2-9E444A73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9871F-5F11-45E4-A152-49EED78FD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89162-29AD-4110-B931-AB7EF3A19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D8CAA-F85E-4C20-BA88-4481167F49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93BE14-A462-4D60-92B9-3B0F83AF6C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596794-DB9A-47BE-832A-0099364ECB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CC12B3-5F8B-47A5-B460-8B8FB27B34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F0489D-036E-4EB1-A765-BF877742B8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651173-21A0-43C9-91C3-6A4B2EE4A6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00CFD7-500A-4DBA-8AF9-3184034621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C1180F-E4A5-4704-8C17-A66E0B5A07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5F2E-1F46-4D68-B56E-EFB0CADC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58E6B0-C879-4517-8957-9C91846B7F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2ABEC-17A0-4224-AE6F-F2D9A89FE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9A964-D26F-41D9-82B5-1293F5053C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DB1D9-A1B1-4B7C-905C-EBA69982E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3C9FA4-D52E-40C7-AB40-6F950C0B38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7994F1-7228-424D-BB2B-DD47968C20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2A9007-97AD-4944-AB89-FC26A5F3DB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0203AE-7E99-40A9-AE54-82318A7681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554E0-C42F-484C-B6DC-76B0DCCE9C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4F817C-2098-42DE-BB1D-03EC727510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ETF-84</a:t>
            </a:r>
            <a:br>
              <a:rPr sz="1200"/>
            </a:br>
            <a:r>
              <a:rPr b="0" lang="de-DE" sz="1200" spc="-1" strike="noStrike">
                <a:solidFill>
                  <a:srgbClr val="000000"/>
                </a:solidFill>
                <a:latin typeface="Calibri"/>
              </a:rPr>
              <a:t>Vancouver</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A384-8964-4395-BB39-E87E1869D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22D5-0895-4AB3-A813-20F888042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7074-7FE1-4A67-B3E9-D504AC11E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0AAE-6423-4C45-BD38-C51F85CD0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7-27</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1, Quebec</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6028-3939-49A8-BD06-B5940C938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2651-30C9-4D3A-A165-B7E18C367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31B2-556E-46E2-AC68-69E74C8A5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9DCC-0F7F-4CCF-A2B7-85DB0C61A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C3B6-73CC-487A-95FC-2AB6563C4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8AFD-A232-4D8D-8F94-489E9C171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97ED-23D7-41BF-92E3-544A1F17F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Mobile Communication</a:t>
            </a:r>
            <a:br>
              <a:rPr sz="3600"/>
            </a:br>
            <a:r>
              <a:rPr b="0" lang="fr-FR" sz="3600" spc="-1" strike="noStrike">
                <a:solidFill>
                  <a:srgbClr val="000000"/>
                </a:solidFill>
                <a:latin typeface="Calibri"/>
              </a:rPr>
              <a:t>Congestion Exposure Scenario</a:t>
            </a:r>
            <a:br>
              <a:rPr sz="3600"/>
            </a:br>
            <a:r>
              <a:rPr b="0" lang="fr-FR" sz="3600" spc="-1" strike="noStrike">
                <a:solidFill>
                  <a:srgbClr val="000000"/>
                </a:solidFill>
                <a:latin typeface="Calibri"/>
              </a:rPr>
              <a:t> </a:t>
            </a:r>
            <a:r>
              <a:rPr b="0" lang="en-US" sz="1600" spc="-1" strike="noStrike">
                <a:solidFill>
                  <a:srgbClr val="000000"/>
                </a:solidFill>
                <a:latin typeface="Calibri"/>
              </a:rPr>
              <a:t>http://tools.ietf.org/html/draft-ietf-conex-mobile-00</a:t>
            </a:r>
            <a:br>
              <a:rPr sz="3600"/>
            </a:br>
            <a:endParaRPr b="0" lang="en-US" sz="1600" spc="-1" strike="noStrike">
              <a:solidFill>
                <a:srgbClr val="000000"/>
              </a:solidFill>
              <a:latin typeface="Calibri"/>
            </a:endParaRPr>
          </a:p>
        </p:txBody>
      </p:sp>
      <p:sp>
        <p:nvSpPr>
          <p:cNvPr id="452" name="PlaceHolder 2"/>
          <p:cNvSpPr>
            <a:spLocks noGrp="1"/>
          </p:cNvSpPr>
          <p:nvPr>
            <p:ph type="subTitle"/>
          </p:nvPr>
        </p:nvSpPr>
        <p:spPr>
          <a:xfrm>
            <a:off x="2742840" y="3886200"/>
            <a:ext cx="380988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Dirk Kutsche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Faisal Mi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Rolf Winte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Suresh Krishna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Ying Zhang</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Carlos Jesus Bernardos Cano</a:t>
            </a:r>
            <a:endParaRPr b="0" lang="en-US" sz="2000" spc="-1" strike="noStrike">
              <a:solidFill>
                <a:srgbClr val="000000"/>
              </a:solidFill>
              <a:latin typeface="Calibri"/>
            </a:endParaRPr>
          </a:p>
        </p:txBody>
      </p:sp>
      <p:sp>
        <p:nvSpPr>
          <p:cNvPr id="4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F2C9-2836-454C-BC99-CFB481D48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56" name="Subtitle 2"/>
          <p:cNvSpPr/>
          <p:nvPr/>
        </p:nvSpPr>
        <p:spPr>
          <a:xfrm>
            <a:off x="5105520" y="3886200"/>
            <a:ext cx="403848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Calibri"/>
            </a:endParaRPr>
          </a:p>
        </p:txBody>
      </p:sp>
      <p:sp>
        <p:nvSpPr>
          <p:cNvPr id="458" name=""/>
          <p:cNvSpPr txBox="1"/>
          <p:nvPr/>
        </p:nvSpPr>
        <p:spPr>
          <a:xfrm>
            <a:off x="457200" y="1599840"/>
            <a:ext cx="8229600" cy="4267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scribe benefits and possible deployment scenarios of CONEX in mobile networ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 LTE is getting deployed no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looking into dealing with congestion (and with Over-the-Top traffic no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bjective: encourage experiments with CONEX in well-managed network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 a complete specificatio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be done outside of IETF</a:t>
            </a:r>
            <a:endParaRPr b="0" lang="en-US" sz="2400" spc="-1" strike="noStrike">
              <a:solidFill>
                <a:srgbClr val="000000"/>
              </a:solidFill>
              <a:latin typeface="Calibri"/>
            </a:endParaRPr>
          </a:p>
        </p:txBody>
      </p:sp>
      <p:sp>
        <p:nvSpPr>
          <p:cNvPr id="4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73F1-19BC-47A6-893B-0C31D9B78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estion Management in 3GPP</a:t>
            </a:r>
            <a:endParaRPr b="0" lang="en-US" sz="4400" spc="-1" strike="noStrike">
              <a:solidFill>
                <a:srgbClr val="000000"/>
              </a:solidFill>
              <a:latin typeface="Calibri"/>
            </a:endParaRPr>
          </a:p>
        </p:txBody>
      </p:sp>
      <p:sp>
        <p:nvSpPr>
          <p:cNvPr id="4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1A54-DB50-40C3-98A5-E467A122B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466" name="Picture 2" descr=""/>
          <p:cNvPicPr/>
          <p:nvPr/>
        </p:nvPicPr>
        <p:blipFill>
          <a:blip r:embed="rId1"/>
          <a:stretch/>
        </p:blipFill>
        <p:spPr>
          <a:xfrm>
            <a:off x="1447920" y="3438360"/>
            <a:ext cx="6172200" cy="3038760"/>
          </a:xfrm>
          <a:prstGeom prst="rect">
            <a:avLst/>
          </a:prstGeom>
          <a:ln w="0">
            <a:noFill/>
          </a:ln>
        </p:spPr>
      </p:pic>
      <p:sp>
        <p:nvSpPr>
          <p:cNvPr id="467" name=""/>
          <p:cNvSpPr txBox="1"/>
          <p:nvPr/>
        </p:nvSpPr>
        <p:spPr>
          <a:xfrm>
            <a:off x="152280" y="1294920"/>
            <a:ext cx="8839440" cy="2143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GPP started study item on </a:t>
            </a:r>
            <a:r>
              <a:rPr b="0" i="1" lang="en-US" sz="2200" spc="-1" strike="noStrike">
                <a:solidFill>
                  <a:srgbClr val="000000"/>
                </a:solidFill>
                <a:latin typeface="Calibri"/>
              </a:rPr>
              <a:t>User Plane Congestion Management</a:t>
            </a:r>
            <a:r>
              <a:rPr b="0" lang="en-US" sz="2200" spc="-1" strike="noStrike">
                <a:solidFill>
                  <a:srgbClr val="000000"/>
                </a:solidFill>
                <a:latin typeface="Calibri"/>
              </a:rPr>
              <a:t> (UPC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study scenarios and use cases where high usage levels lead to user plane traffic congestion in the RAN, and to propose requirements for handling user plane traffic when RAN congestion occu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make efficient use of available resources to increase the potential number of active users while maintaining the user experi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8" name="TextBox 6"/>
          <p:cNvSpPr/>
          <p:nvPr/>
        </p:nvSpPr>
        <p:spPr>
          <a:xfrm>
            <a:off x="7704000" y="610704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 22.8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ft-ietf-conex-mobile-00</a:t>
            </a:r>
            <a:endParaRPr b="0" lang="en-US" sz="4400" spc="-1" strike="noStrike">
              <a:solidFill>
                <a:srgbClr val="000000"/>
              </a:solidFill>
              <a:latin typeface="Calibri"/>
            </a:endParaRPr>
          </a:p>
        </p:txBody>
      </p:sp>
      <p:sp>
        <p:nvSpPr>
          <p:cNvPr id="4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escribing 3GPP‘s Evolved Packet System (EP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nalyzing CONEX use cases in mobile communication network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Traffic manag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ncentivize scavenger trans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ccounting for congestion volu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fferential Q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Partial vs. Full Deployment</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ONEX in the EP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cross operator domai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Within one operator networ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lementing ConEx mechanisms and policing functions</a:t>
            </a:r>
            <a:endParaRPr b="0" lang="en-US" sz="2000" spc="-1" strike="noStrike">
              <a:solidFill>
                <a:srgbClr val="000000"/>
              </a:solidFill>
              <a:latin typeface="Calibri"/>
            </a:endParaRPr>
          </a:p>
        </p:txBody>
      </p:sp>
      <p:sp>
        <p:nvSpPr>
          <p:cNvPr id="4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6089-511F-42FF-9354-7F5C133DE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Recent Changes</a:t>
            </a:r>
            <a:endParaRPr b="0" lang="en-US" sz="4400" spc="-1" strike="noStrike">
              <a:solidFill>
                <a:srgbClr val="000000"/>
              </a:solidFill>
              <a:latin typeface="Calibri"/>
            </a:endParaRPr>
          </a:p>
        </p:txBody>
      </p:sp>
      <p:sp>
        <p:nvSpPr>
          <p:cNvPr id="475" name=""/>
          <p:cNvSpPr txBox="1"/>
          <p:nvPr/>
        </p:nvSpPr>
        <p:spPr>
          <a:xfrm>
            <a:off x="457200" y="1600200"/>
            <a:ext cx="8229600" cy="46483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oduction of a new use case: CONEX triggering traffic offload</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corrections of 3GPP terminology uses, editorial improvements</a:t>
            </a:r>
            <a:endParaRPr b="0" lang="en-US" sz="3600" spc="-1" strike="noStrike">
              <a:solidFill>
                <a:srgbClr val="000000"/>
              </a:solidFill>
              <a:latin typeface="Calibri"/>
            </a:endParaRPr>
          </a:p>
        </p:txBody>
      </p:sp>
      <p:sp>
        <p:nvSpPr>
          <p:cNvPr id="4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4892-98C1-4156-8975-958D2E80A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ular offloading use case</a:t>
            </a:r>
            <a:endParaRPr b="0" lang="en-US" sz="4400" spc="-1" strike="noStrike">
              <a:solidFill>
                <a:srgbClr val="000000"/>
              </a:solidFill>
              <a:latin typeface="Calibri"/>
            </a:endParaRPr>
          </a:p>
        </p:txBody>
      </p:sp>
      <p:sp>
        <p:nvSpPr>
          <p:cNvPr id="480" name=""/>
          <p:cNvSpPr txBox="1"/>
          <p:nvPr/>
        </p:nvSpPr>
        <p:spPr>
          <a:xfrm>
            <a:off x="75960" y="1371240"/>
            <a:ext cx="5105160" cy="51814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loading: mechanism to selectively and seamlessly switch over a single IP flow to a different radio access (e.g., WLA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EX can be used to more effectively trigger the offload of selected traffic to a non-3GPP network</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ecision on when and which IP flows move is typically based on static configured ru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EX mechanisms could also factor in real-time congestion events in the decision</a:t>
            </a:r>
            <a:endParaRPr b="0" lang="en-US" sz="2200" spc="-1" strike="noStrike">
              <a:solidFill>
                <a:srgbClr val="000000"/>
              </a:solidFill>
              <a:latin typeface="Calibri"/>
            </a:endParaRPr>
          </a:p>
        </p:txBody>
      </p:sp>
      <p:sp>
        <p:nvSpPr>
          <p:cNvPr id="481"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82"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8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64FA-B015-4DC7-BACE-447CEDC2B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484" name="Picture 2" descr=""/>
          <p:cNvPicPr/>
          <p:nvPr/>
        </p:nvPicPr>
        <p:blipFill>
          <a:blip r:embed="rId1"/>
          <a:stretch/>
        </p:blipFill>
        <p:spPr>
          <a:xfrm>
            <a:off x="4952880" y="1157400"/>
            <a:ext cx="4191120" cy="55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Mobile Networks</a:t>
            </a:r>
            <a:endParaRPr b="0" lang="en-US" sz="4400" spc="-1" strike="noStrike">
              <a:solidFill>
                <a:srgbClr val="000000"/>
              </a:solidFill>
              <a:latin typeface="Calibri"/>
            </a:endParaRPr>
          </a:p>
        </p:txBody>
      </p:sp>
      <p:sp>
        <p:nvSpPr>
          <p:cNvPr id="486" name=""/>
          <p:cNvSpPr txBox="1"/>
          <p:nvPr/>
        </p:nvSpPr>
        <p:spPr>
          <a:xfrm>
            <a:off x="457200" y="1600200"/>
            <a:ext cx="8229600" cy="457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ttle neck normally the wireless link</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not necessarily in all cases: LTE capacity, small cells in hotspots can hit backhaul limi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rmally very few packets drops due to lossy link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dio interface as a reliable link lay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ay and jitter can be significan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EX as proposed here would have to rely on ECN (with accurate feedback)</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N in LTE currently used for wireless downlink only (to trigger audio codec adap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experiments with AQM and ECN in base stations need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D331-F7F1-46C4-B326-8D4D938EE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for Next Steps</a:t>
            </a:r>
            <a:endParaRPr b="0" lang="en-US" sz="4400" spc="-1" strike="noStrike">
              <a:solidFill>
                <a:srgbClr val="000000"/>
              </a:solidFill>
              <a:latin typeface="Calibri"/>
            </a:endParaRPr>
          </a:p>
        </p:txBody>
      </p:sp>
      <p:sp>
        <p:nvSpPr>
          <p:cNvPr id="491"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think document scope is OK n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nt to do another revision (shortening, upd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oking for reviewers – volunte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sible way forward: WGLC next revis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iming at finishing WGLC before IETF-85</a:t>
            </a:r>
            <a:endParaRPr b="0" lang="en-US" sz="2600" spc="-1" strike="noStrike">
              <a:solidFill>
                <a:srgbClr val="000000"/>
              </a:solidFill>
              <a:latin typeface="Calibri"/>
            </a:endParaRPr>
          </a:p>
        </p:txBody>
      </p:sp>
      <p:sp>
        <p:nvSpPr>
          <p:cNvPr id="4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C6AF-3E7D-45E4-B310-7D5B81327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4:08:36Z</dcterms:created>
  <dc:creator>Dirk Kutscher</dc:creator>
  <dc:description/>
  <dc:language>en-US</dc:language>
  <cp:lastModifiedBy>Dirk Kutscher</cp:lastModifiedBy>
  <dcterms:modified xsi:type="dcterms:W3CDTF">2012-07-31T18:42:59Z</dcterms:modified>
  <cp:revision>49</cp:revision>
  <dc:subject/>
  <dc:title>Mobile Communication Congestion Exposure Scenario  http://datatracker.ietf.org/doc/draft-kutscher-conex-mobile/</dc:title>
</cp:coreProperties>
</file>