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png" ContentType="image/png"/>
  <Override PartName="/ppt/media/image2.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38F3EE-A767-4D40-A060-3C7C7B2FAC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9D80ED-5DF6-488A-BA1D-5A5709A57C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306764C-3064-481D-8382-E1D635DAC8B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7AE2823-7E51-4D8F-8FAA-BAFBD1ED8D1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34A7057-9DF5-4237-8EE9-1C87FA6736A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2EEE1A5-1A17-4B96-8BD0-80BF04F83ED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4BD345C-F8E0-420B-B190-B7F750C648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6BA9BB-ED8D-4F55-9EBF-C76F51EC36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E2C70D9-FEDD-4714-819C-8BBD82DA2A1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41D84B2-F332-4901-9C50-32225232A57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96E6259-DE90-4B14-83A6-D84781E150F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DE41883-FE0F-4C7E-97B1-5E799FF6631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AA937B-FEE8-4DE7-BB1A-E5B93AC884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E65347F-652E-46B8-B73B-8075DC39463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890FED5-D44B-49AE-94F0-2375476F26E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412EAA1-DCB3-41B0-9930-48859311C8E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C5737D3-364B-4D55-A298-3FF25CF1FFB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F391B5D-B53A-42B0-8883-28EC59E4407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1604595-D445-4487-A37C-E2A286AE736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A52703B-9892-47B9-ABA8-D20D9A5612D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CCB9A09-B283-49C9-843A-C4ABA52D824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A9B53AA-BB17-4934-82DA-E3F86628E52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F811ACF-5B50-4B0C-955A-C6179002A73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B3C2FA-AA0A-445E-9805-D74DD48184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A9EB96B-F80F-4FF2-9AA3-401738864BB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73CF729-C863-4065-B3EF-C95463E2E5A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664D75D-2B09-4DA6-862D-88BB9960225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E595909-FA29-4AE5-A101-557F129988E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2F5B00F-C458-43BD-9838-BAF7D7C3F34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5E46FEB-81D8-485E-B100-AC84A087013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3B243E0-1AF6-4710-8A98-400B67CBE1E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7E5D1C2-BE23-4196-A3EA-123241467C7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B0AE8EE-8702-4320-B2B7-AE4377EE308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6DA3AA1-9096-4479-B563-287A68A2AE1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C9CD34-2A03-4627-83FB-24CF20D4FA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8430C5C-2086-4336-9BA5-624374CA923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CFD4E59-E264-4AE2-B201-6C8A3A5465D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16326A8-CCEB-4F08-B934-2427E53DC94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1E5544-9DF6-4CE7-9229-119CAB7D57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A2F604-31B9-4157-AC1E-574D784031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FC0307-628E-4D5E-9D79-CF7C2E6885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3BFF8A-1899-49AF-A0A4-442B9DDBFE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A5AD1B-5944-4925-99A8-E7B097AD37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0ACFBB-8452-413C-8C58-B53AACF41E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092037-15F4-405C-83F8-D9F3588F4A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92CD6F-82D1-47C6-8721-26DB76B379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CE29F2-057E-4F8A-B5B4-75B45E6FB0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A37CFB-3813-40FE-B8A0-C17F3EAB91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F74954-A0B8-44DA-814C-6ECD80E866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077271-8190-404F-A8F7-F9A32155EC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F12BCF6-4809-41BD-B163-7EC4CEFCE10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8B029F-585C-4977-96A0-4862A6DE0B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FD495C-49F6-4336-8178-985F447155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6D7290-EE7E-4E40-821E-9BB60FA46A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7D40AC-B3C5-4B15-92E2-40DF283555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4713C1-F2CA-423A-A3D1-8398B85644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DE64FF-BD24-4DCD-91F6-8D11245509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0CE826-360B-4150-8897-2E35F8FC28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859A79-8428-4F84-8559-7B722314D6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575A61-6248-48D2-82F7-35F071DD53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13ED5B-A783-47FD-9629-7398F5F583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1A2E0EA-831C-47C9-BDC5-59ABD12ECF5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29E3319-56AA-4137-B875-B62804D6210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D8B577D-0DD9-42CE-A71E-213B841FF1B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F88D25-16C1-437B-84CB-6506A347BC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4A5677-90FA-42A0-B0D3-493967CF62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5739AA-90CA-4E06-AD7A-8F2BC77D45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D218DD-19B1-49B4-AA63-921525BC2B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C1235C-2E5D-4DFC-815B-83139EBFFF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ED2EE8-DB80-4D27-A172-34D6E6BACC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5AB187-CB08-43EA-81EE-D4AF12DB86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FEC322-A007-4376-8392-9080962CB0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9F4ED6-E9CA-4733-8997-8692EE00E3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29B93C-DFCC-4EA1-96F7-0D40ADD8A9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DCFE5A8-393E-49C1-A2A1-7AF03CF8DF0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F69AA89-A8B4-4240-83F5-5038C7FF392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350E376-DEA6-4E30-99A2-60E2068CDC6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79C0B5-00C8-45C4-A857-2FAAD95EEF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D968D0C-22F3-419B-8B64-4E2062FC97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7A629E-1645-4714-8A1A-6A0B4F7D82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CE34C4-C528-4835-A3CB-81AAB9A6BB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855408-5CB6-4265-9D44-71E4D773CA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741EB70-8FEB-4A55-B653-F62D9E1F23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6C59B0-7605-4FB8-8593-8320F8E179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40B146-9D74-4CEB-BF3E-AE35AC84F1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C64E14-DA1C-4538-B40F-FDE846B941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54F48D7-EBE1-47EC-9E94-92CD1DBF53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97A9BBA-33F7-4A82-A420-9A1E32B5994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E3F2A0-C27A-4F36-8D7A-1ECD4B65B8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656880C-7315-4062-981E-59DB0B21141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116AC88-0FE5-46CD-A927-7ADFE6E7BD9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C6F63A7-A785-43C5-A67A-A82EC10B882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7D74218-8E71-4CFC-83EF-AF5DA75D42E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A4201E9-5FA5-4EBE-A2A3-C625091AB97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5696323-2766-46CC-9277-4026604D161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A2F6960-CF5B-48CB-B3BF-F2B239526A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513AB6-9F35-415D-BF31-ACC2E79E7D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7925A7-65DC-41A7-9120-E54FA8754A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F2A6BB-2F05-4BDD-BB6D-4AD11D2435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6E782-7AA3-44E4-ADC1-49A8E9F9E6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7F59470-704C-4DE5-9509-2A2425BBBC6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E58F64A-9361-418E-B97D-C40D78EF882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4B577B6-D621-43C6-8D21-E46C95E0C3C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06D96B5-CB71-40D1-84EE-7D0ED76651E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982A1E5-9886-4F2F-9663-C6A3D7D044C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604E2B8-9C84-4CE3-A36B-0A888ECC2B0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EDC721C-E181-4CAA-8167-C73536E8A47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4EE1217-8B8B-4961-8549-57E1F8A52A2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19766AF-F404-4E55-A58F-D2740526468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034F4E-AFE5-4042-9F97-7D280AFF9B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0A277-CA01-4664-97EE-D8EA3E5547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AF65D5-4E32-4B5A-8D2F-5F7CD2A0F4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C7D6980-C289-4EC4-8660-2E6861F0A3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A5F1CD5-55B5-4F4C-8D81-94AD3181E30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DD7BE1D-4187-48D7-A6AA-47E54E9196E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759DD8A-72ED-4486-A830-D90ACBC65A9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EA10240-E091-49F1-8F40-90B8F97B7A4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3489886-3D6D-48ED-A08E-87F7FB2FFF5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E52440E-457A-46BF-B105-C7E18AF81AA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AD5353A-D705-4BB1-BD42-78B5233788A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89BD4E7-3A69-498C-B55A-EB0BED88394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00BE67-5510-45DA-B8C4-237FE2784B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C0DBF46-9459-4CE6-83F7-92E3EC90C9B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969B74-D266-41AA-8691-025E4F8FF4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666BEF-C3D3-4828-B152-AA3007629B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2E5084-6D6F-4144-A4FC-2547158B7C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0450ED0-F358-4A7B-9AED-9D887C37D02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6D3A8D9-2E77-43B1-865B-63297B1A14D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5F87A23-5F3E-49D3-B62E-902AE2C47CE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9B11AC4-BFFA-4030-A9E1-2ED744648E4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4331B91-AE17-4C17-86B9-F942FCFDDD2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61442CF-0194-468D-AA52-864F3C6B20B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12-08-01</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IETF-84</a:t>
            </a:r>
            <a:br>
              <a:rPr sz="1200"/>
            </a:br>
            <a:r>
              <a:rPr b="0" lang="de-DE" sz="1200" spc="-1" strike="noStrike">
                <a:solidFill>
                  <a:srgbClr val="000000"/>
                </a:solidFill>
                <a:latin typeface="Calibri"/>
              </a:rPr>
              <a:t>Vancouver</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F6D5D-6FE5-4CEA-B2B9-F9A02707C6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11-03-31</a:t>
            </a:r>
            <a:endParaRPr b="0" lang="en-US" sz="1200" spc="-1" strike="noStrike">
              <a:solidFill>
                <a:srgbClr val="000000"/>
              </a:solidFill>
              <a:latin typeface="Arial"/>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TF-80, Prague</a:t>
            </a:r>
            <a:endParaRPr b="0" lang="en-US" sz="1200" spc="-1" strike="noStrike">
              <a:solidFill>
                <a:srgbClr val="000000"/>
              </a:solidFill>
              <a:latin typeface="Arial"/>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A769E-6A85-45C4-A9E9-E3B5D1B6FA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11-03-31</a:t>
            </a:r>
            <a:endParaRPr b="0" lang="en-US" sz="1200" spc="-1" strike="noStrike">
              <a:solidFill>
                <a:srgbClr val="000000"/>
              </a:solidFill>
              <a:latin typeface="Arial"/>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TF-80, Prague</a:t>
            </a:r>
            <a:endParaRPr b="0" lang="en-US" sz="1200" spc="-1" strike="noStrike">
              <a:solidFill>
                <a:srgbClr val="000000"/>
              </a:solidFill>
              <a:latin typeface="Arial"/>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E1DDB-D37D-4109-B16C-0FA7E1590B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12-08-01</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TF-84, Vancouver</a:t>
            </a:r>
            <a:endParaRPr b="0" lang="en-US" sz="12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CEF17-8FC7-4F76-8915-025F666B1C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11-07-27</a:t>
            </a:r>
            <a:endParaRPr b="0" lang="en-US" sz="1200" spc="-1" strike="noStrike">
              <a:solidFill>
                <a:srgbClr val="000000"/>
              </a:solidFill>
              <a:latin typeface="Arial"/>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TF-81, Quebec</a:t>
            </a:r>
            <a:endParaRPr b="0" lang="en-US" sz="12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DC74A-F7BC-468D-9592-573087C366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11-03-31</a:t>
            </a:r>
            <a:endParaRPr b="0" lang="en-US" sz="1200" spc="-1" strike="noStrike">
              <a:solidFill>
                <a:srgbClr val="000000"/>
              </a:solidFill>
              <a:latin typeface="Arial"/>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TF-80, Prague</a:t>
            </a:r>
            <a:endParaRPr b="0" lang="en-US" sz="12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97133-6AB7-4F25-8DC2-50A9A06E79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11-03-31</a:t>
            </a:r>
            <a:endParaRPr b="0" lang="en-US" sz="1200" spc="-1" strike="noStrike">
              <a:solidFill>
                <a:srgbClr val="000000"/>
              </a:solidFill>
              <a:latin typeface="Arial"/>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TF-80, Prague</a:t>
            </a:r>
            <a:endParaRPr b="0" lang="en-US" sz="12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DB56C-36BC-41D2-AD80-7A1C63DF97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11-03-31</a:t>
            </a:r>
            <a:endParaRPr b="0" lang="en-US" sz="1200" spc="-1" strike="noStrike">
              <a:solidFill>
                <a:srgbClr val="000000"/>
              </a:solidFill>
              <a:latin typeface="Arial"/>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TF-80, Prague</a:t>
            </a:r>
            <a:endParaRPr b="0" lang="en-US" sz="12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808EF-3E5A-4641-BBAF-0B8EC66E7C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11-03-31</a:t>
            </a:r>
            <a:endParaRPr b="0" lang="en-US" sz="1200" spc="-1" strike="noStrike">
              <a:solidFill>
                <a:srgbClr val="000000"/>
              </a:solidFill>
              <a:latin typeface="Arial"/>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TF-80, Prague</a:t>
            </a:r>
            <a:endParaRPr b="0" lang="en-US" sz="12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AE429-E2AD-4CEF-9260-34813724E1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11-03-31</a:t>
            </a:r>
            <a:endParaRPr b="0" lang="en-US" sz="1200" spc="-1" strike="noStrike">
              <a:solidFill>
                <a:srgbClr val="000000"/>
              </a:solidFill>
              <a:latin typeface="Arial"/>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TF-80, Prague</a:t>
            </a:r>
            <a:endParaRPr b="0" lang="en-US" sz="1200" spc="-1" strike="noStrike">
              <a:solidFill>
                <a:srgbClr val="000000"/>
              </a:solidFill>
              <a:latin typeface="Arial"/>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FBCC5-79D4-4ED9-981D-63E732F015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11-03-31</a:t>
            </a:r>
            <a:endParaRPr b="0" lang="en-US" sz="1200" spc="-1" strike="noStrike">
              <a:solidFill>
                <a:srgbClr val="000000"/>
              </a:solidFill>
              <a:latin typeface="Arial"/>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TF-80, Prague</a:t>
            </a:r>
            <a:endParaRPr b="0" lang="en-US" sz="1200" spc="-1" strike="noStrike">
              <a:solidFill>
                <a:srgbClr val="000000"/>
              </a:solidFill>
              <a:latin typeface="Arial"/>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C51D7-13C4-448C-8BE2-B83103DEBA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alibri"/>
              </a:rPr>
              <a:t>Mobile Communication</a:t>
            </a:r>
            <a:br>
              <a:rPr sz="3600"/>
            </a:br>
            <a:r>
              <a:rPr b="0" lang="fr-FR" sz="3600" spc="-1" strike="noStrike">
                <a:solidFill>
                  <a:srgbClr val="000000"/>
                </a:solidFill>
                <a:latin typeface="Calibri"/>
              </a:rPr>
              <a:t>Congestion Exposure Scenario</a:t>
            </a:r>
            <a:br>
              <a:rPr sz="3600"/>
            </a:br>
            <a:r>
              <a:rPr b="0" lang="fr-FR" sz="3600" spc="-1" strike="noStrike">
                <a:solidFill>
                  <a:srgbClr val="000000"/>
                </a:solidFill>
                <a:latin typeface="Calibri"/>
              </a:rPr>
              <a:t> </a:t>
            </a:r>
            <a:r>
              <a:rPr b="0" lang="en-US" sz="1600" spc="-1" strike="noStrike">
                <a:solidFill>
                  <a:srgbClr val="000000"/>
                </a:solidFill>
                <a:latin typeface="Calibri"/>
              </a:rPr>
              <a:t>http://tools.ietf.org/html/draft-ietf-conex-mobile-00</a:t>
            </a:r>
            <a:br>
              <a:rPr sz="3600"/>
            </a:br>
            <a:endParaRPr b="0" lang="en-US" sz="1600" spc="-1" strike="noStrike">
              <a:solidFill>
                <a:srgbClr val="000000"/>
              </a:solidFill>
              <a:latin typeface="Calibri"/>
            </a:endParaRPr>
          </a:p>
        </p:txBody>
      </p:sp>
      <p:sp>
        <p:nvSpPr>
          <p:cNvPr id="452" name="PlaceHolder 2"/>
          <p:cNvSpPr>
            <a:spLocks noGrp="1"/>
          </p:cNvSpPr>
          <p:nvPr>
            <p:ph type="subTitle"/>
          </p:nvPr>
        </p:nvSpPr>
        <p:spPr>
          <a:xfrm>
            <a:off x="2742840" y="3886200"/>
            <a:ext cx="3809880" cy="175248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98989"/>
                </a:solidFill>
                <a:latin typeface="Calibri"/>
              </a:rPr>
              <a:t>Dirk Kutscher</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98989"/>
                </a:solidFill>
                <a:latin typeface="Calibri"/>
              </a:rPr>
              <a:t>Faisal Mir</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98989"/>
                </a:solidFill>
                <a:latin typeface="Calibri"/>
              </a:rPr>
              <a:t>Rolf Winter</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98989"/>
                </a:solidFill>
                <a:latin typeface="Calibri"/>
              </a:rPr>
              <a:t>Suresh Krishnan</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alibri"/>
              </a:rPr>
              <a:t>Ying Zhang</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98989"/>
                </a:solidFill>
                <a:latin typeface="Calibri"/>
              </a:rPr>
              <a:t>Carlos Jesus Bernardos Cano</a:t>
            </a:r>
            <a:endParaRPr b="0" lang="en-US" sz="2000" spc="-1" strike="noStrike">
              <a:solidFill>
                <a:srgbClr val="000000"/>
              </a:solidFill>
              <a:latin typeface="Calibri"/>
            </a:endParaRPr>
          </a:p>
        </p:txBody>
      </p:sp>
      <p:sp>
        <p:nvSpPr>
          <p:cNvPr id="453"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12-08-01</a:t>
            </a:r>
            <a:endParaRPr b="0" lang="en-US" sz="1200" spc="-1" strike="noStrike">
              <a:solidFill>
                <a:srgbClr val="000000"/>
              </a:solidFill>
              <a:latin typeface="Arial"/>
            </a:endParaRPr>
          </a:p>
        </p:txBody>
      </p:sp>
      <p:sp>
        <p:nvSpPr>
          <p:cNvPr id="45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4200E-5CCD-4178-9FCF-38AF5C463E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55"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IETF-84, Vancouver</a:t>
            </a:r>
            <a:endParaRPr b="0" lang="en-US" sz="1200" spc="-1" strike="noStrike">
              <a:solidFill>
                <a:srgbClr val="000000"/>
              </a:solidFill>
              <a:latin typeface="Arial"/>
            </a:endParaRPr>
          </a:p>
        </p:txBody>
      </p:sp>
      <p:sp>
        <p:nvSpPr>
          <p:cNvPr id="456" name="Subtitle 2"/>
          <p:cNvSpPr/>
          <p:nvPr/>
        </p:nvSpPr>
        <p:spPr>
          <a:xfrm>
            <a:off x="5105520" y="3886200"/>
            <a:ext cx="403848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tivation</a:t>
            </a:r>
            <a:endParaRPr b="0" lang="en-US" sz="4400" spc="-1" strike="noStrike">
              <a:solidFill>
                <a:srgbClr val="000000"/>
              </a:solidFill>
              <a:latin typeface="Calibri"/>
            </a:endParaRPr>
          </a:p>
        </p:txBody>
      </p:sp>
      <p:sp>
        <p:nvSpPr>
          <p:cNvPr id="458" name=""/>
          <p:cNvSpPr txBox="1"/>
          <p:nvPr/>
        </p:nvSpPr>
        <p:spPr>
          <a:xfrm>
            <a:off x="457200" y="1599840"/>
            <a:ext cx="8229600" cy="42670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escribe benefits and possible deployment scenarios of CONEX in mobile network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ckground: LTE is getting deployed now</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erators looking into dealing with congestion (and with Over-the-Top traffic now)</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Objective: encourage experiments with CONEX in well-managed network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NOT: a complete specification</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tter be done outside of IETF</a:t>
            </a:r>
            <a:endParaRPr b="0" lang="en-US" sz="2400" spc="-1" strike="noStrike">
              <a:solidFill>
                <a:srgbClr val="000000"/>
              </a:solidFill>
              <a:latin typeface="Calibri"/>
            </a:endParaRPr>
          </a:p>
        </p:txBody>
      </p:sp>
      <p:sp>
        <p:nvSpPr>
          <p:cNvPr id="45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12-08-01</a:t>
            </a:r>
            <a:endParaRPr b="0" lang="en-US" sz="1200" spc="-1" strike="noStrike">
              <a:solidFill>
                <a:srgbClr val="000000"/>
              </a:solidFill>
              <a:latin typeface="Arial"/>
            </a:endParaRPr>
          </a:p>
        </p:txBody>
      </p:sp>
      <p:sp>
        <p:nvSpPr>
          <p:cNvPr id="46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TF-84, Vancouver</a:t>
            </a:r>
            <a:endParaRPr b="0" lang="en-US" sz="1200" spc="-1" strike="noStrike">
              <a:solidFill>
                <a:srgbClr val="000000"/>
              </a:solidFill>
              <a:latin typeface="Arial"/>
            </a:endParaRPr>
          </a:p>
        </p:txBody>
      </p:sp>
      <p:sp>
        <p:nvSpPr>
          <p:cNvPr id="46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046D4-A003-4D3D-A25D-0A902C3FB4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gestion Management in 3GPP</a:t>
            </a:r>
            <a:endParaRPr b="0" lang="en-US" sz="4400" spc="-1" strike="noStrike">
              <a:solidFill>
                <a:srgbClr val="000000"/>
              </a:solidFill>
              <a:latin typeface="Calibri"/>
            </a:endParaRPr>
          </a:p>
        </p:txBody>
      </p:sp>
      <p:sp>
        <p:nvSpPr>
          <p:cNvPr id="463"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12-08-01</a:t>
            </a:r>
            <a:endParaRPr b="0" lang="en-US" sz="1200" spc="-1" strike="noStrike">
              <a:solidFill>
                <a:srgbClr val="000000"/>
              </a:solidFill>
              <a:latin typeface="Arial"/>
            </a:endParaRPr>
          </a:p>
        </p:txBody>
      </p:sp>
      <p:sp>
        <p:nvSpPr>
          <p:cNvPr id="46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TF-84, Vancouver</a:t>
            </a:r>
            <a:endParaRPr b="0" lang="en-US" sz="1200" spc="-1" strike="noStrike">
              <a:solidFill>
                <a:srgbClr val="000000"/>
              </a:solidFill>
              <a:latin typeface="Arial"/>
            </a:endParaRPr>
          </a:p>
        </p:txBody>
      </p:sp>
      <p:sp>
        <p:nvSpPr>
          <p:cNvPr id="46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FCBB7-4B51-47FA-B7AA-04D6E87B21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466" name="Picture 2" descr=""/>
          <p:cNvPicPr/>
          <p:nvPr/>
        </p:nvPicPr>
        <p:blipFill>
          <a:blip r:embed="rId1"/>
          <a:stretch/>
        </p:blipFill>
        <p:spPr>
          <a:xfrm>
            <a:off x="1447920" y="3438360"/>
            <a:ext cx="6172200" cy="3038760"/>
          </a:xfrm>
          <a:prstGeom prst="rect">
            <a:avLst/>
          </a:prstGeom>
          <a:ln w="0">
            <a:noFill/>
          </a:ln>
        </p:spPr>
      </p:pic>
      <p:sp>
        <p:nvSpPr>
          <p:cNvPr id="467" name=""/>
          <p:cNvSpPr txBox="1"/>
          <p:nvPr/>
        </p:nvSpPr>
        <p:spPr>
          <a:xfrm>
            <a:off x="152280" y="1294920"/>
            <a:ext cx="8839440" cy="21430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3GPP started study item on </a:t>
            </a:r>
            <a:r>
              <a:rPr b="0" i="1" lang="en-US" sz="2200" spc="-1" strike="noStrike">
                <a:solidFill>
                  <a:srgbClr val="000000"/>
                </a:solidFill>
                <a:latin typeface="Calibri"/>
              </a:rPr>
              <a:t>User Plane Congestion Management</a:t>
            </a:r>
            <a:r>
              <a:rPr b="0" lang="en-US" sz="2200" spc="-1" strike="noStrike">
                <a:solidFill>
                  <a:srgbClr val="000000"/>
                </a:solidFill>
                <a:latin typeface="Calibri"/>
              </a:rPr>
              <a:t> (UPCON)</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To study scenarios and use cases where high usage levels lead to user plane traffic congestion in the RAN, and to propose requirements for handling user plane traffic when RAN congestion occur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To make efficient use of available resources to increase the potential number of active users while maintaining the user experienc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68" name="TextBox 6"/>
          <p:cNvSpPr/>
          <p:nvPr/>
        </p:nvSpPr>
        <p:spPr>
          <a:xfrm>
            <a:off x="7704000" y="6107040"/>
            <a:ext cx="136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S 22.80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raft-ietf-conex-mobile-00</a:t>
            </a:r>
            <a:endParaRPr b="0" lang="en-US" sz="4400" spc="-1" strike="noStrike">
              <a:solidFill>
                <a:srgbClr val="000000"/>
              </a:solidFill>
              <a:latin typeface="Calibri"/>
            </a:endParaRPr>
          </a:p>
        </p:txBody>
      </p:sp>
      <p:sp>
        <p:nvSpPr>
          <p:cNvPr id="470" name=""/>
          <p:cNvSpPr txBox="1"/>
          <p:nvPr/>
        </p:nvSpPr>
        <p:spPr>
          <a:xfrm>
            <a:off x="457200" y="1599840"/>
            <a:ext cx="8229600" cy="47242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Describing 3GPP‘s Evolved Packet System (EP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Analyzing CONEX use cases in mobile communication networks</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Traffic managemen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Incentivize scavenger transpor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Accounting for congestion volum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Differential Qo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Partial vs. Full Deployment</a:t>
            </a:r>
            <a:endParaRPr b="0" lang="en-US" sz="20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CONEX in the EPS</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Across operator domain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Within one operator network</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Implementing ConEx mechanisms and policing functions</a:t>
            </a:r>
            <a:endParaRPr b="0" lang="en-US" sz="2000" spc="-1" strike="noStrike">
              <a:solidFill>
                <a:srgbClr val="000000"/>
              </a:solidFill>
              <a:latin typeface="Calibri"/>
            </a:endParaRPr>
          </a:p>
        </p:txBody>
      </p:sp>
      <p:sp>
        <p:nvSpPr>
          <p:cNvPr id="47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12-08-01</a:t>
            </a:r>
            <a:endParaRPr b="0" lang="en-US" sz="1200" spc="-1" strike="noStrike">
              <a:solidFill>
                <a:srgbClr val="000000"/>
              </a:solidFill>
              <a:latin typeface="Arial"/>
            </a:endParaRPr>
          </a:p>
        </p:txBody>
      </p:sp>
      <p:sp>
        <p:nvSpPr>
          <p:cNvPr id="47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TF-84, Vancouver</a:t>
            </a:r>
            <a:endParaRPr b="0" lang="en-US" sz="1200" spc="-1" strike="noStrike">
              <a:solidFill>
                <a:srgbClr val="000000"/>
              </a:solidFill>
              <a:latin typeface="Arial"/>
            </a:endParaRPr>
          </a:p>
        </p:txBody>
      </p:sp>
      <p:sp>
        <p:nvSpPr>
          <p:cNvPr id="47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AB6BE-A1CB-424B-A03F-F2C79686D6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 of Recent Changes</a:t>
            </a:r>
            <a:endParaRPr b="0" lang="en-US" sz="4400" spc="-1" strike="noStrike">
              <a:solidFill>
                <a:srgbClr val="000000"/>
              </a:solidFill>
              <a:latin typeface="Calibri"/>
            </a:endParaRPr>
          </a:p>
        </p:txBody>
      </p:sp>
      <p:sp>
        <p:nvSpPr>
          <p:cNvPr id="475" name=""/>
          <p:cNvSpPr txBox="1"/>
          <p:nvPr/>
        </p:nvSpPr>
        <p:spPr>
          <a:xfrm>
            <a:off x="457200" y="1600200"/>
            <a:ext cx="8229600" cy="4648320"/>
          </a:xfrm>
          <a:prstGeom prst="rect">
            <a:avLst/>
          </a:prstGeom>
          <a:noFill/>
          <a:ln w="0">
            <a:noFill/>
          </a:ln>
        </p:spPr>
        <p:txBody>
          <a:bodyPr anchor="t">
            <a:normAutofit/>
          </a:bodyPr>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troduction of a new use case: CONEX triggering traffic offload</a:t>
            </a:r>
            <a:endParaRPr b="0" lang="en-US" sz="3600" spc="-1" strike="noStrike">
              <a:solidFill>
                <a:srgbClr val="000000"/>
              </a:solidFill>
              <a:latin typeface="Calibri"/>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ome corrections of 3GPP terminology uses, editorial improvements</a:t>
            </a:r>
            <a:endParaRPr b="0" lang="en-US" sz="3600" spc="-1" strike="noStrike">
              <a:solidFill>
                <a:srgbClr val="000000"/>
              </a:solidFill>
              <a:latin typeface="Calibri"/>
            </a:endParaRPr>
          </a:p>
        </p:txBody>
      </p:sp>
      <p:sp>
        <p:nvSpPr>
          <p:cNvPr id="476"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12-08-01</a:t>
            </a:r>
            <a:endParaRPr b="0" lang="en-US" sz="1200" spc="-1" strike="noStrike">
              <a:solidFill>
                <a:srgbClr val="000000"/>
              </a:solidFill>
              <a:latin typeface="Arial"/>
            </a:endParaRPr>
          </a:p>
        </p:txBody>
      </p:sp>
      <p:sp>
        <p:nvSpPr>
          <p:cNvPr id="47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TF-84, Vancouver</a:t>
            </a:r>
            <a:endParaRPr b="0" lang="en-US" sz="1200" spc="-1" strike="noStrike">
              <a:solidFill>
                <a:srgbClr val="000000"/>
              </a:solidFill>
              <a:latin typeface="Arial"/>
            </a:endParaRPr>
          </a:p>
        </p:txBody>
      </p:sp>
      <p:sp>
        <p:nvSpPr>
          <p:cNvPr id="47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8AADE-C666-4EE8-9FB1-93CF39085F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ellular offloading use case</a:t>
            </a:r>
            <a:endParaRPr b="0" lang="en-US" sz="4400" spc="-1" strike="noStrike">
              <a:solidFill>
                <a:srgbClr val="000000"/>
              </a:solidFill>
              <a:latin typeface="Calibri"/>
            </a:endParaRPr>
          </a:p>
        </p:txBody>
      </p:sp>
      <p:sp>
        <p:nvSpPr>
          <p:cNvPr id="480" name=""/>
          <p:cNvSpPr txBox="1"/>
          <p:nvPr/>
        </p:nvSpPr>
        <p:spPr>
          <a:xfrm>
            <a:off x="75960" y="1371240"/>
            <a:ext cx="5105160" cy="518148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ffloading: mechanism to selectively and seamlessly switch over a single IP flow to a different radio access (e.g., WLAN)</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EX can be used to more effectively trigger the offload of selected traffic to a non-3GPP network</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decision on when and which IP flows move is typically based on static configured rul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EX mechanisms could also factor in real-time congestion events in the decision</a:t>
            </a:r>
            <a:endParaRPr b="0" lang="en-US" sz="2200" spc="-1" strike="noStrike">
              <a:solidFill>
                <a:srgbClr val="000000"/>
              </a:solidFill>
              <a:latin typeface="Calibri"/>
            </a:endParaRPr>
          </a:p>
        </p:txBody>
      </p:sp>
      <p:sp>
        <p:nvSpPr>
          <p:cNvPr id="481" name="3 Marcador de fecha"/>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12-08-01</a:t>
            </a:r>
            <a:endParaRPr b="0" lang="en-US" sz="1200" spc="-1" strike="noStrike">
              <a:solidFill>
                <a:srgbClr val="000000"/>
              </a:solidFill>
              <a:latin typeface="Arial"/>
            </a:endParaRPr>
          </a:p>
        </p:txBody>
      </p:sp>
      <p:sp>
        <p:nvSpPr>
          <p:cNvPr id="482" name="4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TF-84, Vancouver</a:t>
            </a:r>
            <a:endParaRPr b="0" lang="en-US" sz="1200" spc="-1" strike="noStrike">
              <a:solidFill>
                <a:srgbClr val="000000"/>
              </a:solidFill>
              <a:latin typeface="Arial"/>
            </a:endParaRPr>
          </a:p>
        </p:txBody>
      </p:sp>
      <p:sp>
        <p:nvSpPr>
          <p:cNvPr id="483"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BB4F7-8566-4694-89E7-692F049A74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484" name="Picture 2" descr=""/>
          <p:cNvPicPr/>
          <p:nvPr/>
        </p:nvPicPr>
        <p:blipFill>
          <a:blip r:embed="rId1"/>
          <a:stretch/>
        </p:blipFill>
        <p:spPr>
          <a:xfrm>
            <a:off x="4952880" y="1157400"/>
            <a:ext cx="4191120" cy="5548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racteristics of Mobile Networks</a:t>
            </a:r>
            <a:endParaRPr b="0" lang="en-US" sz="4400" spc="-1" strike="noStrike">
              <a:solidFill>
                <a:srgbClr val="000000"/>
              </a:solidFill>
              <a:latin typeface="Calibri"/>
            </a:endParaRPr>
          </a:p>
        </p:txBody>
      </p:sp>
      <p:sp>
        <p:nvSpPr>
          <p:cNvPr id="486" name=""/>
          <p:cNvSpPr txBox="1"/>
          <p:nvPr/>
        </p:nvSpPr>
        <p:spPr>
          <a:xfrm>
            <a:off x="457200" y="1600200"/>
            <a:ext cx="8229600" cy="45720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Bottle neck normally the wireless link</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ut not necessarily in all cases: LTE capacity, small cells in hotspots can hit backhaul limits</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Normally very few packets drops due to lossy link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adio interface as a reliable link layer</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lay and jitter can be significant</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ONEX as proposed here would have to rely on ECN (with accurate feedback)</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CN in LTE currently used for wireless downlink only (to trigger audio codec adaptatio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ore experiments with AQM and ECN in base stations needed</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lvl="1" marL="743040" indent="-2858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48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12-08-01</a:t>
            </a:r>
            <a:endParaRPr b="0" lang="en-US" sz="1200" spc="-1" strike="noStrike">
              <a:solidFill>
                <a:srgbClr val="000000"/>
              </a:solidFill>
              <a:latin typeface="Arial"/>
            </a:endParaRPr>
          </a:p>
        </p:txBody>
      </p:sp>
      <p:sp>
        <p:nvSpPr>
          <p:cNvPr id="48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TF-84, Vancouver</a:t>
            </a:r>
            <a:endParaRPr b="0" lang="en-US" sz="1200" spc="-1" strike="noStrike">
              <a:solidFill>
                <a:srgbClr val="000000"/>
              </a:solidFill>
              <a:latin typeface="Arial"/>
            </a:endParaRPr>
          </a:p>
        </p:txBody>
      </p:sp>
      <p:sp>
        <p:nvSpPr>
          <p:cNvPr id="48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68CCD-4DE7-4A54-882E-21CBF6CD59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deas for Next Steps</a:t>
            </a:r>
            <a:endParaRPr b="0" lang="en-US" sz="4400" spc="-1" strike="noStrike">
              <a:solidFill>
                <a:srgbClr val="000000"/>
              </a:solidFill>
              <a:latin typeface="Calibri"/>
            </a:endParaRPr>
          </a:p>
        </p:txBody>
      </p:sp>
      <p:sp>
        <p:nvSpPr>
          <p:cNvPr id="491" name=""/>
          <p:cNvSpPr txBox="1"/>
          <p:nvPr/>
        </p:nvSpPr>
        <p:spPr>
          <a:xfrm>
            <a:off x="457200" y="1599840"/>
            <a:ext cx="8229600" cy="472428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e think document scope is OK now</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ant to do another revision (shortening, update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ooking for reviewers – volunteer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ossible way forward: WGLC next revision</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iming at finishing WGLC before IETF-85</a:t>
            </a:r>
            <a:endParaRPr b="0" lang="en-US" sz="2600" spc="-1" strike="noStrike">
              <a:solidFill>
                <a:srgbClr val="000000"/>
              </a:solidFill>
              <a:latin typeface="Calibri"/>
            </a:endParaRPr>
          </a:p>
        </p:txBody>
      </p:sp>
      <p:sp>
        <p:nvSpPr>
          <p:cNvPr id="49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12-08-01</a:t>
            </a:r>
            <a:endParaRPr b="0" lang="en-US" sz="1200" spc="-1" strike="noStrike">
              <a:solidFill>
                <a:srgbClr val="000000"/>
              </a:solidFill>
              <a:latin typeface="Arial"/>
            </a:endParaRPr>
          </a:p>
        </p:txBody>
      </p:sp>
      <p:sp>
        <p:nvSpPr>
          <p:cNvPr id="49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TF-84, Vancouver</a:t>
            </a:r>
            <a:endParaRPr b="0" lang="en-US" sz="1200" spc="-1" strike="noStrike">
              <a:solidFill>
                <a:srgbClr val="000000"/>
              </a:solidFill>
              <a:latin typeface="Arial"/>
            </a:endParaRPr>
          </a:p>
        </p:txBody>
      </p:sp>
      <p:sp>
        <p:nvSpPr>
          <p:cNvPr id="49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AFF60-16D1-466C-989C-170F228CBD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7T14:08:36Z</dcterms:created>
  <dc:creator>Dirk Kutscher</dc:creator>
  <dc:description/>
  <dc:language>en-US</dc:language>
  <cp:lastModifiedBy>Dirk Kutscher</cp:lastModifiedBy>
  <dcterms:modified xsi:type="dcterms:W3CDTF">2012-07-31T18:42:59Z</dcterms:modified>
  <cp:revision>49</cp:revision>
  <dc:subject/>
  <dc:title>Mobile Communication Congestion Exposure Scenario  http://datatracker.ietf.org/doc/draft-kutscher-conex-mobile/</dc:title>
</cp:coreProperties>
</file>