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73A29-5308-49BE-95FE-34238A003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52169-4D1F-48F0-89DD-5C8F8073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45403-A080-4C32-90FB-2EA6EEFE9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C728A-812E-4331-AAB8-037DDE45C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3852-9476-4FFA-A2E1-CD08FE9E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63151-D54D-4B9B-95C6-E69A5404C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E7A9-5F16-46AC-BEE8-281C4FC07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4578-1C81-4FD8-99C8-A41F09980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67913-5CF1-4B24-8FCF-4EA7CB30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A933-EBD0-48EF-A020-07873B7A8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FC67-6298-447B-A4CE-4DA9C179C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3A7B-8399-41AC-83EC-EE7E0B264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FD5F-5A9B-429E-8B9A-FBB4216EC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meter Overload Control Justification and Use Cas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tin Doll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amp;T La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 for Overload (Use Cases)</a:t>
            </a:r>
            <a:endParaRPr b="0" lang="en-US" sz="4400" spc="-1" strike="noStrike">
              <a:solidFill>
                <a:srgbClr val="000000"/>
              </a:solidFill>
              <a:latin typeface="Calibri"/>
            </a:endParaRPr>
          </a:p>
        </p:txBody>
      </p:sp>
      <p:sp>
        <p:nvSpPr>
          <p:cNvPr id="44"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capa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work element failures resulting in failo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on sto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ssive mobile devices (i.e., smart ph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elated network failures and/or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rrelated network failures and/or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estion causing message loss in other 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ial of Service atta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s of Overload (Justifica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ameter interface is defined for signalling between many core network nodes and services. Overload on these interfaces can lead to server congestion or even collapse. The impact to services can b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nial of services, persistent access restri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IMS and broadband servic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location information for emergency services and lawful intercep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ability to use policy control to provide service personaliza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ability to use policy control to optimize network resourc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lling errors and loss of revenu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analysis table for these interfaces and service impact is shown in in the following sli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 name="TextBox 4"/>
          <p:cNvSpPr/>
          <p:nvPr/>
        </p:nvSpPr>
        <p:spPr>
          <a:xfrm>
            <a:off x="12960" y="6019920"/>
            <a:ext cx="246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3GPP </a:t>
            </a:r>
            <a:r>
              <a:rPr b="1" lang="en-GB" sz="1800" spc="-1" strike="noStrike">
                <a:solidFill>
                  <a:srgbClr val="000000"/>
                </a:solidFill>
                <a:latin typeface="Calibri"/>
              </a:rPr>
              <a:t>S2-1229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228600" y="685800"/>
          <a:ext cx="8763120" cy="5556240"/>
        </p:xfrm>
        <a:graphic>
          <a:graphicData uri="http://schemas.openxmlformats.org/drawingml/2006/table">
            <a:tbl>
              <a:tblPr/>
              <a:tblGrid>
                <a:gridCol w="2057400"/>
                <a:gridCol w="1066680"/>
                <a:gridCol w="2438640"/>
                <a:gridCol w="3200400"/>
              </a:tblGrid>
              <a:tr h="15228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Core Network nod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Defined interfac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overload impact</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 –PCEF/TD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Gx, Sd</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olicy control and DPI</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nial of services, loss of policy control for service personalization and network optimization, billing errors and revenue los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PCEF/AS/MRFC—OCS/OFCS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y, Gy/Ro, Ro, Gz</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Online/offline charging, service authorization, policy control, charging information reporting</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some services, billing errors and loss of revenu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AF, P-CSC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Rx</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application and IMS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IMS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UDC/SPR/HS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p/Ud</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Improper policy management, connection and service impact, network management impact,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PCRF--VPCR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9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Roaming authentication/authorization</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Loss of roaming servic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CDF/CGF—MRFC/MGCF/AS/SCC-AS/I-/S-CSCF, etc</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R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Offline charging,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MME/SGSN</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6a, SLg, S6d</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Mobility management, registration, authentication and location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Services, signalling storms leading to congestion collapse, and persistent inability to access the network,</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GMLC/MM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Lg, SLh</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UE location reporting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Unable to provide location information to core/IMS network, including emergency services, lawful interception and location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I-/S-CSC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Cx/Dx</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UE IMS registration, authentication, and domain management</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IMS services, signalling storm leads to congestion collapse, reselection from LTE to 2/3G,</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SCC-AS/A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h/Dh</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IMS services delivery</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nial of or unpredictable behavior of certain services (e.g., voice call routed to voicemail, delayed messaging…)</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BS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Zh</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otstrapping Server Function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1"/>
          <p:cNvSpPr/>
          <p:nvPr/>
        </p:nvSpPr>
        <p:spPr>
          <a:xfrm>
            <a:off x="891720" y="6429960"/>
            <a:ext cx="73602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Note 1: Reference: TS 23.203, TS 32.2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Note 2: If a DRA (Diameter Routing Agent) is deployed, it relays these interfaces between functional nodes to HSS/SPR/UDC and/or PCRF.</a:t>
            </a:r>
            <a:endParaRPr b="0" lang="en-US" sz="1000" spc="-1" strike="noStrike">
              <a:solidFill>
                <a:srgbClr val="000000"/>
              </a:solidFill>
              <a:latin typeface="Arial"/>
            </a:endParaRPr>
          </a:p>
        </p:txBody>
      </p:sp>
      <p:sp>
        <p:nvSpPr>
          <p:cNvPr id="50" name="TextBox 5"/>
          <p:cNvSpPr/>
          <p:nvPr/>
        </p:nvSpPr>
        <p:spPr>
          <a:xfrm>
            <a:off x="12960" y="228600"/>
            <a:ext cx="246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3GPP </a:t>
            </a:r>
            <a:r>
              <a:rPr b="1" lang="en-GB" sz="1800" spc="-1" strike="noStrike">
                <a:solidFill>
                  <a:srgbClr val="000000"/>
                </a:solidFill>
                <a:latin typeface="Calibri"/>
              </a:rPr>
              <a:t>S2-1229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 name="Object 1"/>
          <p:cNvGraphicFramePr/>
          <p:nvPr/>
        </p:nvGraphicFramePr>
        <p:xfrm>
          <a:off x="0" y="1219320"/>
          <a:ext cx="8991720" cy="5257800"/>
        </p:xfrm>
        <a:graphic>
          <a:graphicData uri="http://schemas.openxmlformats.org/presentationml/2006/ole">
            <p:oleObj r:id="rId1" spid="">
              <p:embed/>
              <p:pic>
                <p:nvPicPr>
                  <p:cNvPr id="53" name="Object 1" descr=""/>
                  <p:cNvPicPr/>
                  <p:nvPr/>
                </p:nvPicPr>
                <p:blipFill>
                  <a:blip r:embed="rId2"/>
                  <a:stretch/>
                </p:blipFill>
                <p:spPr>
                  <a:xfrm>
                    <a:off x="0" y="1219320"/>
                    <a:ext cx="8991720" cy="5257800"/>
                  </a:xfrm>
                  <a:prstGeom prst="rect">
                    <a:avLst/>
                  </a:prstGeom>
                  <a:ln w="0">
                    <a:noFill/>
                  </a:ln>
                </p:spPr>
              </p:pic>
            </p:oleObj>
          </a:graphicData>
        </a:graphic>
      </p:graphicFrame>
      <p:sp>
        <p:nvSpPr>
          <p:cNvPr id="54" name="TextBox 3"/>
          <p:cNvSpPr/>
          <p:nvPr/>
        </p:nvSpPr>
        <p:spPr>
          <a:xfrm>
            <a:off x="251640" y="304920"/>
            <a:ext cx="551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GPP Diameter Interfa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4:46:25Z</dcterms:created>
  <dc:creator>CDT User</dc:creator>
  <dc:description/>
  <dc:language>en-US</dc:language>
  <cp:lastModifiedBy>CDT User</cp:lastModifiedBy>
  <dcterms:modified xsi:type="dcterms:W3CDTF">2012-07-30T21:22:22Z</dcterms:modified>
  <cp:revision>10</cp:revision>
  <dc:subject/>
  <dc:title>Diameter Overload Control Justification and Use Cases</dc:title>
</cp:coreProperties>
</file>