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FF869-5CF2-44E5-8F15-63D769978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BE008-B785-448E-99F7-36E2FC8E3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48A08-6C18-4257-808C-39B4CD057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D3D26-0740-4183-A2FB-B7C6FED78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5126A-6935-44CA-9AF7-14E146918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EF06F-34A9-4343-BE8E-0A6D0AC0E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C6BCE-E656-405F-AEE2-922CC4BF8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2F0C5-D0C7-4179-9489-F8FFFD8D6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AC6E0-F312-4E1A-B820-2A9C442AD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71C0E-730F-403B-83EA-DF7CD425F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33468-E0CD-46C6-B1DF-56EA3F932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DC5E8-3795-4426-A120-A6D527B7D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7C4D-858F-4603-B783-F8AE5CCCF2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meter Overload Control Justification and Use Cas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tin Doll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amp;T La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son for Overload (Use Cases)</a:t>
            </a:r>
            <a:endParaRPr b="0" lang="en-US" sz="4400" spc="-1" strike="noStrike">
              <a:solidFill>
                <a:srgbClr val="000000"/>
              </a:solidFill>
              <a:latin typeface="Calibri"/>
            </a:endParaRPr>
          </a:p>
        </p:txBody>
      </p:sp>
      <p:sp>
        <p:nvSpPr>
          <p:cNvPr id="44" name=""/>
          <p:cNvSpPr txBox="1"/>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capac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work element failures resulting in failov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istration stor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gressive mobile devices (i.e., smart pho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elated network failures and/or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correlated network failures and/or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gestion causing message loss in other 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ial of Service attac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acts of Overload (Justification)</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iameter interface is defined for signalling between many core network nodes and services. Overload on these interfaces can lead to server congestion or even collapse. The impact to services can be: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nial of services, persistent access restric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oss of IMS and broadband service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oss of location information for emergency services and lawful intercep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oss of ability to use policy control to provide service personaliza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oss of ability to use policy control to optimize network resource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illing errors and loss of revenu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 analysis table for these interfaces and service impact is shown in in the following slid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 name="TextBox 4"/>
          <p:cNvSpPr/>
          <p:nvPr/>
        </p:nvSpPr>
        <p:spPr>
          <a:xfrm>
            <a:off x="12960" y="6019920"/>
            <a:ext cx="246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3GPP </a:t>
            </a:r>
            <a:r>
              <a:rPr b="1" lang="en-GB" sz="1800" spc="-1" strike="noStrike">
                <a:solidFill>
                  <a:srgbClr val="000000"/>
                </a:solidFill>
                <a:latin typeface="Calibri"/>
              </a:rPr>
              <a:t>S2-1229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228600" y="685800"/>
          <a:ext cx="8763120" cy="5556240"/>
        </p:xfrm>
        <a:graphic>
          <a:graphicData uri="http://schemas.openxmlformats.org/drawingml/2006/table">
            <a:tbl>
              <a:tblPr/>
              <a:tblGrid>
                <a:gridCol w="2057400"/>
                <a:gridCol w="1066680"/>
                <a:gridCol w="2438640"/>
                <a:gridCol w="3200400"/>
              </a:tblGrid>
              <a:tr h="152280">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SimSun"/>
                        </a:rPr>
                        <a:t>Core Network nodes</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SimSun"/>
                        </a:rPr>
                        <a:t>Defined interface</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SimSun"/>
                        </a:rPr>
                        <a:t>Services</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SimSun"/>
                        </a:rPr>
                        <a:t>overload impact</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PCRF –PCEF/TDF</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Gx, Sd</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Policy control and DPI</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nial of services, loss of policy control for service personalization and network optimization, billing errors and revenue loss</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PCRF/PCEF/AS/MRFC—OCS/OFCS </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Sy, Gy/Ro, Ro, Gz</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Online/offline charging, service authorization, policy control, charging information reporting</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Denial of some services, billing errors and loss of revenue</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r>
              <a:tr h="231840">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PCRF—AF, P-CSCF</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Rx</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application and IMS services</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Denial of IMS services</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PCRF—UDC/SPR/HSS</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Sp/Ud</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Improper policy management, connection and service impact, network management impact, </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r>
              <a:tr h="347760">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HPCRF--VPCRF</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S9 </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Roaming authentication/authorization</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Loss of roaming service</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CDF/CGF—MRFC/MGCF/AS/SCC-AS/I-/S-CSCF, etc</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Rf</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Offline charging, </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r>
              <a:tr h="712800">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HSS/UDC—MME/SGSN</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S6a, SLg, S6d</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Mobility management, registration, authentication and location services</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Denial of Services, signalling storms leading to congestion collapse, and persistent inability to access the network,</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r>
              <a:tr h="544680">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HSS/UDC—GMLC/MME</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SLg, SLh</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UE location reporting </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Unable to provide location information to core/IMS network, including emergency services, lawful interception and location services.</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r>
              <a:tr h="571320">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HSS/UDC—I-/S-CSCF</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Cx/Dx</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UE IMS registration, authentication, and domain management</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Denial of IMS services, signalling storm leads to congestion collapse, reselection from LTE to 2/3G,</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HSS/UDC—SCC-AS/AS</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Sh/Dh</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IMS services delivery</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nial of or unpredictable behavior of certain services (e.g., voice call routed to voicemail, delayed messaging…)</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HSS/UDC—BSF</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Zh</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ootstrapping Server Function </a:t>
                      </a:r>
                      <a:endParaRPr b="0" lang="en-US" sz="10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5640" marR="35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 name="Rectangle 1"/>
          <p:cNvSpPr/>
          <p:nvPr/>
        </p:nvSpPr>
        <p:spPr>
          <a:xfrm>
            <a:off x="891720" y="6429960"/>
            <a:ext cx="736020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Note 1: Reference: TS 23.203, TS 32.24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Note 2: If a DRA (Diameter Routing Agent) is deployed, it relays these interfaces between functional nodes to HSS/SPR/UDC and/or PCRF.</a:t>
            </a:r>
            <a:endParaRPr b="0" lang="en-US" sz="1000" spc="-1" strike="noStrike">
              <a:solidFill>
                <a:srgbClr val="000000"/>
              </a:solidFill>
              <a:latin typeface="Arial"/>
            </a:endParaRPr>
          </a:p>
        </p:txBody>
      </p:sp>
      <p:sp>
        <p:nvSpPr>
          <p:cNvPr id="50" name="TextBox 5"/>
          <p:cNvSpPr/>
          <p:nvPr/>
        </p:nvSpPr>
        <p:spPr>
          <a:xfrm>
            <a:off x="12960" y="228600"/>
            <a:ext cx="246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3GPP </a:t>
            </a:r>
            <a:r>
              <a:rPr b="1" lang="en-GB" sz="1800" spc="-1" strike="noStrike">
                <a:solidFill>
                  <a:srgbClr val="000000"/>
                </a:solidFill>
                <a:latin typeface="Calibri"/>
              </a:rPr>
              <a:t>S2-1229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2" name="Object 1"/>
          <p:cNvGraphicFramePr/>
          <p:nvPr/>
        </p:nvGraphicFramePr>
        <p:xfrm>
          <a:off x="0" y="1219320"/>
          <a:ext cx="8991720" cy="5257800"/>
        </p:xfrm>
        <a:graphic>
          <a:graphicData uri="http://schemas.openxmlformats.org/presentationml/2006/ole">
            <p:oleObj r:id="rId1" spid="">
              <p:embed/>
              <p:pic>
                <p:nvPicPr>
                  <p:cNvPr id="53" name="Object 1" descr=""/>
                  <p:cNvPicPr/>
                  <p:nvPr/>
                </p:nvPicPr>
                <p:blipFill>
                  <a:blip r:embed="rId2"/>
                  <a:stretch/>
                </p:blipFill>
                <p:spPr>
                  <a:xfrm>
                    <a:off x="0" y="1219320"/>
                    <a:ext cx="8991720" cy="5257800"/>
                  </a:xfrm>
                  <a:prstGeom prst="rect">
                    <a:avLst/>
                  </a:prstGeom>
                  <a:ln w="0">
                    <a:noFill/>
                  </a:ln>
                </p:spPr>
              </p:pic>
            </p:oleObj>
          </a:graphicData>
        </a:graphic>
      </p:graphicFrame>
      <p:sp>
        <p:nvSpPr>
          <p:cNvPr id="54" name="TextBox 3"/>
          <p:cNvSpPr/>
          <p:nvPr/>
        </p:nvSpPr>
        <p:spPr>
          <a:xfrm>
            <a:off x="251640" y="304920"/>
            <a:ext cx="551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GPP Diameter Interfa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4:46:25Z</dcterms:created>
  <dc:creator>CDT User</dc:creator>
  <dc:description/>
  <dc:language>en-US</dc:language>
  <cp:lastModifiedBy>CDT User</cp:lastModifiedBy>
  <dcterms:modified xsi:type="dcterms:W3CDTF">2012-07-30T21:22:22Z</dcterms:modified>
  <cp:revision>10</cp:revision>
  <dc:subject/>
  <dc:title>Diameter Overload Control Justification and Use Cases</dc:title>
</cp:coreProperties>
</file>