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A847D-F34F-4930-832B-B769456F2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52396-97E5-4EB8-8765-E322FF3DF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DF8-A630-403E-A571-A33ED1C3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46E-CBC5-4C52-8E09-95B84ABC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2B7-FD30-4B5B-80E8-08569823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54D-6B93-4FF7-B858-C9E2337C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9AD2-FAFE-45B3-A6BA-02BD685B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7FB9-DBF6-4AB1-9E41-E93C20E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B45B-A3FE-40A2-B6C6-2C95542E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2A0A-8C27-4200-BADE-9A5AAEB7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D853-2F9B-49DB-910D-7DF6906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B3BC-2BF4-4AC9-9BD1-25E4F237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EC9-60BD-48CA-A603-6754EA6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390-BD98-47AF-998D-6B519899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FE72-E768-4FE2-8566-6904077E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255-30FF-4C7D-972A-4BFE411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A370-D3D2-4978-A56A-B01BB9BD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B4C3-F68D-4B16-A2F4-C341C0D5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0F4A-558B-4758-9DB3-6D7A9560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BCD-B885-451E-83DA-7145D100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8A2-A7CA-49FA-8AC1-CD7CBB31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65F-2A26-4AD5-9637-583D9EF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097-7C34-48BD-8432-A19D04D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BE2-AC45-4346-B0D6-F7CA0E7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4AF-1828-44AB-BA82-C07B8D13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8FC-3A65-41CF-B2C8-B450E6B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C9CFA-5092-490E-A9FB-5860EDDE5E1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476F8-5472-4324-BCE8-A14E197EAA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08F47-E07B-47B6-932F-CD8C8FF9DB2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F0F39-0338-4464-B731-57C4C7B4E2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iameter Group Signal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9200" y="3049560"/>
            <a:ext cx="64785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July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diameter-group-signaling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Jones, Marco Lieb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couver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88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G-RAR Command ABN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55600" y="1719360"/>
            <a:ext cx="5730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GRAR&gt;  ::= &lt; Diameter Header: TBD, REQ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{ Session-Group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Re-Auth-Request-Typ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Origin-State-I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Proxy-Info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Route-Recor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Session-Group-A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839880" y="2017800"/>
            <a:ext cx="12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or more Group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ket 6"/>
          <p:cNvSpPr/>
          <p:nvPr/>
        </p:nvSpPr>
        <p:spPr>
          <a:xfrm>
            <a:off x="2735280" y="2540160"/>
            <a:ext cx="46080" cy="2447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447640"/>
              <a:gd name="textAreaBottom" fmla="*/ 244584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"/>
                  <a:pt x="0" y="34"/>
                </a:cubicBezTo>
                <a:lnTo>
                  <a:pt x="0" y="21566"/>
                </a:lnTo>
                <a:cubicBezTo>
                  <a:pt x="0" y="2158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457200" y="345276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AVPs which are NOT session-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"/>
          <p:cNvSpPr/>
          <p:nvPr/>
        </p:nvSpPr>
        <p:spPr>
          <a:xfrm flipH="1">
            <a:off x="2239560" y="371484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ket 10"/>
          <p:cNvSpPr/>
          <p:nvPr/>
        </p:nvSpPr>
        <p:spPr>
          <a:xfrm>
            <a:off x="2711520" y="51465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57200" y="4994280"/>
            <a:ext cx="154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re-auth action (see dra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2"/>
          <p:cNvSpPr/>
          <p:nvPr/>
        </p:nvSpPr>
        <p:spPr>
          <a:xfrm flipH="1">
            <a:off x="2025720" y="525456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eft Bracket 13"/>
          <p:cNvSpPr/>
          <p:nvPr/>
        </p:nvSpPr>
        <p:spPr>
          <a:xfrm>
            <a:off x="2722680" y="217008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4"/>
          <p:cNvSpPr/>
          <p:nvPr/>
        </p:nvSpPr>
        <p:spPr>
          <a:xfrm flipH="1">
            <a:off x="2036880" y="227808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88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G-ASR Command ABN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55600" y="1719360"/>
            <a:ext cx="5730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GASR&gt;  ::= &lt; Diameter Header: TBD, REQ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{ Session-Group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Origin-State-I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Proxy-Info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Route-Recor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 Session-Group-A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839880" y="2017800"/>
            <a:ext cx="12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or more Group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ket 6"/>
          <p:cNvSpPr/>
          <p:nvPr/>
        </p:nvSpPr>
        <p:spPr>
          <a:xfrm>
            <a:off x="2735280" y="2540160"/>
            <a:ext cx="46080" cy="2124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24000"/>
              <a:gd name="textAreaBottom" fmla="*/ 212220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"/>
                  <a:pt x="0" y="39"/>
                </a:cubicBezTo>
                <a:lnTo>
                  <a:pt x="0" y="21561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444600" y="33400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R AVPs which are NOT session-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8"/>
          <p:cNvSpPr/>
          <p:nvPr/>
        </p:nvSpPr>
        <p:spPr>
          <a:xfrm flipH="1">
            <a:off x="2226960" y="360216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Bracket 10"/>
          <p:cNvSpPr/>
          <p:nvPr/>
        </p:nvSpPr>
        <p:spPr>
          <a:xfrm>
            <a:off x="2722680" y="481644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44600" y="4664160"/>
            <a:ext cx="159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STR action (see dra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2"/>
          <p:cNvSpPr/>
          <p:nvPr/>
        </p:nvSpPr>
        <p:spPr>
          <a:xfrm flipH="1">
            <a:off x="2036880" y="492444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eft Bracket 13"/>
          <p:cNvSpPr/>
          <p:nvPr/>
        </p:nvSpPr>
        <p:spPr>
          <a:xfrm>
            <a:off x="2722680" y="217008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4"/>
          <p:cNvSpPr/>
          <p:nvPr/>
        </p:nvSpPr>
        <p:spPr>
          <a:xfrm flipH="1">
            <a:off x="2036880" y="227808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BULK OPERATION COMMAND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ulk operation command princip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3944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Single Diameter comm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ulk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: apply to existing Diameter commands which handle single 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command is &lt;BULK-OPERA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and code of the command, which is to be applied to a group of sessions (e.g. RAR, ASR), is encoded inside the Bulk Operation message hea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AVPs of the embedded command and required AVPs, which are common to all sessions in the group, are carried in the body of the Bulk Operation mess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has space for more commands, e.g. for dynamic treatment of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/remove sessions from group independent of AAR/AAA, RAR/RAA ex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ulk operation command ABN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572560" y="1805040"/>
            <a:ext cx="643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ulk-Operation &gt; ::= &lt; Diameter Header: ###, REQ, PX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k-Application-ID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Command-Id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Group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Command-Applicat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ried-Command-Required-A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ried-Command-Optional-A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16440" y="4535640"/>
            <a:ext cx="850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-I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 code of the bulk-executed Diameter message, e.g. RAR, A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 flag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According to operation (e.g. RAR, RA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: According to capability of the proxy to handle bulk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-I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identifier, must be pres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eft Bracket 5"/>
          <p:cNvSpPr/>
          <p:nvPr/>
        </p:nvSpPr>
        <p:spPr>
          <a:xfrm>
            <a:off x="2467080" y="2706840"/>
            <a:ext cx="71280" cy="2174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17440"/>
              <a:gd name="textAreaBottom" fmla="*/ 214560 h 2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96"/>
                  <a:pt x="0" y="591"/>
                </a:cubicBezTo>
                <a:lnTo>
                  <a:pt x="0" y="21009"/>
                </a:lnTo>
                <a:cubicBezTo>
                  <a:pt x="0" y="2130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ft Bracket 6"/>
          <p:cNvSpPr/>
          <p:nvPr/>
        </p:nvSpPr>
        <p:spPr>
          <a:xfrm>
            <a:off x="2467080" y="1914480"/>
            <a:ext cx="71280" cy="7192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719280"/>
              <a:gd name="textAreaBottom" fmla="*/ 716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"/>
                  <a:pt x="0" y="179"/>
                </a:cubicBezTo>
                <a:lnTo>
                  <a:pt x="0" y="21421"/>
                </a:lnTo>
                <a:cubicBezTo>
                  <a:pt x="0" y="2151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ket 7"/>
          <p:cNvSpPr/>
          <p:nvPr/>
        </p:nvSpPr>
        <p:spPr>
          <a:xfrm>
            <a:off x="2467080" y="3005280"/>
            <a:ext cx="71280" cy="71892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718920"/>
              <a:gd name="textAreaBottom" fmla="*/ 716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"/>
                  <a:pt x="0" y="179"/>
                </a:cubicBezTo>
                <a:lnTo>
                  <a:pt x="0" y="21421"/>
                </a:lnTo>
                <a:cubicBezTo>
                  <a:pt x="0" y="2151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47520" y="198612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 command 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72720" y="266688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Bracket 11"/>
          <p:cNvSpPr/>
          <p:nvPr/>
        </p:nvSpPr>
        <p:spPr>
          <a:xfrm>
            <a:off x="2467080" y="3813120"/>
            <a:ext cx="71280" cy="2192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19240"/>
              <a:gd name="textAreaBottom" fmla="*/ 216360 h 2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94"/>
                  <a:pt x="0" y="587"/>
                </a:cubicBezTo>
                <a:lnTo>
                  <a:pt x="0" y="21013"/>
                </a:lnTo>
                <a:cubicBezTo>
                  <a:pt x="0" y="2130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27800" y="3081240"/>
            <a:ext cx="159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d comm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26720" y="3630600"/>
            <a:ext cx="19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 which appl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4"/>
          <p:cNvSpPr/>
          <p:nvPr/>
        </p:nvSpPr>
        <p:spPr>
          <a:xfrm flipH="1">
            <a:off x="1085400" y="2274840"/>
            <a:ext cx="1381320" cy="468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6"/>
          <p:cNvSpPr/>
          <p:nvPr/>
        </p:nvSpPr>
        <p:spPr>
          <a:xfrm flipH="1">
            <a:off x="1782360" y="2817720"/>
            <a:ext cx="684360" cy="324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8"/>
          <p:cNvSpPr/>
          <p:nvPr/>
        </p:nvSpPr>
        <p:spPr>
          <a:xfrm flipH="1">
            <a:off x="1503000" y="3355920"/>
            <a:ext cx="963720" cy="97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20"/>
          <p:cNvSpPr/>
          <p:nvPr/>
        </p:nvSpPr>
        <p:spPr>
          <a:xfrm flipH="1">
            <a:off x="1350720" y="3930480"/>
            <a:ext cx="1122120" cy="324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ample: NAS, group re-authentic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2423160" y="2421000"/>
            <a:ext cx="646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ulk-Operation &gt; ::= &lt; Diameter Header: ###, REQ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58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020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Sess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Auth-Applicat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-Auth-Request-Typ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eft Bracket 5"/>
          <p:cNvSpPr/>
          <p:nvPr/>
        </p:nvSpPr>
        <p:spPr>
          <a:xfrm>
            <a:off x="2255760" y="27813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13840" y="272880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comm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 Bracket 7"/>
          <p:cNvSpPr/>
          <p:nvPr/>
        </p:nvSpPr>
        <p:spPr>
          <a:xfrm>
            <a:off x="2262240" y="30765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02000" y="30211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105120" y="3879720"/>
            <a:ext cx="20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attrib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messag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11280" y="172080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k operation message for R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Bracket 12"/>
          <p:cNvSpPr/>
          <p:nvPr/>
        </p:nvSpPr>
        <p:spPr>
          <a:xfrm>
            <a:off x="2263680" y="3360600"/>
            <a:ext cx="46080" cy="1841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841760"/>
              <a:gd name="textAreaBottom" fmla="*/ 1839960 h 18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5"/>
                </a:cubicBezTo>
                <a:lnTo>
                  <a:pt x="0" y="21555"/>
                </a:lnTo>
                <a:cubicBezTo>
                  <a:pt x="0" y="2157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34920" y="5078520"/>
            <a:ext cx="227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 which apply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ember of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 Bracket 16"/>
          <p:cNvSpPr/>
          <p:nvPr/>
        </p:nvSpPr>
        <p:spPr>
          <a:xfrm>
            <a:off x="2262240" y="52419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"/>
          <p:cNvSpPr/>
          <p:nvPr/>
        </p:nvSpPr>
        <p:spPr>
          <a:xfrm flipH="1">
            <a:off x="2049120" y="2895480"/>
            <a:ext cx="2127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H="1">
            <a:off x="1576440" y="318456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>
            <a:off x="1768320" y="4229280"/>
            <a:ext cx="50832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H="1">
            <a:off x="1757160" y="534996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ample: NAS, group re-authentic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420640" y="2421000"/>
            <a:ext cx="584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ulk-Operation &gt; ::= &lt; Diameter Header: ###, PXY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58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020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Sess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Origi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Real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estination-Hos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Auth-Application-I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-Auth-Request-Typ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[ AVP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617040" y="173196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k operation message for RA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eft Bracket 15"/>
          <p:cNvSpPr/>
          <p:nvPr/>
        </p:nvSpPr>
        <p:spPr>
          <a:xfrm>
            <a:off x="2255760" y="2781360"/>
            <a:ext cx="46080" cy="216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eft Bracket 16"/>
          <p:cNvSpPr/>
          <p:nvPr/>
        </p:nvSpPr>
        <p:spPr>
          <a:xfrm>
            <a:off x="2262240" y="3056040"/>
            <a:ext cx="46080" cy="215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640"/>
              <a:gd name="textAreaBottom" fmla="*/ 21384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eft Bracket 17"/>
          <p:cNvSpPr/>
          <p:nvPr/>
        </p:nvSpPr>
        <p:spPr>
          <a:xfrm>
            <a:off x="2263680" y="3360600"/>
            <a:ext cx="46080" cy="1841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841760"/>
              <a:gd name="textAreaBottom" fmla="*/ 1839960 h 18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5"/>
                </a:cubicBezTo>
                <a:lnTo>
                  <a:pt x="0" y="21555"/>
                </a:lnTo>
                <a:cubicBezTo>
                  <a:pt x="0" y="2157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 Bracket 18"/>
          <p:cNvSpPr/>
          <p:nvPr/>
        </p:nvSpPr>
        <p:spPr>
          <a:xfrm>
            <a:off x="2262240" y="5253120"/>
            <a:ext cx="46080" cy="215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640"/>
              <a:gd name="textAreaBottom" fmla="*/ 21384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2"/>
                  <a:pt x="0" y="384"/>
                </a:cubicBezTo>
                <a:lnTo>
                  <a:pt x="0" y="21216"/>
                </a:lnTo>
                <a:cubicBezTo>
                  <a:pt x="0" y="2140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13840" y="272880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comm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702000" y="30002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105120" y="3889440"/>
            <a:ext cx="20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attrib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R messag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3"/>
          <p:cNvSpPr/>
          <p:nvPr/>
        </p:nvSpPr>
        <p:spPr>
          <a:xfrm flipH="1">
            <a:off x="2049120" y="2895480"/>
            <a:ext cx="2127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4"/>
          <p:cNvSpPr/>
          <p:nvPr/>
        </p:nvSpPr>
        <p:spPr>
          <a:xfrm flipH="1">
            <a:off x="1576440" y="3164040"/>
            <a:ext cx="69840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5"/>
          <p:cNvSpPr/>
          <p:nvPr/>
        </p:nvSpPr>
        <p:spPr>
          <a:xfrm flipH="1">
            <a:off x="1768320" y="4238640"/>
            <a:ext cx="50832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6"/>
          <p:cNvSpPr/>
          <p:nvPr/>
        </p:nvSpPr>
        <p:spPr>
          <a:xfrm flipH="1">
            <a:off x="1757160" y="5361120"/>
            <a:ext cx="507960" cy="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7"/>
          <p:cNvSpPr/>
          <p:nvPr/>
        </p:nvSpPr>
        <p:spPr>
          <a:xfrm>
            <a:off x="34920" y="5089680"/>
            <a:ext cx="227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 which apply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ember of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SSESSMENT OF FORMAT OPTION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napshot of formatting discus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5600" y="1214280"/>
            <a:ext cx="86868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group command codes an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ight forw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w level of ambigu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mmand codes and formats* needed for all bulk-enabled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y needs to be aware of the new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new bulk operation command, indicate command to be executed in a separate command ID field of th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one-for-all’ approach, no new formats and command codes needed for bulk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-ID AVP needs to be ignored or used to carry group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y needs to be aware of the new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ssue with mandatory attributes in the body when they apply to a singl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6894360" y="1778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ay be advantageou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further input to formatting discussion and desig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 on solution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raft in Aug 2012 to reflect the selected form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signaling in those use cases that require many Diameter sessions to be modified or terminated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group signaling to existing Diameter applications with minimal impact and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cribe the problem space in an application neutral fashion (best practices?) to aid other SDOs in tackling thi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o Problem Asp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1900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group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dd or remove sessions from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modifying group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ng groups of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new formatting of commands for group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rules how group operations can be applied to session state mach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history &amp;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 item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00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jones-dime-group-signaling adopted as WG draft after IETF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dime-group-signaling-00 published in June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evaluation of formatt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 Progress draft towards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naging Group Assign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current version of the dra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ither Diameter peer may assign a session to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d-session modification of group assignments ar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Diameter peer may remove the group(s) assigned to the active session by its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nipulating Groups of Ses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1936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 version of the draft defines new group command equivalents for the group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ternative approaches have been discu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ingle Bulk-Operation command, used as container for existing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-use of existing commands and their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osals have been evaluated and ass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ess and update draft-ietf-dime-group-signaling to reflect select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DEDICATED GROUP COMMAND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908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Ov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commands will not contain the same AVPs as their non-group equivalents, e.g. no Session-ID or User-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NF is a valuable specification tool for describ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and Command Identifiers are NOT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mmands are defined each grou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Group-RAR/RAA, Group-STR/STA, Group-ASR/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afting group functions onto existing Diameter applications, these new commands will trigger the need for a new Application-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969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0066"/>
                </a:solidFill>
                <a:latin typeface="Arial"/>
              </a:rPr>
              <a:t>Dedicated Group Commands: Command Header Examp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new NASREQ-based application that requires group functions for RAR and AS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-RAR Command 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flags: Same as RAR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Code: NEW G-RA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Id: NEW Grouped-NAS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-ASR Command 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flags: Same as ASR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Code: NEW G-AS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Id: NEW Grouped-NAS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6:22:14Z</dcterms:created>
  <dc:creator/>
  <dc:description/>
  <dc:language>en-US</dc:language>
  <cp:lastModifiedBy>Marco Liebsch</cp:lastModifiedBy>
  <dcterms:modified xsi:type="dcterms:W3CDTF">2012-07-31T04:25:35Z</dcterms:modified>
  <cp:revision>204</cp:revision>
  <dc:subject/>
  <dc:title>Dime WG</dc:title>
</cp:coreProperties>
</file>