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A29B7-072A-4FFC-B7C0-67F9F0547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BC828-AFC3-44DE-AC74-F0DF5F89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E84-C5F9-4976-9F16-90C85039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550-BDE8-4BFF-AF8E-EC77C469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2E7-F396-43BB-9158-91059937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995-A67A-442E-B553-AAB4450B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265D-5972-4075-9A09-8AE35F97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AA82-7564-4D46-80A0-BD9F2732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8563-ED19-4078-B9DF-820DBAAB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479B-3091-4B17-8D7D-3B9A1A28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769D-52C5-4657-B9DE-8CC7D52B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D9B8-1BF6-45C0-8B3D-E53CDB86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5CAF-9FA8-4463-8571-CCF29BF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B13-2AC8-4BCC-9546-CC8D612B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FD73-D84E-46FB-BEAB-AC79C972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2673-0ED8-423D-B9AA-884210E5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ACA7-067A-40BF-B9BE-EBB40760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195B-FA30-4913-B19E-A270133F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55F6-1B39-4E34-885C-1B3AC0FC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DBE-EEFC-44C8-A9EF-89DF82CA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64B-FB46-4680-8788-9691DB9B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A4E-EABA-4458-AC1A-94F8AF95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532-6787-4BC0-9854-6B8CEF05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CA1-931D-41E9-8003-202ACA26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6D6-B5CE-409F-9751-DC635850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949-B203-44DE-8F4E-6BDC3066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83883-47FB-44F5-A38E-0E109B2EF9F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43E9A-C086-4860-BACB-8557D0CF5F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8F526-ED2F-44ED-812C-ED1691D75E5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92EA7-670F-4923-9A9F-7A8FC54989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iameter Group Signal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9200" y="3049560"/>
            <a:ext cx="64785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July 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diameter-group-signaling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Jones, Marco Lieb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couver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882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0066"/>
                </a:solidFill>
                <a:latin typeface="Arial"/>
              </a:rPr>
              <a:t>Dedicated Group Commands: G-RAR Command ABN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55600" y="1719360"/>
            <a:ext cx="5730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GRAR&gt;  ::= &lt; Diameter Header: TBD, REQ, PXY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{ Session-Group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Origi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Origi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Destinatio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Destinatio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Re-Auth-Request-Typ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 Origin-State-I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Proxy-Info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Route-Recor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 Session-Group-Ac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AVP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839880" y="2017800"/>
            <a:ext cx="122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or more Group 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eft Bracket 6"/>
          <p:cNvSpPr/>
          <p:nvPr/>
        </p:nvSpPr>
        <p:spPr>
          <a:xfrm>
            <a:off x="2735280" y="2540160"/>
            <a:ext cx="46080" cy="244764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447640"/>
              <a:gd name="textAreaBottom" fmla="*/ 244584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"/>
                  <a:pt x="0" y="34"/>
                </a:cubicBezTo>
                <a:lnTo>
                  <a:pt x="0" y="21566"/>
                </a:lnTo>
                <a:cubicBezTo>
                  <a:pt x="0" y="2158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457200" y="345276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R AVPs which are NOT session-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8"/>
          <p:cNvSpPr/>
          <p:nvPr/>
        </p:nvSpPr>
        <p:spPr>
          <a:xfrm flipH="1">
            <a:off x="2239560" y="3714840"/>
            <a:ext cx="5079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eft Bracket 10"/>
          <p:cNvSpPr/>
          <p:nvPr/>
        </p:nvSpPr>
        <p:spPr>
          <a:xfrm>
            <a:off x="2711520" y="514656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57200" y="4994280"/>
            <a:ext cx="154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re-auth action (see dra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2"/>
          <p:cNvSpPr/>
          <p:nvPr/>
        </p:nvSpPr>
        <p:spPr>
          <a:xfrm flipH="1">
            <a:off x="2025720" y="525456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eft Bracket 13"/>
          <p:cNvSpPr/>
          <p:nvPr/>
        </p:nvSpPr>
        <p:spPr>
          <a:xfrm>
            <a:off x="2722680" y="217008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4"/>
          <p:cNvSpPr/>
          <p:nvPr/>
        </p:nvSpPr>
        <p:spPr>
          <a:xfrm flipH="1">
            <a:off x="2036880" y="227808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882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0066"/>
                </a:solidFill>
                <a:latin typeface="Arial"/>
              </a:rPr>
              <a:t>Dedicated Group Commands: G-ASR Command ABN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955600" y="1719360"/>
            <a:ext cx="5730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GASR&gt;  ::= &lt; Diameter Header: TBD, REQ, PXY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{ Session-Group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Origi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Origi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Destinatio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Destinatio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 Origin-State-I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Proxy-Info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Route-Recor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 Session-Group-Ac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AVP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839880" y="2017800"/>
            <a:ext cx="122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or more Group 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eft Bracket 6"/>
          <p:cNvSpPr/>
          <p:nvPr/>
        </p:nvSpPr>
        <p:spPr>
          <a:xfrm>
            <a:off x="2735280" y="2540160"/>
            <a:ext cx="46080" cy="2124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24000"/>
              <a:gd name="textAreaBottom" fmla="*/ 2122200 h 21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"/>
                  <a:pt x="0" y="39"/>
                </a:cubicBezTo>
                <a:lnTo>
                  <a:pt x="0" y="21561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444600" y="334008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R AVPs which are NOT session-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8"/>
          <p:cNvSpPr/>
          <p:nvPr/>
        </p:nvSpPr>
        <p:spPr>
          <a:xfrm flipH="1">
            <a:off x="2226960" y="3602160"/>
            <a:ext cx="5079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eft Bracket 10"/>
          <p:cNvSpPr/>
          <p:nvPr/>
        </p:nvSpPr>
        <p:spPr>
          <a:xfrm>
            <a:off x="2722680" y="481644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44600" y="4664160"/>
            <a:ext cx="159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STR action (see dra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2"/>
          <p:cNvSpPr/>
          <p:nvPr/>
        </p:nvSpPr>
        <p:spPr>
          <a:xfrm flipH="1">
            <a:off x="2036880" y="492444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eft Bracket 13"/>
          <p:cNvSpPr/>
          <p:nvPr/>
        </p:nvSpPr>
        <p:spPr>
          <a:xfrm>
            <a:off x="2722680" y="217008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4"/>
          <p:cNvSpPr/>
          <p:nvPr/>
        </p:nvSpPr>
        <p:spPr>
          <a:xfrm flipH="1">
            <a:off x="2036880" y="227808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BULK OPERATION COMMAND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ulk operation command princip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39440"/>
            <a:ext cx="8352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Single Diameter comm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bulk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ive: apply to existing Diameter commands which handle single s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command is &lt;BULK-OPERA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mand code of the command, which is to be applied to a group of sessions (e.g. RAR, ASR), is encoded inside the Bulk Operation message head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AVPs of the embedded command and required AVPs, which are common to all sessions in the group, are carried in the body of the Bulk Operation mess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 has space for more commands, e.g. for dynamic treatment of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/remove sessions from group independent of AAR/AAA, RAR/RAA exch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ulk operation command ABN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572560" y="1805040"/>
            <a:ext cx="643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Bulk-Operation &gt; ::= &lt; Diameter Header: ###, REQ, PX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k-Application-ID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Command-Id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Group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Command-Application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rried-Command-Required-AV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[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rried-Command-Optional-AV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[ AVP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316440" y="4535640"/>
            <a:ext cx="850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-Id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 code of the bulk-executed Diameter message, e.g. RAR, A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 flag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According to operation (e.g. RAR, RA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: According to capability of the proxy to handle bulk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-Id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identifier, must be pres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eft Bracket 5"/>
          <p:cNvSpPr/>
          <p:nvPr/>
        </p:nvSpPr>
        <p:spPr>
          <a:xfrm>
            <a:off x="2467080" y="2706840"/>
            <a:ext cx="71280" cy="21744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217440"/>
              <a:gd name="textAreaBottom" fmla="*/ 214560 h 21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96"/>
                  <a:pt x="0" y="591"/>
                </a:cubicBezTo>
                <a:lnTo>
                  <a:pt x="0" y="21009"/>
                </a:lnTo>
                <a:cubicBezTo>
                  <a:pt x="0" y="2130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eft Bracket 6"/>
          <p:cNvSpPr/>
          <p:nvPr/>
        </p:nvSpPr>
        <p:spPr>
          <a:xfrm>
            <a:off x="2467080" y="1914480"/>
            <a:ext cx="71280" cy="71928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719280"/>
              <a:gd name="textAreaBottom" fmla="*/ 71640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"/>
                  <a:pt x="0" y="179"/>
                </a:cubicBezTo>
                <a:lnTo>
                  <a:pt x="0" y="21421"/>
                </a:lnTo>
                <a:cubicBezTo>
                  <a:pt x="0" y="2151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ket 7"/>
          <p:cNvSpPr/>
          <p:nvPr/>
        </p:nvSpPr>
        <p:spPr>
          <a:xfrm>
            <a:off x="2467080" y="3005280"/>
            <a:ext cx="71280" cy="71892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718920"/>
              <a:gd name="textAreaBottom" fmla="*/ 716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"/>
                  <a:pt x="0" y="179"/>
                </a:cubicBezTo>
                <a:lnTo>
                  <a:pt x="0" y="21421"/>
                </a:lnTo>
                <a:cubicBezTo>
                  <a:pt x="0" y="2151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47520" y="1986120"/>
            <a:ext cx="179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lk command ma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72720" y="266688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Bracket 11"/>
          <p:cNvSpPr/>
          <p:nvPr/>
        </p:nvSpPr>
        <p:spPr>
          <a:xfrm>
            <a:off x="2467080" y="3813120"/>
            <a:ext cx="71280" cy="21924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219240"/>
              <a:gd name="textAreaBottom" fmla="*/ 216360 h 2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94"/>
                  <a:pt x="0" y="587"/>
                </a:cubicBezTo>
                <a:lnTo>
                  <a:pt x="0" y="21013"/>
                </a:lnTo>
                <a:cubicBezTo>
                  <a:pt x="0" y="2130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127800" y="3081240"/>
            <a:ext cx="159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ied comm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126720" y="3630600"/>
            <a:ext cx="19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s which appl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4"/>
          <p:cNvSpPr/>
          <p:nvPr/>
        </p:nvSpPr>
        <p:spPr>
          <a:xfrm flipH="1">
            <a:off x="1085400" y="2274840"/>
            <a:ext cx="1381320" cy="468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6"/>
          <p:cNvSpPr/>
          <p:nvPr/>
        </p:nvSpPr>
        <p:spPr>
          <a:xfrm flipH="1">
            <a:off x="1782360" y="2817720"/>
            <a:ext cx="684360" cy="324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8"/>
          <p:cNvSpPr/>
          <p:nvPr/>
        </p:nvSpPr>
        <p:spPr>
          <a:xfrm flipH="1">
            <a:off x="1503000" y="3355920"/>
            <a:ext cx="963720" cy="97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20"/>
          <p:cNvSpPr/>
          <p:nvPr/>
        </p:nvSpPr>
        <p:spPr>
          <a:xfrm flipH="1">
            <a:off x="1350720" y="3930480"/>
            <a:ext cx="1122120" cy="324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ample: NAS, group re-authentic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2423160" y="2421000"/>
            <a:ext cx="646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Bulk-Operation &gt; ::= &lt; Diameter Header: ###, REQ, PXY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258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1020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Session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Origi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Origi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estinatio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estinatio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Auth-Application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Re-Auth-Request-Typ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[ AVP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eft Bracket 5"/>
          <p:cNvSpPr/>
          <p:nvPr/>
        </p:nvSpPr>
        <p:spPr>
          <a:xfrm>
            <a:off x="2255760" y="278136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213840" y="272880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R command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eft Bracket 7"/>
          <p:cNvSpPr/>
          <p:nvPr/>
        </p:nvSpPr>
        <p:spPr>
          <a:xfrm>
            <a:off x="2262240" y="307656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702000" y="30211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105120" y="3879720"/>
            <a:ext cx="209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attributes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R message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611280" y="172080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k operation message for R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Bracket 12"/>
          <p:cNvSpPr/>
          <p:nvPr/>
        </p:nvSpPr>
        <p:spPr>
          <a:xfrm>
            <a:off x="2263680" y="3360600"/>
            <a:ext cx="46080" cy="184176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1841760"/>
              <a:gd name="textAreaBottom" fmla="*/ 1839960 h 184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"/>
                  <a:pt x="0" y="45"/>
                </a:cubicBezTo>
                <a:lnTo>
                  <a:pt x="0" y="21555"/>
                </a:lnTo>
                <a:cubicBezTo>
                  <a:pt x="0" y="2157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34920" y="5078520"/>
            <a:ext cx="227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s which apply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member of th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 Bracket 16"/>
          <p:cNvSpPr/>
          <p:nvPr/>
        </p:nvSpPr>
        <p:spPr>
          <a:xfrm>
            <a:off x="2262240" y="524196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7"/>
          <p:cNvSpPr/>
          <p:nvPr/>
        </p:nvSpPr>
        <p:spPr>
          <a:xfrm flipH="1">
            <a:off x="2049120" y="2895480"/>
            <a:ext cx="2127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H="1">
            <a:off x="1576440" y="318456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>
            <a:off x="1768320" y="4229280"/>
            <a:ext cx="50832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H="1">
            <a:off x="1757160" y="5349960"/>
            <a:ext cx="5079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ample: NAS, group re-authentic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2420640" y="2421000"/>
            <a:ext cx="5841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Bulk-Operation &gt; ::= &lt; Diameter Header: ###, PXY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258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1020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Session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Origi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Origi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estinatio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estinatio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Auth-Application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Re-Auth-Request-Typ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[ AVP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617040" y="173196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k operation message for RA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eft Bracket 15"/>
          <p:cNvSpPr/>
          <p:nvPr/>
        </p:nvSpPr>
        <p:spPr>
          <a:xfrm>
            <a:off x="2255760" y="278136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eft Bracket 16"/>
          <p:cNvSpPr/>
          <p:nvPr/>
        </p:nvSpPr>
        <p:spPr>
          <a:xfrm>
            <a:off x="2262240" y="3056040"/>
            <a:ext cx="46080" cy="21564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5640"/>
              <a:gd name="textAreaBottom" fmla="*/ 213840 h 21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eft Bracket 17"/>
          <p:cNvSpPr/>
          <p:nvPr/>
        </p:nvSpPr>
        <p:spPr>
          <a:xfrm>
            <a:off x="2263680" y="3360600"/>
            <a:ext cx="46080" cy="184176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1841760"/>
              <a:gd name="textAreaBottom" fmla="*/ 1839960 h 184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"/>
                  <a:pt x="0" y="45"/>
                </a:cubicBezTo>
                <a:lnTo>
                  <a:pt x="0" y="21555"/>
                </a:lnTo>
                <a:cubicBezTo>
                  <a:pt x="0" y="2157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 Bracket 18"/>
          <p:cNvSpPr/>
          <p:nvPr/>
        </p:nvSpPr>
        <p:spPr>
          <a:xfrm>
            <a:off x="2262240" y="5253120"/>
            <a:ext cx="46080" cy="21564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5640"/>
              <a:gd name="textAreaBottom" fmla="*/ 213840 h 21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213840" y="272880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R command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702000" y="30002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105120" y="3889440"/>
            <a:ext cx="209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attributes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R message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23"/>
          <p:cNvSpPr/>
          <p:nvPr/>
        </p:nvSpPr>
        <p:spPr>
          <a:xfrm flipH="1">
            <a:off x="2049120" y="2895480"/>
            <a:ext cx="2127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24"/>
          <p:cNvSpPr/>
          <p:nvPr/>
        </p:nvSpPr>
        <p:spPr>
          <a:xfrm flipH="1">
            <a:off x="1576440" y="316404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5"/>
          <p:cNvSpPr/>
          <p:nvPr/>
        </p:nvSpPr>
        <p:spPr>
          <a:xfrm flipH="1">
            <a:off x="1768320" y="4238640"/>
            <a:ext cx="50832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6"/>
          <p:cNvSpPr/>
          <p:nvPr/>
        </p:nvSpPr>
        <p:spPr>
          <a:xfrm flipH="1">
            <a:off x="1757160" y="5361120"/>
            <a:ext cx="5079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7"/>
          <p:cNvSpPr/>
          <p:nvPr/>
        </p:nvSpPr>
        <p:spPr>
          <a:xfrm>
            <a:off x="34920" y="5089680"/>
            <a:ext cx="227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s which apply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member of th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SSESSMENT OF FORMAT OPTION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Snapshot of formatting discus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5600" y="1214280"/>
            <a:ext cx="8686800" cy="52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group command codes an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aight forw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w level of ambigu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ommand codes and formats* needed for all bulk-enabled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y needs to be aware of the new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new bulk operation command, indicate command to be executed in a separate command ID field of th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one-for-all’ approach, no new formats and command codes needed for bulk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-ID AVP needs to be ignored or used to carry group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y needs to be aware of the new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ssue with mandatory attributes in the body when they apply to a single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6894360" y="1778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ay be advantageou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cit further input to formatting discussion and desig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 on solution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raft in Aug 2012 to reflect the selected form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signaling in those use cases that require many Diameter sessions to be modified or terminated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 group signaling to existing Diameter applications with minimal impact and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cribe the problem space in an application neutral fashion (best practices?) to aid other SDOs in tackling thi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o Problem Asp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1900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group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dd or remove sessions from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 for modifying group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ing groups of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new formatting of commands for group op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rules how group operations can be applied to session state mach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 history &amp;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k item st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1900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jones-dime-group-signaling adopted as WG draft after IETF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dime-group-signaling-00 published in June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evaluation of formatt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: Progress draft towards stabl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naging Group Assign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e current version of the dra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ither Diameter peer may assign a session to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d-session modification of group assignments ar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Diameter peer may remove the group(s) assigned to the active session by its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nipulating Groups of Ses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71936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 version of the draft defines new group command equivalents for the group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ternative approaches have been discus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ingle Bulk-Operation command, used as container for existing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-use of existing commands and their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osals have been evaluated and ass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ess and update draft-ietf-dime-group-signaling to reflect select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DEDICATED GROUP COMMAND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9087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0066"/>
                </a:solidFill>
                <a:latin typeface="Arial"/>
              </a:rPr>
              <a:t>Dedicated Group Commands: Overview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commands will not contain the same AVPs as their non-group equivalents, e.g. no Session-ID or User-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NF is a valuable specification tool for describing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and Command Identifiers are NOT scar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mmands are defined each group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Group-RAR/RAA, Group-STR/STA, Group-ASR/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afting group functions onto existing Diameter applications, these new commands will trigger the need for a new Application-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9692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0066"/>
                </a:solidFill>
                <a:latin typeface="Arial"/>
              </a:rPr>
              <a:t>Dedicated Group Commands: Command Header Examp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 new NASREQ-based application that requires group functions for RAR and ASR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-RAR Command Hea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flags: Same as RAR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Code: NEW G-RAR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-Id: NEW Grouped-NAS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-ASR Command Hea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flags: Same as ASR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Code: NEW G-ASR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-Id: NEW Grouped-NAS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06:22:14Z</dcterms:created>
  <dc:creator/>
  <dc:description/>
  <dc:language>en-US</dc:language>
  <cp:lastModifiedBy>Marco Liebsch</cp:lastModifiedBy>
  <dcterms:modified xsi:type="dcterms:W3CDTF">2012-07-31T04:25:35Z</dcterms:modified>
  <cp:revision>204</cp:revision>
  <dc:subject/>
  <dc:title>Dime WG</dc:title>
</cp:coreProperties>
</file>