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DC1-BE7F-46B4-9E24-7D66F131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E24-42F2-4C64-A4AE-A2DDB256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7C7-B94B-4866-89B6-8AF6518F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01F-998D-4018-98F1-9D15B196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552-D333-435B-A7DF-4E247280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302-6AB5-4BCC-9773-170AB7FC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205-E286-4951-933E-090C601F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B8D-1C43-4C1A-A26B-C923A336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205-1DE4-48FE-8A72-0680F84B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BC0-7BBA-4F94-B805-A17C5FF6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A4D-1B82-4F29-8C15-2473FA9C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026-AD08-499E-BB20-44D7DB7C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6292-E81A-4CDB-81E9-C06523248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04920" y="457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DIME WG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IETF 84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28600" y="2952720"/>
            <a:ext cx="6858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Diameter Design Guidelin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raft-ietf-dime-app-design-guide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uesday, July 31, 201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onel Mor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1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#5: About Translation A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designers cannot assume the availability of "standard" Diameter-to-RADIUS gateways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translation mechanism should be specified along with the Diameter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#6: Diameter security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py/paste of information on IPsec use initially present in RFC3588 and remove from RFC3588b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ONLY EDITOR of the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ent of this draft should reflect WG 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from the WG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a WGLC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gust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raft should be submitted to IESG just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should be abo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deliverable to be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iameter application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ETF, vendors, S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larify and/or reassess existing rules/recommendations that could be spread acros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swer to the most frequen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sed during application design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mplementation and operational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repeating misbehavior/error from the past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3 submitted… with no major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4 submitted right after IETF 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ing feedback received in the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5 sent on the DIME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missed deadline for draft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will be submitted unmodified as soon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rom -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shape th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orial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 guidelines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reation of new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ss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umareted AVP used as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outing of request/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se of IPsec as security mech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ew T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.  Reusing existing Diameter applicat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. . . . . . . . . .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.  Adding a new command . . . . . . . . . . . . . . . . . . .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  Deleting a command . . . . . . . . . . . . . . . . . . . .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  Reusing existing commands  . . . . . . . . . . . . . . . .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  Reusing existing AVPs  . . . . . . . . . . . . . . . . . .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fining new Diameter applicat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. . . . . . . . . . . 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.  Introduction . . . . . . . . . . . . . . . . . . . . . . 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2.  Defining new commands  . . . . . . . . . . . . . . . . . 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3.  Use of Application-Id in a message . . . . . . . . . . . .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4.  Application specific Session State Machine . . . . . . . .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5.  Session-Id AVP and session management  . . . . . . . . . .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6.  AVPs defined as Boolean flag . . . . . . . . . . . . . . .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7.  Application-specific message routing . . . . . . . . . . .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8.  About Translation Agent  . . . . . . . . . . . . . . . . .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9.  End-to-End applications capabilities exchange  . . . . . .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 Diameter accounting support  . . . . . . . . . . . . . . .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1. Diameter security mechanisms . . . . . . . . . . . . . . .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fining Generic Diameter Extens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. . . . . . . . . . .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#1: Defining new 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y provided by use of optional AVPs in the command’s CCF good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condition of pres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behaviour when AVP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der of the recommendation to add "* [AVP]" in the command's CCF to allow the addition of any arbitrary A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: Session-Id AVP and session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pplications don’t need to rely on the Session-Id to manage user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ly on other info e.g. User-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- Session-State AVP set to NO_STATE_MAINTAINED in all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commands can be defined without the Session-Id AV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specify how the session is handled between client and 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#3: AVP defined as Boolean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Ps of type Enumerated are too often used as simple Boolean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 to use bitmask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Ps defined as bitmask can be reused and extended to multiplex several indications without major impact on the Diamete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#4: Application-specific message ro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 may need to rely on the User-Name AVP or any other AVP to determine the final destination of a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application-level routing mechanisms have to be described in the application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routing should follow the reverse path of the request, using transaction states and Hop-by-hop identifier mat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3:28:48Z</dcterms:created>
  <dc:creator>Lionel</dc:creator>
  <dc:description/>
  <dc:language>en-US</dc:language>
  <cp:lastModifiedBy>Orange Labs</cp:lastModifiedBy>
  <dcterms:modified xsi:type="dcterms:W3CDTF">2012-07-29T15:21:19Z</dcterms:modified>
  <cp:revision>20</cp:revision>
  <dc:subject/>
  <dc:title>Diapositive 1</dc:title>
</cp:coreProperties>
</file>