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BDA14-70B0-4CAE-9411-6C30CF893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1B8B8-E8EC-4616-8030-D20771D68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01039-A068-469B-9D00-5604E5821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85F58-A7F1-4EAE-AD69-4F6520D11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A8117-A840-4030-B3D9-C47A48390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6F41F-CE6A-44D2-AA6B-700E179CF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1FC6B-4CBA-4915-9680-F1BC81FCD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64687-3052-4984-988F-8DFE361AB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56069-43A0-4368-91B1-4B893FBAD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1EF32-AFA6-4571-AF9D-46B414F9D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674B2-EB64-4FCA-86D4-2BCA6EA93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758C7-B414-498A-B987-800492237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DEC8A-3942-487E-92C4-0836C7D10E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304920" y="457200"/>
            <a:ext cx="678168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Arial"/>
              </a:rPr>
              <a:t>DIME WG</a:t>
            </a:r>
            <a:br>
              <a:rPr sz="5500"/>
            </a:br>
            <a:r>
              <a:rPr b="0" lang="en-US" sz="5500" spc="-1" strike="noStrike">
                <a:solidFill>
                  <a:srgbClr val="000000"/>
                </a:solidFill>
                <a:latin typeface="Arial"/>
              </a:rPr>
              <a:t>IETF 84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228600" y="2952720"/>
            <a:ext cx="685800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Diameter Design Guidelines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draft-ietf-dime-app-design-guide-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Tuesday, July 31, 2012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ionel Mora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1" descr="ietflogo"/>
          <p:cNvPicPr/>
          <p:nvPr/>
        </p:nvPicPr>
        <p:blipFill>
          <a:blip r:embed="rId1"/>
          <a:stretch/>
        </p:blipFill>
        <p:spPr>
          <a:xfrm>
            <a:off x="7391520" y="2971800"/>
            <a:ext cx="15238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#5: About Translation Ag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tocol designers cannot assume the availability of "standard" Diameter-to-RADIUS gateways ag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d translation mechanism should be specified along with the Diameter applic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#6: Diameter security mechanis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Copy/paste of information on IPsec use initially present in RFC3588 and remove from RFC3588b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’m ONLY EDITOR of the docu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ntent of this draft should reflect WG posi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edback from the WG is requi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unch a WGLC in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ugust 20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draft should be submitted to IESG just af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should be about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 deliverable to be use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Diameter application design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IETF, vendors, S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clarify and/or reassess existing rules/recommendations that could be spread across specif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answer to the most frequent ques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ised during application design 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ed on implementation and operational feedb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avoid repeating misbehavior/error from the past in the fu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vious Ste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13 submitted… with no major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14 submitted right after IETF 8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pturing feedback received in the mee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15 sent on the DIME 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e to missed deadline for draft submi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5 will be submitted unmodified as soon as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From -1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Reshape the docu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Editorial corr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Add guidelines 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creation of new comma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session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Enumareted AVP used as boole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routing of request/ans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use of IPsec as security mechanis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New To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.  Reusing existing Diameter application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. . . . . . . . . . . 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1.  Adding a new command . . . . . . . . . . . . . . . . . . . 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2.  Deleting a command . . . . . . . . . . . . . . . . . . . . 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3.  Reusing existing commands  . . . . . . . . . . . . . . . . 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4.  Reusing existing AVPs  . . . . . . . . . . . . . . . . . .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 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Defining new Diameter application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. . . . . . . . . . . . . 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1.  Introduction . . . . . . . . . . . . . . . . . . . . . . . 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2.  Defining new commands  . . . . . . . . . . . . . . . . . . 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3.  Use of Application-Id in a message . . . . . . . . . . . .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4.  Application specific Session State Machine . . . . . . . .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5.  Session-Id AVP and session management  . . . . . . . . . .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6.  AVPs defined as Boolean flag . . . . . . . . . . . . . . .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7.  Application-specific message routing . . . . . . . . . . .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8.  About Translation Agent  . . . . . . . . . . . . . . . . .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9.  End-to-End applications capabilities exchange  . . . . . .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10. Diameter accounting support  . . . . . . . . . . . . . . .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11. Diameter security mechanisms . . . . . . . . . . . . . . .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 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Defining Generic Diameter Extension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. . . . . . . . . . . . 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#1: Defining new comm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exibility provided by use of optional AVPs in the command’s CCF good if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the condition of presen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e the behaviour when AVPs abs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inder of the recommendation to add "* [AVP]" in the command's CCF to allow the addition of any arbitrary AV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#2: Session-Id AVP and session man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applications don’t need to rely on the Session-Id to manage user ses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rely on other info e.g. User-N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th- Session-State AVP set to NO_STATE_MAINTAINED in all mess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 commands can be defined without the Session-Id AV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early specify how the session is handled between client and serv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#3: AVP defined as Boolean fla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VPs of type Enumerated are too often used as simple Boolean fla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ommendation to use bitmask inst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VPs defined as bitmask can be reused and extended to multiplex several indications without major impact on the Diameter appl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#4: Application-specific message rou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s may need to rely on the User-Name AVP or any other AVP to determine the final destination of a requ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itional application-level routing mechanisms have to be described in the application 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 routing should follow the reverse path of the request, using transaction states and Hop-by-hop identifier match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1T03:28:48Z</dcterms:created>
  <dc:creator>Lionel</dc:creator>
  <dc:description/>
  <dc:language>en-US</dc:language>
  <cp:lastModifiedBy>Orange Labs</cp:lastModifiedBy>
  <dcterms:modified xsi:type="dcterms:W3CDTF">2012-07-29T15:21:19Z</dcterms:modified>
  <cp:revision>20</cp:revision>
  <dc:subject/>
  <dc:title>Diapositive 1</dc:title>
</cp:coreProperties>
</file>