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FCB-29A5-469F-82F0-4D52A817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005-3F55-40C7-BFAE-13CC0B2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39E-471C-4E89-BF93-768B1284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92B-52B1-4FC0-BC9B-F5E8B0BF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C6EB-FC2C-444A-81A0-B5EAC588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FE8-D99B-4B60-97E5-C2AD4545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1D4E-E923-47D7-AC58-4DBAF01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D1A3-EDEA-4F4D-AC2D-5AD18D2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48BC-8B6F-41B5-8626-A5DBFF0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07A-1E7B-45ED-B576-4AAE0BC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A0B-08D9-4D74-AD9D-8C365EB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E9F-ABEC-4FBA-973C-79D87FA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4115-A715-4DB4-AB97-4C14FA2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DE2-AA98-4728-8B3C-E6A863D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579B-00F3-4806-857D-23AEE1E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EF3A-A0C8-4DA6-80D1-7D2E9784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3062-0580-480A-BEF6-58223F0B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525-9CDC-44DE-BCDC-AFB73FB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627-2F89-4655-88F8-1E08907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E26-7BDA-4AA9-B919-55E493B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874-23FC-45D9-A029-A1913CC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0B3-F770-4094-803E-FB555EF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7B6-B1F0-4B3D-B574-5E6FC0C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3BE-A330-4155-ABA7-4821F7D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B49-D17A-4970-BC58-B5432C102C1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329-EDD8-42D3-85B2-FA4DB01FC3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zuniga-dmm-gap-analysis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IETF 84, Vancou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alibri"/>
              </a:rPr>
              <a:t>DMM Gap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7777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Juan-Carlos Zúñig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rlos J. Bernard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elemaco Me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Calibri"/>
              </a:rPr>
              <a:t>DMM WG, July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etflogotrans"/>
          <p:cNvPicPr/>
          <p:nvPr/>
        </p:nvPicPr>
        <p:blipFill>
          <a:blip r:embed="rId1"/>
          <a:stretch/>
        </p:blipFill>
        <p:spPr>
          <a:xfrm>
            <a:off x="3203640" y="425520"/>
            <a:ext cx="2666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MM Gap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5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atatracker.ietf.org/doc/draft-zuniga-dmm-gap-analysis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analyzes existing practices of IP mobility solution deployments in a DMM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p analysis identifies what is missing and what can be achieved with existing solutions in order to meet the DMM requirements identified in [draft-ietf-dmm-requirement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eployment of existing solutions in DMM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based mobilit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IPv6 / N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IPv6 Route Optim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Mobile IPv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Agent swit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obil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 Selection AP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eployment of existing solutions in DMM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base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Mobile IPv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i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A runtim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 Se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homing in PMIPv6 (as per RFC 52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Limitations in curr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-based mo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1: Distributed deploy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2: Transparency to Upper Layers when need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3: IPv6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4: Compati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5: Existing mobility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6: Security consider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-based mob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1: Distributed deploy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2: Transparency to Upper Layers when need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3: IPv6 deploy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4: Compatibilit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5: Existing mobility protocol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6: Security consider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details for each existing solution vs. requ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summary of the gap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other alternative protocol that should be analyz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1:06:59Z</dcterms:created>
  <dc:creator>Usuario</dc:creator>
  <dc:description/>
  <dc:language>en-US</dc:language>
  <cp:lastModifiedBy>Juan Carlos Zuniga</cp:lastModifiedBy>
  <dcterms:modified xsi:type="dcterms:W3CDTF">2012-07-31T15:59:29Z</dcterms:modified>
  <cp:revision>56</cp:revision>
  <dc:subject/>
  <dc:title>Rapid acquisition of the MN multicast subscription after handover draft-contreras-multimob-rams-00</dc:title>
</cp:coreProperties>
</file>