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FD1-2BC6-49A8-9B34-CEC327C3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D99-B54A-46DA-B553-C2A31915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59F-7C11-4655-B1DF-A76A8259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159-78FE-495A-A1EF-D92BD4FB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2781-FBD5-47EF-9D87-8EB4B8F6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A854-0531-4C46-8996-A432405B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E6E1-2C58-4DE3-8A27-0DDF3FB5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E7BD-5338-4B45-B9E1-CD0B41A6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DE46-5997-455E-979D-53EC5240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62EE-24CE-4278-95DA-62D16368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B9B7-DDCC-4C87-84DA-6E60A13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48F-66EF-4D5F-9026-ABFF9BB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92C8-C80A-4341-91B9-C2B0528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DDE-67B1-49D3-9ADB-7C356A9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8581-F012-40D0-A6D5-4BDBB1E8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DD9-7800-465C-BD2E-62B08478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B0B2-E104-4F16-A868-15CE7098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113-654A-4CC2-9EFB-DE94E83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536-3838-4E67-B84B-081D6E5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04D-CC09-4312-98F3-A8FF39A5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C81-B7E6-4D59-8FA9-049D5911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361-AA13-4DDA-A14E-3C912715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9B1-3D35-44D4-8AD0-8AECA20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D76-391A-4E5E-89D2-533CE6E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572-1C4F-4333-A32D-9AFA8FA4F02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D751-2572-4A89-83ED-267F06C0DE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draft-zuniga-dmm-gap-analysis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IETF 84, Vancou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alibri"/>
              </a:rPr>
              <a:t>DMM Gap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7777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Juan-Carlos Zúñig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rlos J. Bernard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elemaco Me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Calibri"/>
              </a:rPr>
              <a:t>DMM WG, July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ietflogotrans"/>
          <p:cNvPicPr/>
          <p:nvPr/>
        </p:nvPicPr>
        <p:blipFill>
          <a:blip r:embed="rId1"/>
          <a:stretch/>
        </p:blipFill>
        <p:spPr>
          <a:xfrm>
            <a:off x="3203640" y="425520"/>
            <a:ext cx="2666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DMM Gap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51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datatracker.ietf.org/doc/draft-zuniga-dmm-gap-analysis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 analyzes existing practices of IP mobility solution deployments in a DMM enviro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p analysis identifies what is missing and what can be achieved with existing solutions in order to meet the DMM requirements identified in [draft-ietf-dmm-requirement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Deployment of existing solutions in DMM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based mobilit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IPv6 / N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IPv6 Route Optim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Mobile IPv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Agent switch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obil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 Selection AP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Deployment of existing solutions in DMM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-base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Mobile IPv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in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A runtime assig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 Sel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homing in PMIPv6 (as per RFC 52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Limitations in curr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-based mobilit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1: Distributed deploy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2: Transparency to Upper Layers when need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3: IPv6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4: Compati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5: Existing mobility protoc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6: Security consider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-based mobi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1: Distributed deploy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2: Transparency to Upper Layers when need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3: IPv6 deploy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4: Compatibilit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5: Existing mobility protocol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6: Security consider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details for each existing solution vs. requ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a summary of the gap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other alternative protocol that should be analyz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1:06:59Z</dcterms:created>
  <dc:creator>Usuario</dc:creator>
  <dc:description/>
  <dc:language>en-US</dc:language>
  <cp:lastModifiedBy>Juan Carlos Zuniga</cp:lastModifiedBy>
  <dcterms:modified xsi:type="dcterms:W3CDTF">2012-07-31T15:59:29Z</dcterms:modified>
  <cp:revision>56</cp:revision>
  <dc:subject/>
  <dc:title>Rapid acquisition of the MN multicast subscription after handover draft-contreras-multimob-rams-00</dc:title>
</cp:coreProperties>
</file>