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A444-DF13-4AEE-88DF-867C99C08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19AC-1A44-4D24-BFC4-5DD9F961351B}" type="slidenum">
              <a:rPr b="0" lang="en-US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327-1629-4B93-8D03-FFAED0F9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B89-B30A-44B5-A7DA-6F7F3BF2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FFB-7251-49D7-BD7B-FC99B9BA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2AB-BC49-4965-B96F-2979F788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2973-D639-419B-81DB-042C154A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DE64-E25E-4A51-B2FA-15E118D1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6674-496E-4ECF-8148-47119903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EF6F-D556-4963-A2AA-430F4F01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30BB-B86B-44E5-A156-9D72A941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BBC6-635F-469D-B5EC-F83EE7BB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AE34-B221-4BD1-AA79-F06AEA1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85A-6767-4CCC-99D6-BBED5B03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63D4-77B9-4302-AC3C-56F2A3A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6113-49DC-40A7-94DC-1957ADBC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A2BA-4BAE-4AA8-8D81-F9570792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EFC6-FBCF-4E1C-9078-4E424447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6A6A-2BCA-4C5A-A9C1-3A96E058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3B2-0C50-4419-9201-627BFF2C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311-D898-4C25-B4E1-C0EFE4E0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233-A7C4-42EB-86B1-0FE6C2E8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E30-0F2F-4D61-BB81-F54E6AF0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B28-FB49-4431-ACBF-A9D48D6C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641-6C55-4EEF-B474-EB9CE121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FC9-79B8-4544-82FA-043C5F9D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a9a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9a9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a9a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153B-03DA-4537-88D9-49B818449CC5}" type="slidenum">
              <a:rPr b="0" lang="en-US" sz="1200" spc="-1" strike="noStrike">
                <a:solidFill>
                  <a:srgbClr val="9a9a9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a9a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9a9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a9a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7956-ACC1-464B-AD68-8DDB4F168F74}" type="slidenum">
              <a:rPr b="0" lang="en-US" sz="1200" spc="-1" strike="noStrike">
                <a:solidFill>
                  <a:srgbClr val="9a9a9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EZID</a:t>
            </a:r>
            <a:br>
              <a:rPr sz="4400"/>
            </a:br>
            <a:r>
              <a:rPr b="0" i="1" lang="en-US" sz="3200" spc="-1" strike="noStrike">
                <a:solidFill>
                  <a:srgbClr val="595959"/>
                </a:solidFill>
                <a:latin typeface="Calibri"/>
              </a:rPr>
              <a:t>long-term identifiers made eas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" name="Subtitle 2"/>
          <p:cNvSpPr/>
          <p:nvPr/>
        </p:nvSpPr>
        <p:spPr>
          <a:xfrm>
            <a:off x="1295280" y="4724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Greg Janée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University of California Curation Center</a:t>
            </a:r>
            <a:br>
              <a:rPr sz="2000"/>
            </a:br>
            <a:r>
              <a:rPr b="0" i="1" lang="en-US" sz="2000" spc="-1" strike="noStrike">
                <a:solidFill>
                  <a:srgbClr val="595959"/>
                </a:solidFill>
                <a:latin typeface="Calibri"/>
              </a:rPr>
              <a:t>California Digital Library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July 31, 2012</a:t>
            </a:r>
            <a:endParaRPr b="0" lang="en-US" sz="1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91" name="Picture 12" descr="UC3-logo-final-w_des.jpg"/>
          <p:cNvPicPr/>
          <p:nvPr/>
        </p:nvPicPr>
        <p:blipFill>
          <a:blip r:embed="rId1"/>
          <a:stretch/>
        </p:blipFill>
        <p:spPr>
          <a:xfrm>
            <a:off x="3440160" y="314280"/>
            <a:ext cx="2260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Guiding principles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Minimal</a:t>
            </a:r>
            <a:endParaRPr b="0" i="1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Micro-service philosophy</a:t>
            </a:r>
            <a:endParaRPr b="0" lang="en-US" sz="20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Agnostic</a:t>
            </a:r>
            <a:endParaRPr b="0" i="1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Identifier schemes</a:t>
            </a:r>
            <a:endParaRPr b="0" lang="en-US" sz="2000" spc="-1" strike="noStrike">
              <a:solidFill>
                <a:srgbClr val="660033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Metadata</a:t>
            </a:r>
            <a:endParaRPr b="0" lang="en-US" sz="20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Uniform interface</a:t>
            </a:r>
            <a:endParaRPr b="0" i="1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Identifier scheme is a choice</a:t>
            </a:r>
            <a:endParaRPr b="0" lang="en-US" sz="20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Broad applicability</a:t>
            </a:r>
            <a:endParaRPr b="0" i="1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Repository batch operations</a:t>
            </a:r>
            <a:br>
              <a:rPr sz="2000"/>
            </a:b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and individual one-offs</a:t>
            </a:r>
            <a:endParaRPr b="0" lang="en-US" sz="2000" spc="-1" strike="noStrike">
              <a:solidFill>
                <a:srgbClr val="660033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Publication time and earlier</a:t>
            </a:r>
            <a:br>
              <a:rPr sz="2000"/>
            </a:b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in workflows</a:t>
            </a:r>
            <a:endParaRPr b="0" lang="en-US" sz="2000" spc="-1" strike="noStrike">
              <a:solidFill>
                <a:srgbClr val="660033"/>
              </a:solidFill>
              <a:latin typeface="Calibri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352680" y="1447920"/>
            <a:ext cx="5334120" cy="3713400"/>
            <a:chOff x="3352680" y="1447920"/>
            <a:chExt cx="5334120" cy="3713400"/>
          </a:xfrm>
        </p:grpSpPr>
        <p:sp>
          <p:nvSpPr>
            <p:cNvPr id="95" name="TextBox 3"/>
            <p:cNvSpPr/>
            <p:nvPr/>
          </p:nvSpPr>
          <p:spPr>
            <a:xfrm>
              <a:off x="5105520" y="1447920"/>
              <a:ext cx="3581280" cy="371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3399"/>
                  </a:solidFill>
                  <a:uFillTx/>
                  <a:latin typeface="Calibri"/>
                </a:rPr>
                <a:t>How do identifier schemes differ?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buClr>
                  <a:srgbClr val="595959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</a:t>
              </a: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Technical characteristics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   </a:t>
              </a:r>
              <a:r>
                <a:rPr b="0" i="1" lang="en-US" sz="1800" spc="-1" strike="noStrike">
                  <a:solidFill>
                    <a:srgbClr val="003399"/>
                  </a:solidFill>
                  <a:latin typeface="Calibri"/>
                </a:rPr>
                <a:t>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–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E.g., partial resolution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buClr>
                  <a:srgbClr val="595959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</a:t>
              </a: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Implementation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   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–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Local server vs. central service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buClr>
                  <a:srgbClr val="660033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 </a:t>
              </a: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Scope &amp; policies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   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–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Metadata, citation support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buClr>
                  <a:srgbClr val="595959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</a:t>
              </a: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Cost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   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–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Per-identifier, or not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buClr>
                  <a:srgbClr val="595959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</a:t>
              </a: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Community acceptance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95959"/>
                  </a:solidFill>
                  <a:latin typeface="Calibri"/>
                </a:rPr>
                <a:t>    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– 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Calibri"/>
                </a:rPr>
                <a:t>E.g., LSIDs</a:t>
              </a:r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52680" y="2666880"/>
              <a:ext cx="1600200" cy="0"/>
            </a:xfrm>
            <a:prstGeom prst="line">
              <a:avLst/>
            </a:prstGeom>
            <a:ln w="15840">
              <a:solidFill>
                <a:srgbClr val="5959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Architecture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cxnSp>
        <p:nvCxnSpPr>
          <p:cNvPr id="98" name=""/>
          <p:cNvCxnSpPr>
            <a:stCxn id="99" idx="2"/>
            <a:endCxn id="100" idx="0"/>
          </p:cNvCxnSpPr>
          <p:nvPr/>
        </p:nvCxnSpPr>
        <p:spPr>
          <a:xfrm>
            <a:off x="2495520" y="3049560"/>
            <a:ext cx="2160" cy="1370880"/>
          </a:xfrm>
          <a:prstGeom prst="straightConnector1">
            <a:avLst/>
          </a:prstGeom>
          <a:ln w="158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34960" y="3429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OCA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400800" y="1905120"/>
            <a:ext cx="2265480" cy="990000"/>
            <a:chOff x="6400800" y="1905120"/>
            <a:chExt cx="2265480" cy="990000"/>
          </a:xfrm>
        </p:grpSpPr>
        <p:grpSp>
          <p:nvGrpSpPr>
            <p:cNvPr id="103" name=""/>
            <p:cNvGrpSpPr/>
            <p:nvPr/>
          </p:nvGrpSpPr>
          <p:grpSpPr>
            <a:xfrm>
              <a:off x="7294680" y="1905120"/>
              <a:ext cx="1371600" cy="990000"/>
              <a:chOff x="7294680" y="1905120"/>
              <a:chExt cx="1371600" cy="990000"/>
            </a:xfrm>
          </p:grpSpPr>
          <p:sp>
            <p:nvSpPr>
              <p:cNvPr id="104" name="Flowchart: Terminator 13"/>
              <p:cNvSpPr/>
              <p:nvPr/>
            </p:nvSpPr>
            <p:spPr>
              <a:xfrm>
                <a:off x="7599240" y="2209680"/>
                <a:ext cx="1067040" cy="685440"/>
              </a:xfrm>
              <a:prstGeom prst="flowChartTerminator">
                <a:avLst/>
              </a:prstGeom>
              <a:solidFill>
                <a:srgbClr val="d9d9d9"/>
              </a:solidFill>
              <a:ln w="9360">
                <a:solidFill>
                  <a:srgbClr val="385d8a"/>
                </a:solidFill>
                <a:miter/>
              </a:ln>
              <a:effectLst>
                <a:outerShdw dist="38183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  <p:sp>
            <p:nvSpPr>
              <p:cNvPr id="105" name="Flowchart: Terminator 13"/>
              <p:cNvSpPr/>
              <p:nvPr/>
            </p:nvSpPr>
            <p:spPr>
              <a:xfrm>
                <a:off x="7446960" y="2057040"/>
                <a:ext cx="1066680" cy="685440"/>
              </a:xfrm>
              <a:prstGeom prst="flowChartTerminator">
                <a:avLst/>
              </a:prstGeom>
              <a:solidFill>
                <a:srgbClr val="d9d9d9"/>
              </a:solidFill>
              <a:ln w="9360">
                <a:solidFill>
                  <a:srgbClr val="385d8a"/>
                </a:solidFill>
                <a:miter/>
              </a:ln>
              <a:effectLst>
                <a:outerShdw dist="38183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  <p:sp>
            <p:nvSpPr>
              <p:cNvPr id="106" name="Flowchart: Terminator 13"/>
              <p:cNvSpPr/>
              <p:nvPr/>
            </p:nvSpPr>
            <p:spPr>
              <a:xfrm>
                <a:off x="7294680" y="1905120"/>
                <a:ext cx="1066680" cy="685440"/>
              </a:xfrm>
              <a:prstGeom prst="flowChartTerminator">
                <a:avLst/>
              </a:prstGeom>
              <a:solidFill>
                <a:srgbClr val="d9d9d9"/>
              </a:solidFill>
              <a:ln w="9360">
                <a:solidFill>
                  <a:srgbClr val="385d8a"/>
                </a:solidFill>
                <a:miter/>
              </a:ln>
              <a:effectLst>
                <a:outerShdw dist="38183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Calibri"/>
                  </a:rPr>
                  <a:t>DataCite</a:t>
                </a:r>
                <a:endParaRPr b="0" lang="en-US" sz="18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400800" y="2266560"/>
              <a:ext cx="838440" cy="0"/>
            </a:xfrm>
            <a:prstGeom prst="line">
              <a:avLst/>
            </a:prstGeom>
            <a:ln w="15840">
              <a:solidFill>
                <a:srgbClr val="5959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066680" y="3809880"/>
            <a:ext cx="457200" cy="685800"/>
          </a:xfrm>
          <a:prstGeom prst="line">
            <a:avLst/>
          </a:prstGeom>
          <a:ln w="1584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371600" y="1371600"/>
            <a:ext cx="5410080" cy="4190760"/>
            <a:chOff x="1371600" y="1371600"/>
            <a:chExt cx="5410080" cy="4190760"/>
          </a:xfrm>
        </p:grpSpPr>
        <p:grpSp>
          <p:nvGrpSpPr>
            <p:cNvPr id="110" name=""/>
            <p:cNvGrpSpPr/>
            <p:nvPr/>
          </p:nvGrpSpPr>
          <p:grpSpPr>
            <a:xfrm>
              <a:off x="1544400" y="1604880"/>
              <a:ext cx="5064840" cy="2040840"/>
              <a:chOff x="1544400" y="1604880"/>
              <a:chExt cx="5064840" cy="2040840"/>
            </a:xfrm>
          </p:grpSpPr>
          <p:sp>
            <p:nvSpPr>
              <p:cNvPr id="99" name="Flowchart: Terminator 13"/>
              <p:cNvSpPr/>
              <p:nvPr/>
            </p:nvSpPr>
            <p:spPr>
              <a:xfrm>
                <a:off x="1544400" y="2207880"/>
                <a:ext cx="1901520" cy="840960"/>
              </a:xfrm>
              <a:prstGeom prst="flowChartTerminator">
                <a:avLst/>
              </a:prstGeom>
              <a:solidFill>
                <a:srgbClr val="d9d9d9"/>
              </a:solidFill>
              <a:ln w="9360">
                <a:solidFill>
                  <a:srgbClr val="385d8a"/>
                </a:solidFill>
                <a:miter/>
              </a:ln>
              <a:effectLst>
                <a:outerShdw dist="38183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Calibri"/>
                  </a:rPr>
                  <a:t>EZID</a:t>
                </a:r>
                <a:endParaRPr b="0" lang="en-US" sz="18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  <p:sp>
            <p:nvSpPr>
              <p:cNvPr id="111" name="TextBox 3"/>
              <p:cNvSpPr/>
              <p:nvPr/>
            </p:nvSpPr>
            <p:spPr>
              <a:xfrm>
                <a:off x="3561840" y="1604880"/>
                <a:ext cx="3047400" cy="20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End-user UI, API 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Ownership, access control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External service communication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Services (minting, reservation,</a:t>
                </a:r>
                <a:br>
                  <a:rPr sz="1600"/>
                </a:b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  tombstoning, metadata</a:t>
                </a:r>
                <a:br>
                  <a:rPr sz="1600"/>
                </a:b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  mapping)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Policy enforcement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Notification, reporting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371600" y="1371600"/>
              <a:ext cx="5410080" cy="2514600"/>
            </a:xfrm>
            <a:prstGeom prst="rect">
              <a:avLst/>
            </a:prstGeom>
            <a:noFill/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544400" y="4419360"/>
              <a:ext cx="4914000" cy="838080"/>
              <a:chOff x="1544400" y="4419360"/>
              <a:chExt cx="4914000" cy="838080"/>
            </a:xfrm>
          </p:grpSpPr>
          <p:sp>
            <p:nvSpPr>
              <p:cNvPr id="100" name="Flowchart: Terminator 13"/>
              <p:cNvSpPr/>
              <p:nvPr/>
            </p:nvSpPr>
            <p:spPr>
              <a:xfrm>
                <a:off x="1544400" y="4419360"/>
                <a:ext cx="1904760" cy="838080"/>
              </a:xfrm>
              <a:prstGeom prst="flowChartTerminator">
                <a:avLst/>
              </a:prstGeom>
              <a:solidFill>
                <a:srgbClr val="d9d9d9"/>
              </a:solidFill>
              <a:ln w="9360">
                <a:solidFill>
                  <a:srgbClr val="385d8a"/>
                </a:solidFill>
                <a:miter/>
              </a:ln>
              <a:effectLst>
                <a:outerShdw dist="38183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Calibri"/>
                  </a:rPr>
                  <a:t>N2T</a:t>
                </a:r>
                <a:endParaRPr b="0" lang="en-US" sz="18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Calibri"/>
                  </a:rPr>
                  <a:t>“</a:t>
                </a:r>
                <a:r>
                  <a:rPr b="0" lang="en-US" sz="1800" spc="-1" strike="noStrike">
                    <a:solidFill>
                      <a:srgbClr val="595959"/>
                    </a:solidFill>
                    <a:latin typeface="Calibri"/>
                  </a:rPr>
                  <a:t>name-to-thing”</a:t>
                </a:r>
                <a:endParaRPr b="0" lang="en-US" sz="18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  <p:sp>
            <p:nvSpPr>
              <p:cNvPr id="114" name="TextBox 3"/>
              <p:cNvSpPr/>
              <p:nvPr/>
            </p:nvSpPr>
            <p:spPr>
              <a:xfrm>
                <a:off x="3563280" y="4425840"/>
                <a:ext cx="2895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Resolution (ARKs and others)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Metadata binding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  <a:p>
                <a:pPr>
                  <a:buClr>
                    <a:srgbClr val="003399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 </a:t>
                </a:r>
                <a:r>
                  <a:rPr b="0" i="1" lang="en-US" sz="1600" spc="-1" strike="noStrike">
                    <a:solidFill>
                      <a:srgbClr val="003399"/>
                    </a:solidFill>
                    <a:latin typeface="Calibri"/>
                  </a:rPr>
                  <a:t>Replicated; high-availability</a:t>
                </a:r>
                <a:endParaRPr b="0" lang="en-US" sz="1600" spc="-1" strike="noStrike">
                  <a:solidFill>
                    <a:srgbClr val="595959"/>
                  </a:solidFill>
                  <a:latin typeface="Calibri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371600" y="4114800"/>
              <a:ext cx="5410080" cy="1447560"/>
            </a:xfrm>
            <a:prstGeom prst="rect">
              <a:avLst/>
            </a:prstGeom>
            <a:noFill/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Issue: is metadata required?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Yes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DOI standard, DataCite require citation metadata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No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EZID: not absolute requirement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Other use cases (e.g., dataset granules), extra burden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Sure is nice, though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Metadata reflects intention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Without it, must rely on identifier (hopefully opaque) and target URL (may be inscrutable or ambiguous)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Issue: what does an identifier resolve to?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Something human-readable?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DataCite requires “landing page”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(What if there isn’t one?)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Something machine-readable?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RDF, OAI-ORE, ERC,…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If yes to both, selection mechanism?</a:t>
            </a:r>
            <a:endParaRPr b="0" i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CrossRef/DataCite: HTTP content negotiation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imperfec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alibri"/>
              </a:rPr>
              <a:t>ARK proposal: “inflections” (decorators)</a:t>
            </a:r>
            <a:endParaRPr b="0" lang="en-US" sz="2400" spc="-1" strike="noStrike">
              <a:solidFill>
                <a:srgbClr val="660033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http://resolver/identifier</a:t>
            </a:r>
            <a:r>
              <a:rPr b="0" lang="en-US" sz="2000" spc="-1" strike="noStrike">
                <a:solidFill>
                  <a:srgbClr val="660033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For more information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EZID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http://n2t.net/ezid 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UC Curation Center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http://www.cdlib/uc3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Greg Janée &lt;gjanee@ucop.edu&gt;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John Kunze &lt;jak@ucop.edu&gt;</a:t>
            </a: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1:18:57Z</dcterms:created>
  <dc:creator>Kunze&amp;Starr</dc:creator>
  <dc:description/>
  <dc:language>en-US</dc:language>
  <cp:lastModifiedBy>Greg Janée</cp:lastModifiedBy>
  <dcterms:modified xsi:type="dcterms:W3CDTF">2012-07-31T19:33:45Z</dcterms:modified>
  <cp:revision>519</cp:revision>
  <dc:subject>DataCite &amp; EZID</dc:subject>
  <dc:title>Persistent Citation &amp; Identification</dc:title>
</cp:coreProperties>
</file>