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11-1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sson AB 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231A-9278-4CB3-AF23-4B3CEB693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1-15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1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05B0-F762-4D5C-A693-622E631A1612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1-11-15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1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7934-29A5-4A38-B523-1A6F3C35AC06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ERI_FH_rgb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1  |  2011-11-15  |  Page </a:t>
            </a:r>
            <a:fld id="{5CF1B4FA-47C4-47A7-A4D4-83AE89FC0F4D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4" name="Logo_TM" descr="ERI_FH_rgb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rister.Holmberg@ericsson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480" y="2476080"/>
            <a:ext cx="8351640" cy="7318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PSAP Callback Identifier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8585a"/>
                </a:solidFill>
                <a:latin typeface="Arial"/>
              </a:rPr>
              <a:t>IETF#84, Vancouver, Canada</a:t>
            </a:r>
            <a:endParaRPr b="0" lang="en-US" sz="25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Christer.Holmberg@ericsson.com</a:t>
            </a:r>
            <a:endParaRPr b="0" lang="en-US" sz="25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285e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SHELL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dentifier, present in the INVITE request of a PSAP callback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Helps network entities to identify, and give special treatment to, PSAP callback call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SAP does not instruct network how to treat PSAP callback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Helps the UA, that made the associated emergency call, to identify the PSAP callback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SAP callback can traverse different entities/networks than the associated emergency cal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8585a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SIP </a:t>
            </a:r>
            <a:r>
              <a:rPr b="1" lang="fi-FI" sz="2400" spc="-1" strike="noStrike">
                <a:solidFill>
                  <a:srgbClr val="58585a"/>
                </a:solidFill>
                <a:latin typeface="Arial"/>
              </a:rPr>
              <a:t>Priority</a:t>
            </a: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 header field to indicate emergen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Priority: emergen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Not PSAP callback call specific indicato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Simply indicates emergenc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Network policies to determine whether call is a PSAP callback call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8585a"/>
                </a:solidFill>
                <a:latin typeface="Arial"/>
              </a:rPr>
              <a:t>THANK YOU FOR LISTENING!</a:t>
            </a:r>
            <a:endParaRPr b="0" lang="en-US" sz="5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Christer Holmberg</cp:lastModifiedBy>
  <dcterms:modified xsi:type="dcterms:W3CDTF">2012-07-31T16:55:13Z</dcterms:modified>
  <cp:revision>183</cp:revision>
  <dc:subject/>
  <dc:title>Emergency Callback I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11-1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1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1-11-15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