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0F346A-87F8-41B1-91A1-32383EB7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DBF141-FAB0-42DE-80E9-B853968B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簡単に使えるのでこのグループでみんなで実験に使っ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 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オブジェク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スライド番号プレースホルダー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1FD8A1-35CB-4C29-BC65-DC14C53C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736-3F4C-4D5B-BBAC-6D9DCB6E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280" y="376344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1D1-C12C-4BC7-B2E2-8EB1902C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892-6646-4B02-BC99-54AEF970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456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13652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28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456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763440"/>
            <a:ext cx="2759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747-6C8B-4618-8972-D925FE04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26A-B80E-46C0-B755-412A18E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57B-FC32-42B1-99C1-25BE60F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5C0-0B94-46C3-90C2-1587165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1CD-0432-4FED-96EB-CE680C1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280" y="187200"/>
            <a:ext cx="8569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CD4-1502-470B-BD1A-EA7A02F2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4F3-75AD-4620-B423-D6AE4B2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76344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462-24CE-499F-8F18-5C1CD7E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28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36520"/>
            <a:ext cx="4181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280" y="3763440"/>
            <a:ext cx="85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9A3-B786-4E69-B0AB-AF77A9D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18720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280" y="113652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/8/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7500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3FA-C571-4E92-A49F-8FBFFF71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id/draft-suganuma-greenmib-00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d/draft-suganuma-greenmib-00.tx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Usage Monitoring Information Base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d/draft-suganuma-greenmib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478320"/>
            <a:ext cx="8388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uo Suganu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oki Nakamur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atoru Izum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oshi Tsuno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sahiro Matsu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Kohei Oh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hoku University</a:t>
            </a: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hoku Institute of Technology</a:t>
            </a:r>
            <a:br>
              <a:rPr sz="2400"/>
            </a:b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b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7520" y="47628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use / Generic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dely for variou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四角形吹き出し 1"/>
          <p:cNvSpPr/>
          <p:nvPr/>
        </p:nvSpPr>
        <p:spPr>
          <a:xfrm>
            <a:off x="2916360" y="260280"/>
            <a:ext cx="1963440" cy="569880"/>
          </a:xfrm>
          <a:prstGeom prst="wedgeRectCallout">
            <a:avLst>
              <a:gd name="adj1" fmla="val -66736"/>
              <a:gd name="adj2" fmla="val 7811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6 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680" y="60548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 Usage Monitoring Information Base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d/draft-suganuma-greenmib-00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Users\Satoru Izumi\AppData\Local\Microsoft\Windows\Temporary Internet Files\Content.IE5\53LVS2BI\MC900434845[1].png"/>
          <p:cNvPicPr/>
          <p:nvPr/>
        </p:nvPicPr>
        <p:blipFill>
          <a:blip r:embed="rId2"/>
          <a:stretch/>
        </p:blipFill>
        <p:spPr>
          <a:xfrm>
            <a:off x="6811920" y="1919160"/>
            <a:ext cx="638280" cy="63828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1"/>
          <p:cNvSpPr/>
          <p:nvPr/>
        </p:nvSpPr>
        <p:spPr>
          <a:xfrm>
            <a:off x="6488280" y="154764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1"/>
          <p:cNvSpPr/>
          <p:nvPr/>
        </p:nvSpPr>
        <p:spPr>
          <a:xfrm>
            <a:off x="4211640" y="162864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コネクタ 3"/>
          <p:cNvSpPr/>
          <p:nvPr/>
        </p:nvSpPr>
        <p:spPr>
          <a:xfrm>
            <a:off x="4581360" y="2676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15"/>
          <p:cNvSpPr/>
          <p:nvPr/>
        </p:nvSpPr>
        <p:spPr>
          <a:xfrm>
            <a:off x="4581360" y="314172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Satoru Izumi\AppData\Local\Microsoft\Windows\Temporary Internet Files\Content.IE5\FWCUQE3D\MC900428969[1].wmf"/>
          <p:cNvPicPr/>
          <p:nvPr/>
        </p:nvPicPr>
        <p:blipFill>
          <a:blip r:embed="rId3"/>
          <a:stretch/>
        </p:blipFill>
        <p:spPr>
          <a:xfrm>
            <a:off x="4356000" y="2013120"/>
            <a:ext cx="493920" cy="68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Satoru Izumi\AppData\Local\Microsoft\Windows\Temporary Internet Files\Content.IE5\LDXY36IK\MC900428949[1].wmf"/>
          <p:cNvPicPr/>
          <p:nvPr/>
        </p:nvPicPr>
        <p:blipFill>
          <a:blip r:embed="rId4"/>
          <a:stretch/>
        </p:blipFill>
        <p:spPr>
          <a:xfrm>
            <a:off x="5076720" y="346392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Satoru Izumi\AppData\Local\Microsoft\Windows\Temporary Internet Files\Content.IE5\53LVS2BI\MC900433874[1].png"/>
          <p:cNvPicPr/>
          <p:nvPr/>
        </p:nvPicPr>
        <p:blipFill>
          <a:blip r:embed="rId5"/>
          <a:stretch/>
        </p:blipFill>
        <p:spPr>
          <a:xfrm>
            <a:off x="4176720" y="3357720"/>
            <a:ext cx="826920" cy="82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Satoru Izumi\AppData\Local\Microsoft\Windows\Temporary Internet Files\Content.IE5\VXCR5D8L\MP900402186[1].jpg"/>
          <p:cNvPicPr/>
          <p:nvPr/>
        </p:nvPicPr>
        <p:blipFill>
          <a:blip r:embed="rId6"/>
          <a:stretch/>
        </p:blipFill>
        <p:spPr>
          <a:xfrm>
            <a:off x="3294000" y="3495600"/>
            <a:ext cx="846360" cy="65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Satoru Izumi\AppData\Local\Microsoft\Windows\Temporary Internet Files\Content.IE5\3W1P58PA\MC900428953[1].wmf"/>
          <p:cNvPicPr/>
          <p:nvPr/>
        </p:nvPicPr>
        <p:blipFill>
          <a:blip r:embed="rId7"/>
          <a:stretch/>
        </p:blipFill>
        <p:spPr>
          <a:xfrm>
            <a:off x="7275600" y="3284640"/>
            <a:ext cx="34740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C:\Users\Satoru Izumi\AppData\Local\Microsoft\Windows\Temporary Internet Files\Content.IE5\7K1Z71AV\MC900432517[1].wmf"/>
          <p:cNvPicPr/>
          <p:nvPr/>
        </p:nvPicPr>
        <p:blipFill>
          <a:blip r:embed="rId8"/>
          <a:stretch/>
        </p:blipFill>
        <p:spPr>
          <a:xfrm>
            <a:off x="5940360" y="3328920"/>
            <a:ext cx="995400" cy="797040"/>
          </a:xfrm>
          <a:prstGeom prst="rect">
            <a:avLst/>
          </a:prstGeom>
          <a:ln w="0">
            <a:noFill/>
          </a:ln>
        </p:spPr>
      </p:pic>
      <p:sp>
        <p:nvSpPr>
          <p:cNvPr id="64" name="四角形吹き出し 12"/>
          <p:cNvSpPr/>
          <p:nvPr/>
        </p:nvSpPr>
        <p:spPr>
          <a:xfrm>
            <a:off x="738360" y="1557360"/>
            <a:ext cx="3041640" cy="1722240"/>
          </a:xfrm>
          <a:prstGeom prst="wedgeRectCallout">
            <a:avLst>
              <a:gd name="adj1" fmla="val 67990"/>
              <a:gd name="adj2" fmla="val -1307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: power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    : power 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    : sle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V          : power 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   : power sa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27"/>
          <p:cNvSpPr/>
          <p:nvPr/>
        </p:nvSpPr>
        <p:spPr>
          <a:xfrm>
            <a:off x="5364000" y="314172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フリーフォーム 12"/>
          <p:cNvSpPr/>
          <p:nvPr/>
        </p:nvSpPr>
        <p:spPr>
          <a:xfrm>
            <a:off x="3805200" y="2684520"/>
            <a:ext cx="546120" cy="958680"/>
          </a:xfrm>
          <a:custGeom>
            <a:avLst/>
            <a:gdLst/>
            <a:ahLst/>
            <a:rect l="l" t="t" r="r" b="b"/>
            <a:pathLst>
              <a:path w="545690" h="958646">
                <a:moveTo>
                  <a:pt x="0" y="958646"/>
                </a:moveTo>
                <a:cubicBezTo>
                  <a:pt x="116758" y="824681"/>
                  <a:pt x="233516" y="690716"/>
                  <a:pt x="324464" y="530942"/>
                </a:cubicBezTo>
                <a:cubicBezTo>
                  <a:pt x="415412" y="371168"/>
                  <a:pt x="480551" y="185584"/>
                  <a:pt x="54569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14"/>
          <p:cNvCxnSpPr/>
          <p:nvPr/>
        </p:nvCxnSpPr>
        <p:spPr>
          <a:xfrm flipV="1">
            <a:off x="4471560" y="2695320"/>
            <a:ext cx="1080" cy="695520"/>
          </a:xfrm>
          <a:prstGeom prst="straightConnector1">
            <a:avLst/>
          </a:prstGeom>
          <a:ln w="28440">
            <a:solidFill>
              <a:srgbClr val="a6a6a6"/>
            </a:solidFill>
            <a:prstDash val="sysDash"/>
            <a:miter/>
            <a:tailEnd len="med" type="triangle" w="med"/>
          </a:ln>
        </p:spPr>
      </p:cxnSp>
      <p:sp>
        <p:nvSpPr>
          <p:cNvPr id="68" name="フリーフォーム 23"/>
          <p:cNvSpPr/>
          <p:nvPr/>
        </p:nvSpPr>
        <p:spPr>
          <a:xfrm>
            <a:off x="4734000" y="2728800"/>
            <a:ext cx="471240" cy="781200"/>
          </a:xfrm>
          <a:custGeom>
            <a:avLst/>
            <a:gdLst/>
            <a:ahLst/>
            <a:rect l="l" t="t" r="r" b="b"/>
            <a:pathLst>
              <a:path w="471949" h="781664">
                <a:moveTo>
                  <a:pt x="471949" y="781664"/>
                </a:moveTo>
                <a:cubicBezTo>
                  <a:pt x="349045" y="743564"/>
                  <a:pt x="226142" y="705464"/>
                  <a:pt x="147484" y="575187"/>
                </a:cubicBezTo>
                <a:cubicBezTo>
                  <a:pt x="68826" y="444910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フリーフォーム 24"/>
          <p:cNvSpPr/>
          <p:nvPr/>
        </p:nvSpPr>
        <p:spPr>
          <a:xfrm>
            <a:off x="4867200" y="2684520"/>
            <a:ext cx="1106640" cy="708120"/>
          </a:xfrm>
          <a:custGeom>
            <a:avLst/>
            <a:gdLst/>
            <a:ahLst/>
            <a:rect l="l" t="t" r="r" b="b"/>
            <a:pathLst>
              <a:path w="1106129" h="707923">
                <a:moveTo>
                  <a:pt x="1106129" y="707923"/>
                </a:moveTo>
                <a:cubicBezTo>
                  <a:pt x="792725" y="567813"/>
                  <a:pt x="479322" y="427704"/>
                  <a:pt x="294967" y="309717"/>
                </a:cubicBezTo>
                <a:cubicBezTo>
                  <a:pt x="110612" y="191730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フリーフォーム 26"/>
          <p:cNvSpPr/>
          <p:nvPr/>
        </p:nvSpPr>
        <p:spPr>
          <a:xfrm>
            <a:off x="4896000" y="2536920"/>
            <a:ext cx="2404800" cy="796680"/>
          </a:xfrm>
          <a:custGeom>
            <a:avLst/>
            <a:gdLst/>
            <a:ahLst/>
            <a:rect l="l" t="t" r="r" b="b"/>
            <a:pathLst>
              <a:path w="2403987" h="796412">
                <a:moveTo>
                  <a:pt x="2403987" y="796412"/>
                </a:moveTo>
                <a:cubicBezTo>
                  <a:pt x="1852151" y="730044"/>
                  <a:pt x="1300315" y="663677"/>
                  <a:pt x="899651" y="530942"/>
                </a:cubicBezTo>
                <a:cubicBezTo>
                  <a:pt x="498986" y="39820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a6a6a6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フリーフォーム 28"/>
          <p:cNvSpPr/>
          <p:nvPr/>
        </p:nvSpPr>
        <p:spPr>
          <a:xfrm>
            <a:off x="4881600" y="2165400"/>
            <a:ext cx="2006640" cy="150840"/>
          </a:xfrm>
          <a:custGeom>
            <a:avLst/>
            <a:gdLst/>
            <a:ahLst/>
            <a:rect l="l" t="t" r="r" b="b"/>
            <a:pathLst>
              <a:path w="2005781" h="150814">
                <a:moveTo>
                  <a:pt x="2005781" y="62323"/>
                </a:moveTo>
                <a:cubicBezTo>
                  <a:pt x="1752600" y="25452"/>
                  <a:pt x="1499420" y="-11419"/>
                  <a:pt x="1165123" y="3330"/>
                </a:cubicBezTo>
                <a:cubicBezTo>
                  <a:pt x="830826" y="18078"/>
                  <a:pt x="415413" y="84446"/>
                  <a:pt x="0" y="15081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1:50:03Z</dcterms:created>
  <dc:creator>hideyuki</dc:creator>
  <dc:description/>
  <dc:language>en-US</dc:language>
  <cp:lastModifiedBy>Satoru Izumi</cp:lastModifiedBy>
  <dcterms:modified xsi:type="dcterms:W3CDTF">2012-08-01T08:04:36Z</dcterms:modified>
  <cp:revision>2220</cp:revision>
  <dc:subject/>
  <dc:title>スライド 1</dc:title>
</cp:coreProperties>
</file>