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A56-73B5-4DD5-975D-8B6F7AD8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5F8-4DB8-40B3-8AAF-EAE9E78A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C46-EE6B-4604-A87F-9BC8435E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905-67C2-498B-94E3-69B7B5F3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662C-224E-48F8-95D4-33ABFC86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3FF7-4F7E-4102-8952-31C33D96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19A8-6373-4EC9-B0AF-4EEFCEB9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97F3-7D46-4CF3-90BC-FCCE4064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0844-1A76-4DF5-A1CA-C96A4582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247C-FA81-45D2-B647-88083FD7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9637-3577-49C3-A8EF-CAF61DF9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C11-18CB-4581-94B6-81D00B2D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25A6-2594-4246-A620-43744EFA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3722-26AA-4CA1-824C-E430A87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0A8E-054B-4EAE-A633-3264C6BC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239E-941F-418D-9212-5F614F09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30D3-FE6E-4158-9930-9BB61556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9BB-3A98-4335-9860-2B2223C8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06C-93DE-46BD-BCC8-6B55A6BB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45D-C97C-4E0D-9F5B-C5FCA4C0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B8B-1372-47B7-B642-FE4069F1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948-D3BD-42E0-B485-8FEFD53E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56C-7BD4-4805-A855-1E86B572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4EF-2083-4F45-AC77-7CC1043B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U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37AD-9EA2-4B35-9CB1-76D9A5921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EMU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6B94-BF93-47E9-A865-F774C230D6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TF-8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U TEAP Up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ncy Cam-Winge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camwing@cisc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seph Salowey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jsalowey@cisc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o Zhou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hzhou@cisc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eve Hann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shanna@juniper.n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U W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8807-00FF-42CC-B627-86DC591AC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ft-ietf-emu-eap-tunnel-method-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version (03) submitted in J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comments received on -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ickets have been res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MU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6B55-9F24-4BEA-9EB0-01FE3E436E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from -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3520" y="1523880"/>
          <a:ext cx="8076960" cy="4886280"/>
        </p:xfrm>
        <a:graphic>
          <a:graphicData uri="http://schemas.openxmlformats.org/drawingml/2006/table">
            <a:tbl>
              <a:tblPr/>
              <a:tblGrid>
                <a:gridCol w="1371600"/>
                <a:gridCol w="6705360"/>
              </a:tblGrid>
              <a:tr h="57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ified protected termination and use of crypto-binding T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d Session ID to use tls-unique and added reference to </a:t>
                      </a:r>
                      <a:r>
                        <a:rPr b="0" lang="en-US" sz="1400" spc="-1" strike="noStrike" u="sng">
                          <a:solidFill>
                            <a:srgbClr val="0000f7"/>
                          </a:solidFill>
                          <a:uFillTx/>
                          <a:latin typeface="Calibri"/>
                        </a:rPr>
                        <a:t>RFC5247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d the use of tls-unique to the certificate enrollment reques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ified Request-Action TLV to include Status code and optional TLV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ified that all authenticated Peer-Ids need to be export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d TLS Keying Material Exporter label to "teap seesion key seed"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d Intermediate Compound Key Derivation from M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MSK generated by inner meth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d missing IANA considera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d more security considerations for separation of Phase 1 and Phase 2 serv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dated examples with Request-Action TLV, channel binding, and sending certificate after TLS renegoti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MU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A0F0-D670-4A07-84BB-F8A71E96A2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SK in Crypto-Bi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Method generates an EMSK then it is used in the bi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method does not generate an EMSK then MSK is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method does not generate MSK or EMSK then key is set to 0 (no key to bind t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MU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AF85-FCF6-4CA9-B880-B1C770AE85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rtificate Enroll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LS-unique for bi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we align with 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tools.ietf.org/html/draft-ietf-pkix-est-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MU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12BE-3B3E-4646-9EC1-7F62AF9A83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for review and WGLC after IETF-8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MU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DC89-33B4-4F29-AC2C-A9EEAAC57E4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U W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EC88-73A6-4B08-B755-5C28CD54F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02:45:50Z</dcterms:created>
  <dc:creator/>
  <dc:description/>
  <dc:language>en-US</dc:language>
  <cp:lastModifiedBy>JAS</cp:lastModifiedBy>
  <dcterms:modified xsi:type="dcterms:W3CDTF">2012-07-30T17:25:05Z</dcterms:modified>
  <cp:revision>216</cp:revision>
  <dc:subject/>
  <dc:title>NEA Working Group Slides</dc:title>
</cp:coreProperties>
</file>