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691-0B98-4A9A-91E8-6CC2A009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667-5B80-485D-A9D1-DD20D983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FB0-6D81-4CB5-83FF-4513619A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8A4-01B9-42AC-8AAC-C78B0DFD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EE42-0F44-4E59-A40E-E6275701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2C54-D2FA-49BB-81F7-B3E8C0DA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3141-B4A9-4CD5-9626-B745E196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81E-884F-4480-8C35-D54CC7F2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D6E8-5E26-428C-B32F-B935CD42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2454-8568-4B7E-BDB2-FE3B4A8B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BFC-81BD-4738-9242-8EE242A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CC8-7878-4374-AA01-76A36308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D370-5EC0-4490-8F3B-E78DBC1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FE3D-F53F-454F-B6B1-E6655B8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3F4B-F588-4176-902F-952F6A2F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5688-CB9A-48D5-BF7B-5ECFBB75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4301-0069-48EB-99D8-4FE1CEAC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1C0-0E57-4EF0-ACA2-2E85A51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9DF-6923-4A4F-8970-592DB871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27E-C4C1-417C-9AE1-0A18266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B40-FA1A-4DCD-960D-24B352F8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896-2405-47EC-A302-410A687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488-E2C8-44F9-A80B-8BA6D3C0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0F2-C2B4-40F7-AA3D-6E2EA46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U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C12F-0FF2-4EA4-9E92-C6794E16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8921-6EC5-4397-AAFD-5683ED5BC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-8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U TEAP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ncy Cam-Winge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camwing@cisc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seph Salowe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jsalowey@cisc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o Zho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hzhou@cisc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eve Hann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shanna@juniper.n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U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50C-F849-46FA-AF3F-3530AFA3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ietf-emu-eap-tunnel-method-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version (03) submitted in 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omments received on -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ickets have been res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12FF-0A2E-4FCA-8486-FF1169107E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from -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523880"/>
          <a:ext cx="8076960" cy="4886280"/>
        </p:xfrm>
        <a:graphic>
          <a:graphicData uri="http://schemas.openxmlformats.org/drawingml/2006/table">
            <a:tbl>
              <a:tblPr/>
              <a:tblGrid>
                <a:gridCol w="1371600"/>
                <a:gridCol w="6705360"/>
              </a:tblGrid>
              <a:tr h="57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ed protected termination and use of crypto-binding T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 Session ID to use tls-unique and added reference to </a:t>
                      </a:r>
                      <a:r>
                        <a:rPr b="0" lang="en-US" sz="1400" spc="-1" strike="noStrike" u="sng">
                          <a:solidFill>
                            <a:srgbClr val="0000f7"/>
                          </a:solidFill>
                          <a:uFillTx/>
                          <a:latin typeface="Calibri"/>
                        </a:rPr>
                        <a:t>RFC5247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d the use of tls-unique to the certificate enrollment reque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ed Request-Action TLV to include Status code and optional TLV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ed that all authenticated Peer-Ids need to be export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 TLS Keying Material Exporter label to "teap seesion key seed"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 Intermediate Compound Key Derivation from M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MSK generated by inner meth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d missing IANA considera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d more security considerations for separation of Phase 1 and Phase 2 serv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d examples with Request-Action TLV, channel binding, and sending certificate after TLS renegoti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5138-5D37-4678-8D60-E70A079A71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SK in Crypto-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Method generates an EMSK then it is used in the b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method does not generate an EMSK then MSK is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method does not generate MSK or EMSK then key is set to 0 (no key to bind t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B91F-74FB-4D8B-B8EB-56EC675A85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rtificate Enroll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LS-unique for b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we align with 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tools.ietf.org/html/draft-ietf-pkix-est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3AC-5A99-4FD3-A9D6-AB8E5DBC77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for review and WGLC after IETF-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9912-F58C-4CE2-9B0D-AD11EA6EC9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U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61D0-6FF6-40B7-886E-AB7E2875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02:45:50Z</dcterms:created>
  <dc:creator/>
  <dc:description/>
  <dc:language>en-US</dc:language>
  <cp:lastModifiedBy>JAS</cp:lastModifiedBy>
  <dcterms:modified xsi:type="dcterms:W3CDTF">2012-07-30T17:25:05Z</dcterms:modified>
  <cp:revision>216</cp:revision>
  <dc:subject/>
  <dc:title>NEA Working Group Slides</dc:title>
</cp:coreProperties>
</file>