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6E0F-C05B-442C-BAF4-EA4F73D7D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4AC8-CB1B-439A-99DD-9A38B056C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2B7F-E918-493D-9841-625932115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PlaceHolder 1"/>
          <p:cNvSpPr>
            <a:spLocks noGrp="1"/>
          </p:cNvSpPr>
          <p:nvPr>
            <p:ph type="sldImg"/>
          </p:nvPr>
        </p:nvSpPr>
        <p:spPr>
          <a:xfrm>
            <a:off x="1154160" y="693720"/>
            <a:ext cx="4556160" cy="3416400"/>
          </a:xfrm>
          <a:prstGeom prst="rect">
            <a:avLst/>
          </a:prstGeom>
          <a:ln w="0">
            <a:noFill/>
          </a:ln>
        </p:spPr>
      </p:sp>
      <p:sp>
        <p:nvSpPr>
          <p:cNvPr id="56"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B998D-69B7-445E-B03E-C9D50E546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B3A72-7873-4E06-91FB-8F1F39AAD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86F55-8556-4A7D-8621-6774A5C30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C2E65-453A-4D03-8CE9-611E2E314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6E5F-5D46-4C13-B256-E651D1B27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F66F-F7E4-46F5-925F-5203B756A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86D5E-8CDA-4380-AF77-D348106D9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BE481-9478-43BD-9CF2-F96EE85E7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E19CE-03BB-4177-94F9-DBB6EA633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5FF4-EFC2-4F77-8A16-DEFA29AF0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85E67-9512-4C0A-BC2C-170F8C57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B9DD4-8DB9-43A4-81A8-DDECCCC9F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33AD-64DB-4F09-8DD1-1CAC2C8B0E8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1371600" y="1600200"/>
            <a:ext cx="6464160" cy="3429000"/>
          </a:xfrm>
          <a:prstGeom prst="rect">
            <a:avLst/>
          </a:prstGeom>
          <a:ln w="0">
            <a:noFill/>
          </a:ln>
        </p:spPr>
      </p:pic>
    </p:spTree>
  </p:cSld>
  <p:transition spd="med" advTm="1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83880" y="304560"/>
            <a:ext cx="7162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50" name="PlaceHolder 2"/>
          <p:cNvSpPr>
            <a:spLocks noGrp="1"/>
          </p:cNvSpPr>
          <p:nvPr>
            <p:ph/>
          </p:nvPr>
        </p:nvSpPr>
        <p:spPr>
          <a:xfrm>
            <a:off x="457200" y="837720"/>
            <a:ext cx="8159760" cy="4496040"/>
          </a:xfrm>
          <a:prstGeom prst="rect">
            <a:avLst/>
          </a:prstGeom>
          <a:noFill/>
          <a:ln w="0">
            <a:noFill/>
          </a:ln>
        </p:spPr>
        <p:txBody>
          <a:bodyPr lIns="90360" rIns="90360" tIns="44280" bIns="44280" anchor="t">
            <a:normAutofit fontScale="79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ETF plenary session</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ESG, or any member thereof on behalf of the IESG</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IETF mailing list, including the IETF list itself, any working group or design team list, or any other list functioning under IETF auspices</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IETF working group or portion thereof</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Birds of a Feather (BOF) session</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AB or any member thereof on behalf of the IAB</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FC Editor or the Internet-Drafts function</a:t>
            </a:r>
            <a:endParaRPr b="0" lang="en-US" sz="15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p:transition spd="med" advTm="2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09:09:28Z</dcterms:created>
  <dc:creator>Cindy Morgan</dc:creator>
  <dc:description/>
  <dc:language>en-US</dc:language>
  <cp:lastModifiedBy>Russell Housley</cp:lastModifiedBy>
  <dcterms:modified xsi:type="dcterms:W3CDTF">2011-08-11T21:13:01Z</dcterms:modified>
  <cp:revision>3</cp:revision>
  <dc:subject/>
  <dc:title>PowerPoint Presentation</dc:title>
</cp:coreProperties>
</file>