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D4D43-8371-4CC6-A959-85314DEA5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0D8DC-DBE2-437E-8171-14A258635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9BD-8145-4D08-BED1-520CD1DD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DCE-8B0A-483E-A27E-1C38C206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50A4-F7BD-4FE6-9EB4-1A6AE83F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95A4-CEE9-4E26-BEC0-9C5D698B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9962-28B2-411C-97BA-5C6CD776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5A69-22CE-464C-973E-C9F05636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F698-2BBB-4450-B4E2-E66348AA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7FE0-1974-4386-8ACA-EA16C424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9482-1021-497E-B291-57B4B02D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3C31-797A-4311-960B-BA888563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A00B-99AB-462B-885E-E3EA9947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D5A-EA7E-4D8D-82C8-B2CE4473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9870-0EB3-485D-BAE2-43323ADD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A3F6-01CA-4106-8B5A-833C9DBD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0BC2-5C48-4A64-9C29-E3E03654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348A-4B25-4344-8142-76FB4559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7736-E176-4048-9458-528EBDA5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3C6-9ED1-4778-9FCC-C2334E3A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09F-46BA-4451-AD34-60BEF126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662C-CF32-4405-871E-131588FB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CDD-BF2B-499E-A0FC-0B455F34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8633-077B-4AC4-BEF1-56BF9B71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27E-4AFB-44E4-A042-15C4FF6D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4EC-E87F-4A56-B79A-E35E8F85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3C88-BF0F-47C8-80B0-E2C8E2BF6F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Object 9"/>
          <p:cNvGraphicFramePr/>
          <p:nvPr/>
        </p:nvGraphicFramePr>
        <p:xfrm>
          <a:off x="7481880" y="33336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81880" y="33336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0"/>
          <p:cNvGraphicFramePr/>
          <p:nvPr/>
        </p:nvGraphicFramePr>
        <p:xfrm>
          <a:off x="7451640" y="292428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292428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6290-7720-4695-8A08-236211BD72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93BB-7141-4B92-B9DC-7970588ABF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574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800" spc="-1" strike="noStrike">
                <a:solidFill>
                  <a:srgbClr val="330066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6000" y="2939760"/>
            <a:ext cx="605304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 Postel Service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OC Open 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SG Open 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5:41:50Z</dcterms:created>
  <dc:creator>Harald Tveit Alvestrand</dc:creator>
  <dc:description/>
  <dc:language>en-US</dc:language>
  <cp:lastModifiedBy>Russell Housley</cp:lastModifiedBy>
  <dcterms:modified xsi:type="dcterms:W3CDTF">2012-07-14T15:26:37Z</dcterms:modified>
  <cp:revision>333</cp:revision>
  <dc:subject/>
  <dc:title>Welcome to the Plenary</dc:title>
</cp:coreProperties>
</file>