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7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move the slid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4E842F-033C-4CB7-9241-3A056F9C3F0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30AA34-F4C2-4FAE-8789-065F5C00F8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72309-0BEE-4CB3-8C74-43924B1AD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1105C-F28F-4D81-961E-41D913339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33008-F9DE-4C79-8A83-2ECA02D74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74E22-145D-4E41-8276-0DB8D5164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EF93D-5F99-409B-8A7B-203965AD3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FCFAE-BB2A-453D-9C80-AC03614FC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E0B14-A6EF-430C-9C38-D6DAD3379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CAEF2-7087-4819-BC15-DE05AC41E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5A24C-BE98-45F4-A7C0-A72E5D7B6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122400"/>
            <a:ext cx="68580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FA73F-172C-4E9B-A18D-601F88B75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D1D60-2C9F-4CBE-A8A9-970695AC7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5A2AC-A552-40EA-AB68-44389745C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B1D80-B3A7-4623-875D-E374840BD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CF235-F976-4B1F-9C06-28C0D18A3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317F7-8734-4F8C-BCA9-E78140E3C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01C9D-FFF0-46F3-BB76-D11F06DC1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20F95-F68D-4F67-B34F-BBFA9D4B5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000E7-A641-4C76-9CBF-1F691C391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0B727-D0A6-4A7B-ABD9-B7BA5A5CA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89636-698B-406E-A357-708A7A5AE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122400"/>
            <a:ext cx="68580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FD95C-8E53-4E91-A670-6D92FF6DA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D1B8A-7AB6-4C36-AC6E-0DACD5B16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B07D1-2AA2-489E-B451-9C2D1BD87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59F8D-F398-48E4-85AE-301A62B67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391520" y="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F3713-78C0-41D0-ABBF-F0470D3B87E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" name="Object 9"/>
          <p:cNvGraphicFramePr/>
          <p:nvPr/>
        </p:nvGraphicFramePr>
        <p:xfrm>
          <a:off x="7481880" y="333360"/>
          <a:ext cx="1368360" cy="725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" name="Object 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481880" y="333360"/>
                    <a:ext cx="1368360" cy="72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8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Object 10"/>
          <p:cNvGraphicFramePr/>
          <p:nvPr/>
        </p:nvGraphicFramePr>
        <p:xfrm>
          <a:off x="7451640" y="2924280"/>
          <a:ext cx="1368360" cy="725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7" name="Object 10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451640" y="2924280"/>
                    <a:ext cx="1368360" cy="72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CDBE9-ACC9-48F4-9D66-3F110209CDE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Slide Number Placeholder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13CE3-EB68-4D18-B979-C8E0ECD9207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16080" y="574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4800" spc="-1" strike="noStrike">
                <a:solidFill>
                  <a:srgbClr val="330066"/>
                </a:solidFill>
                <a:latin typeface="Arial"/>
              </a:rPr>
              <a:t>Agenda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116000" y="2939760"/>
            <a:ext cx="6053040" cy="358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st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por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12 Postel Service Aw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ogn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AOC Open M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ESG Open M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3T05:41:50Z</dcterms:created>
  <dc:creator>Harald Tveit Alvestrand</dc:creator>
  <dc:description/>
  <dc:language>en-US</dc:language>
  <cp:lastModifiedBy>Russell Housley</cp:lastModifiedBy>
  <dcterms:modified xsi:type="dcterms:W3CDTF">2012-07-14T15:26:37Z</dcterms:modified>
  <cp:revision>333</cp:revision>
  <dc:subject/>
  <dc:title>Welcome to the Plenary</dc:title>
</cp:coreProperties>
</file>