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BF75-DADC-45D1-8200-2F62A8A82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3FF7A-0801-4C58-9A83-1D6EA8E4F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CFB11-9903-4D4B-B872-859E15858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E02-548B-41C3-BA83-F7F856F7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AA4-8128-423A-BDAD-5BCE5B79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E40-5389-410F-A168-5A8204DE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0D5-D393-437E-8BBE-2246A5DB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9217-C3D8-4316-B69A-1E1974F6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F58-2D83-45FB-B3CD-4E12FFC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30B9-CE0F-4B11-AFEC-A808E665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F36-D7F8-4CD5-89C4-B00AC58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EDE5-0342-4CAC-96C8-70E2213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475-FC2A-4372-B7BF-E7EC9ABE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C865-A83E-4CCF-91FE-2288062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47F-82C6-4BFA-B67D-A7FF4D0C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D5F-15C9-4013-A08F-1C8CACE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51B-92AE-49DC-B229-17E35A8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EDFF-1FD6-46B7-8643-F84E4C1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8E3-0607-4580-8B49-CD3F8AB3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4C1D-5223-4EF1-B805-421B3256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3D5-CA75-43BC-A8EB-8132A3F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BD4-4E14-453A-AAC0-50E611F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A68-3076-4D95-B0BB-14BAE69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E11-C593-4F88-951D-BDBE8FF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A8C-9D2D-4276-957E-F536E30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B4B-79E8-486E-BFEF-37187A8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AFC-8801-479A-BF9E-5DFD4EC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6142-B7E5-4D68-A923-081EABA2D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29B3-D1EF-4164-B607-5171B11F8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E79-0B2B-4958-A14D-EA12B2AEA6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vancouver.jpg"/>
          <p:cNvPicPr/>
          <p:nvPr/>
        </p:nvPicPr>
        <p:blipFill>
          <a:blip r:embed="rId1"/>
          <a:stretch/>
        </p:blipFill>
        <p:spPr>
          <a:xfrm>
            <a:off x="395280" y="360036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26C0-08D4-4A62-B421-00670DB9CE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TF 84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5495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4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5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81 was 1127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 coun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81 was 46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ETF 81 was held in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ebec City,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082960" y="2235240"/>
            <a:ext cx="76435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or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719360"/>
            <a:ext cx="8856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retaria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s://www.ietf.org/proceedings/84/progress-report.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FC Edito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rfc-editor.org/in-notes/IETFreports/2012/ietf-rfc84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ANA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iaoc.ietf.org/documents/IANA-ietf84-jul2012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C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ietf.org/proceedings/84/slides/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lides-84-iesg-opsplenary-9.ppt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AB1-AD89-462B-8CCD-C56A88429D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lu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mplemented at IETF 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collecting email addresses on blue shee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organization affiliation to discriminate between multiple people with the same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the blue sheets and include the images in the proceedings for the WG ses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dication to top of the blue sheet so people know it will be part of the proceeding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paper blue sheets after sc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337-3A6B-4C7B-AA73-0695326CE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s-N-Bites Ev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d after NANOG “Beer and Ge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or tables, plus food an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ees don’t have to look at the exhi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at IETF 84 and IETF 85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source of revenue for the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vendor/service provi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5cff"/>
                </a:solidFill>
                <a:latin typeface="Arial"/>
              </a:rPr>
              <a:t>Enjoy the premiere event tom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534E-6678-4FBD-8F41-5F9D827096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22400"/>
            <a:ext cx="713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rn Global Standards Paradig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nard Aboba, as the IAB Chair,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ss Housley, as the IETF Chair, plan to affirm 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dern Global Standards Paradig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next few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ft of this document is availabl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ietf.org/proceedings/84/slides/slides-84-iesg-opsplenary-4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42F-B986-4943-BAD2-B53E48362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8-01T20:49:37Z</dcterms:modified>
  <cp:revision>405</cp:revision>
  <dc:subject/>
  <dc:title>Welcome to the Plenary</dc:title>
</cp:coreProperties>
</file>