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904667-7D12-4C53-A695-850E9AAA1C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1BCDC-AD0E-415A-A8D7-714228E2A3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DE3C8-968B-4AC4-9D16-38F66ED3A9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1F54-4F02-45A5-BE07-79537B285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680A-756D-44B6-A901-4D0CAF3D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ACCC-8F6A-4F23-9CB2-3C7A27DAF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BDD7-BA82-4B37-8C7D-8F2C72F26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896BD-AB37-40FC-91A7-0477D937C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FC41-A6ED-4108-9423-6A5BFF9F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06CE-EEA8-49A7-B7E8-803FC729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3566-DF57-40B3-BB73-CA7FA93A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D041-7C60-454C-B9E5-FAD95782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37DE-CBEB-4393-A937-C048A2F4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8E07-2D83-4597-BBD9-A87C7270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AAE8-F7A1-4F38-8F1F-2B4CDFF1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43CD-4E19-42B8-88B9-CE5B648E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78C64-2528-4FB9-A025-96E6211D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2D20-F735-40A5-ACB5-A4075207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7552E-ED7C-4B42-8CC4-5BE385141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4D8B-1048-4E0A-A33A-5DED0F9BD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8131-5E67-45C7-AD43-B694CBF1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F862-7589-4D29-AB47-DECA5EBD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B335-7940-4A1C-9D8B-7FE21619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9914-E98F-4898-9908-F4B2BE16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A319-BCE1-43DC-B1BA-15E134AE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3888-D1F4-46D5-9903-77BDFE9C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1DC1-2D95-48A3-B35E-45868340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D673-63DC-4FA5-A030-36536E965A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Object 9"/>
          <p:cNvGraphicFramePr/>
          <p:nvPr/>
        </p:nvGraphicFramePr>
        <p:xfrm>
          <a:off x="7481880" y="333360"/>
          <a:ext cx="1368360" cy="72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81880" y="333360"/>
                    <a:ext cx="13683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ct 10"/>
          <p:cNvGraphicFramePr/>
          <p:nvPr/>
        </p:nvGraphicFramePr>
        <p:xfrm>
          <a:off x="7451640" y="2924280"/>
          <a:ext cx="1368360" cy="72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1640" y="2924280"/>
                    <a:ext cx="13683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891A-A96F-43B3-A26C-BBBB6FC346A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8181-446C-4890-9466-5FF653E331B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6080" y="574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800" spc="-1" strike="noStrike">
                <a:solidFill>
                  <a:srgbClr val="330066"/>
                </a:solidFill>
                <a:latin typeface="Arial"/>
              </a:rPr>
              <a:t>IETF Status at IETF 84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924000" y="3012840"/>
            <a:ext cx="33894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Arial"/>
              </a:rPr>
              <a:t>Russ Hous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Arial"/>
              </a:rPr>
              <a:t>IETF C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vancouver.jpg"/>
          <p:cNvPicPr/>
          <p:nvPr/>
        </p:nvPicPr>
        <p:blipFill>
          <a:blip r:embed="rId1"/>
          <a:stretch/>
        </p:blipFill>
        <p:spPr>
          <a:xfrm>
            <a:off x="395280" y="3600360"/>
            <a:ext cx="410544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E44A-21B2-4558-A887-4386CB6859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ETF 84 Participa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628280"/>
            <a:ext cx="54957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74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5 newcom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TF 81 was 1127 peo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2 countr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TF 81 was 46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ETF 81 was held in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uebec City, Can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Object 2" descr=""/>
          <p:cNvPicPr/>
          <p:nvPr/>
        </p:nvPicPr>
        <p:blipFill>
          <a:blip r:embed="rId1"/>
          <a:stretch/>
        </p:blipFill>
        <p:spPr>
          <a:xfrm>
            <a:off x="2082960" y="2235240"/>
            <a:ext cx="764352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port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79280" y="1719360"/>
            <a:ext cx="885672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cretariat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ttps://www.ietf.org/proceedings/84/progress-report.htm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FC Editor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ttp://www.rfc-editor.org/in-notes/IETFreports/2012/ietf-rfc84.pd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ANA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ttp://iaoc.ietf.org/documents/IANA-ietf84-jul2012.pd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OC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ttp://www.ietf.org/proceedings/84/slides/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lides-84-iesg-opsplenary-9.ppt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E12E-D08C-4535-94C4-CCC626797C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lue shee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implemented at IETF 8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 collecting email addresses on blue sheet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organization affiliation to discriminate between multiple people with the same na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n the blue sheets and include the images in the proceedings for the WG sess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indication to top of the blue sheet so people know it will be part of the proceedings;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ard paper blue sheets after scan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6E44-4DFC-4F32-A03F-D4B4FCCF5A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its-N-Bites Ev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71936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ed after NANOG “Beer and Ge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hibitor tables, plus food and dr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dance op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dees don’t have to look at the exhi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s at IETF 84 and IETF 85 plan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new source of revenue for the I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vendor/service provider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5cff"/>
                </a:solidFill>
                <a:latin typeface="Arial"/>
              </a:rPr>
              <a:t>Enjoy the premiere event tomorrow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C293-1068-4925-BA75-32374A8B0B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122400"/>
            <a:ext cx="7135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Modern Global Standards Paradigm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rnard Aboba, as the IAB Chair, and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uss Housley, as the IETF Chair, plan to affirm the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Modern Global Standards Paradig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the next few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aft of this document is available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://www.ietf.org/proceedings/84/slides/slides-84-iesg-opsplenary-4.pd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35C5-B877-4D1C-82F5-DC8C570AF71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5:41:50Z</dcterms:created>
  <dc:creator>Harald Tveit Alvestrand</dc:creator>
  <dc:description/>
  <dc:language>en-US</dc:language>
  <cp:lastModifiedBy>Russell Housley</cp:lastModifiedBy>
  <dcterms:modified xsi:type="dcterms:W3CDTF">2012-08-01T20:49:37Z</dcterms:modified>
  <cp:revision>405</cp:revision>
  <dc:subject/>
  <dc:title>Welcome to the Plenary</dc:title>
</cp:coreProperties>
</file>