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66C9-27AD-46E2-88B9-C94E96F62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6389-104A-4760-83A4-D9A94640D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E1A-3E1B-4073-9BC7-4AA692F1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D5E-0843-4BF0-826A-24E31EEF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018-5FEA-4599-8A13-06EB2E1A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2C5-E24B-4358-8179-8D73A3E8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7AA-1F5A-480E-B546-6B5FC341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CE8D-3480-4689-A7AF-AA33556D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792-608C-4CB6-B055-F2567162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D96-9A02-465C-A85F-18A64C9A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78A-80DA-435D-A032-A9474709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795C-6F2E-4D24-9149-9CECCDD9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E2F9-213C-4866-8B97-46B0053D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B66-01A3-4EE5-90CF-C487E25D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B857-1D27-4225-8863-A17155A58F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6416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9:09:28Z</dcterms:created>
  <dc:creator>Cindy Morgan</dc:creator>
  <dc:description/>
  <dc:language>en-US</dc:language>
  <cp:lastModifiedBy>Russell Housley</cp:lastModifiedBy>
  <dcterms:modified xsi:type="dcterms:W3CDTF">2011-03-30T11:50:09Z</dcterms:modified>
  <cp:revision>3</cp:revision>
  <dc:subject/>
  <dc:title>PowerPoint Presentation</dc:title>
</cp:coreProperties>
</file>