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F435-0C89-4CF8-8E85-EDC31B75E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D1CF-6CAA-4C94-BA74-1A66BCD0D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AA82-F28B-4146-ACC9-7ED450C26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F605-2299-4488-A41B-7BF63ABB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74E7-D6B9-4375-BC99-C3B3C3EED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A73B-4FC4-4E94-B14B-113D3CFD1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0322-C44D-4CC3-BF59-07F3B571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F363-FE57-4CC8-B112-D51CDCEA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72C2-D735-48D2-A6A7-A2A7AE7C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C9E9-2BAE-4B55-BE52-CBB27B5E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708C-9C2A-4050-AB2E-CFCBE086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7628-02EF-4D9D-96E6-BDF04305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42D1-453B-4D71-82B5-3C4B2C8A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17B4-59DA-4A2D-9B56-2DD6C6AC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7CEA-42A1-4D27-8C0A-36024F99822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464160" cy="34290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09:09:28Z</dcterms:created>
  <dc:creator>Cindy Morgan</dc:creator>
  <dc:description/>
  <dc:language>en-US</dc:language>
  <cp:lastModifiedBy>Russell Housley</cp:lastModifiedBy>
  <dcterms:modified xsi:type="dcterms:W3CDTF">2011-03-30T11:50:09Z</dcterms:modified>
  <cp:revision>3</cp:revision>
  <dc:subject/>
  <dc:title>PowerPoint Presentation</dc:title>
</cp:coreProperties>
</file>