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51CB-2004-471C-BB1C-7ED1CEA4F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1B07-CDA8-487A-A835-1DB208197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68D4C-509F-4F3E-8B3C-CD7568B14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FF5E-256B-48D9-9027-A8075DE45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1441-2DB1-475B-B71A-34C83EEA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A8CB9-92C2-4D70-B615-6FD55B0DF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6124-D852-4616-A276-E0259C7A7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ECA-3854-484F-8AAD-8D08C46E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520-712D-4FCF-87DB-9426755A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E14-DB2E-464C-B4E9-75A6216C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7A3-8933-4CDE-88C8-7DDCE128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4F96-386A-4D42-91C5-5F755309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0FA-BE9F-4FF1-8841-CF1C2BF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123D-DD11-4D70-BA8C-0D282C7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C71-A5FE-48E2-9929-7D6E164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7045-FED1-4AE7-B18E-D3A0366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809-ED32-4D00-9CF8-33C23A8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09A-B286-4BAE-BD48-958FA8E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72D-1319-4625-806D-D0A82B0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75E1-A611-42BA-8313-F6BC626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9E1F-9892-4028-9C5E-985CAB6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EDB-942B-432A-9F2E-9A40BD2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C58-E4C6-4678-BD2B-CE4282F8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E5E-D22C-4DDA-B7F3-357874EC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A6A-DCCD-4E2B-B275-886BF66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596-F464-440D-B019-8C02EB2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575-877B-42BE-B403-776A4D6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E88-981E-44DB-A893-7E50570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FD9-C708-45A1-BC2A-7EA83FC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DCB-390D-4B86-A5F6-255D511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537-AA15-48DE-8143-0DF64BB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11EF-4AEB-48CF-974E-2EB7526182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81880" y="313524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3524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F500-1F06-4EF0-8A68-9A18FDF88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IETF Trust Chair Report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inden for Marshall Eu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ETF Trust Issues: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sponse to Subpoen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71120"/>
            <a:ext cx="86868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ETF and the IETF Trust receive subpoenas from time to time as part of evidence gathering (so far, associated with patent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o show abuse of the patent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, participation in the IETF without filing of IPR discu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o show prior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us have to respond to requests for documents, physical proof of attendance at IETF meetings (and rarely depos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24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for RFCs, I-Ds, blue sheets, email archives, and oth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300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ees have agreed to publish new subpoenas as they com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w three subpoenas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iaoc.ietf.org/subpoena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53F-6C5C-4DAA-86EE-5789299CF6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ETF Trust Issues: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poena received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723-4A0E-43A5-966E-7B4EF3C849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613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Questions During Open Mic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A29-E28F-4609-9472-66EF50964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Auxillary Infor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0A1-86E8-47C4-B209-5A8DF5373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What is the IETF Trust 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The IETF Trust was founded by CNRI and the Internet Society (AKA the Settlor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iaoc.ietf.org/docs/IETF-Trust-Agreement-Executed-12-15-0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Also see BCP 78 / RFC 53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It exists to hold intellectual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 property of the IETF </a:t>
            </a:r>
            <a:r>
              <a:rPr b="0" lang="ja-JP" sz="2400" spc="-1" strike="noStrike">
                <a:solidFill>
                  <a:srgbClr val="000000"/>
                </a:solidFill>
                <a:latin typeface="TimesNewRomanPS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for the advancement of the science and technology associated with the Internet and related technology.</a:t>
            </a:r>
            <a:r>
              <a:rPr b="0" lang="ja-JP" sz="2400" spc="-1" strike="noStrike">
                <a:solidFill>
                  <a:srgbClr val="000000"/>
                </a:solidFill>
                <a:latin typeface="TimesNewRomanPS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It has a legal existence as a Trust in the Commonwealth of Virgi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There are 9 Trustees, the members of the IA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NewRomanPSMT"/>
              </a:rPr>
              <a:t>The Trustees have a fiduciary duty to protect the IETF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TimesNewRomanPSMT"/>
              </a:rPr>
              <a:t>s property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D747-9C30-4AF1-A744-6E1F023724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Legal Provis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The IETF Trust  is currently operating under Trust Legal Provisions (TLP) 4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Effective Date: December 1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These can be found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trustee.ietf.org/docs/IETF-Trust-License-Polic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E3F-00A4-4061-B233-DE7C57B039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1:20:26Z</dcterms:created>
  <dc:creator>Marshall Eubanks</dc:creator>
  <dc:description>Summary of Trustee actions between March and July, 2009 </dc:description>
  <cp:keywords/>
  <dc:language>en-US</dc:language>
  <cp:lastModifiedBy>Robert M. Hinden</cp:lastModifiedBy>
  <cp:lastPrinted>2012-08-01T15:47:29Z</cp:lastPrinted>
  <dcterms:modified xsi:type="dcterms:W3CDTF">2012-08-01T20:08:08Z</dcterms:modified>
  <cp:revision>11</cp:revision>
  <dc:subject>IETF 75 ISOC BoT</dc:subject>
  <dc:title>IETF Trust Chair Report </dc:title>
</cp:coreProperties>
</file>