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29B7A-F350-46BD-9541-A4F61C7B05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2DC72-10B7-438D-8F38-3E1BAB74D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72C45-258D-4263-88BF-16E871AEC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2715D-9B3D-48B6-9DEC-7651DAAFF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3FB55-3EF3-4A8B-9001-6D3EF6A6E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B5CE1-F76D-469F-AAF7-3B61D235D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6F692-0721-4850-8F30-3E699F276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C9B4-0EC9-461F-81AB-4BCC4B32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6723-C97E-4FC7-A46E-72711CD9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9366-929D-4DBE-941C-CFBFCCBF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C828-D399-4BE9-8706-FF9915A3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D348-9D20-40B7-829A-31295818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A00F-6419-4515-B195-38DB9078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E837-4833-4C4E-B939-4F4A264C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1755-F68B-486D-ADBD-1B9A782B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DCA7-3217-4727-B21A-6310901A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FF6E-787C-40B1-95ED-37E522B4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D9EB-6399-4CFA-8498-B31ECAAE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B2BA-3798-4F6A-A7DD-23A23A90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A98D-3F68-4180-8C9B-7A7084B3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24C6-136A-48EE-BEB2-6D376B96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8434-9453-43FD-B429-0A7D1CB5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B4EA-33F5-4391-844D-176ABBBD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804E-C6F4-40C9-AEC0-39478617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4730-4DE8-4E3A-8A48-CC68C8A6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A45-B174-4E5F-845A-BFA3506F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854B-4771-45C8-AB29-77C6B4E0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6720-C794-4F7B-A217-BBE2D7C8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7DF1-A1A2-4A43-88C4-5D9B5EF4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E9B5-652A-4C2E-B8EA-335A4BA8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8632-BE1D-4F1A-B213-24065CD9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9"/>
          <p:cNvGraphicFramePr/>
          <p:nvPr/>
        </p:nvGraphicFramePr>
        <p:xfrm>
          <a:off x="7481880" y="31752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81880" y="31752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CE81-68C2-41CC-829C-141BD0F079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10"/>
          <p:cNvGraphicFramePr/>
          <p:nvPr/>
        </p:nvGraphicFramePr>
        <p:xfrm>
          <a:off x="7481880" y="313524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81880" y="313524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8AE9-637B-4086-B8D0-2B3BBA2DD5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330066"/>
                </a:solidFill>
                <a:latin typeface="Arial"/>
              </a:rPr>
              <a:t>IETF Trust Chair Report</a:t>
            </a:r>
            <a:br>
              <a:rPr sz="4400"/>
            </a:b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 Hinden for Marshall Eu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IETF Trust Issues: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Response to Subpoena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671120"/>
            <a:ext cx="868680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177120" indent="-17712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ETF and the IETF Trust receive subpoenas from time to time as part of evidence gathering (so far, associated with patent c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6360" indent="-215280">
              <a:lnSpc>
                <a:spcPct val="95000"/>
              </a:lnSpc>
              <a:spcBef>
                <a:spcPts val="624"/>
              </a:spcBef>
              <a:spcAft>
                <a:spcPts val="624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to show abuse of the patent proces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.e., participation in the IETF without filing of IPR discus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6360" indent="-215280">
              <a:lnSpc>
                <a:spcPct val="95000"/>
              </a:lnSpc>
              <a:spcBef>
                <a:spcPts val="624"/>
              </a:spcBef>
              <a:spcAft>
                <a:spcPts val="624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to show prior 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120" indent="-17712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thus have to respond to requests for documents, physical proof of attendance at IETF meetings (and rarely deposi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6360" indent="-215280">
              <a:lnSpc>
                <a:spcPct val="95000"/>
              </a:lnSpc>
              <a:spcBef>
                <a:spcPts val="624"/>
              </a:spcBef>
              <a:spcAft>
                <a:spcPts val="249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are for RFCs, I-Ds, blue sheets, email archives, and other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120" indent="-177120">
              <a:lnSpc>
                <a:spcPct val="95000"/>
              </a:lnSpc>
              <a:spcBef>
                <a:spcPts val="751"/>
              </a:spcBef>
              <a:spcAft>
                <a:spcPts val="300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stees have agreed to publish new subpoenas as they com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120" indent="-177120">
              <a:lnSpc>
                <a:spcPct val="95000"/>
              </a:lnSpc>
              <a:spcBef>
                <a:spcPts val="814"/>
              </a:spcBef>
              <a:spcAft>
                <a:spcPts val="814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ow three subpoenas a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iaoc.ietf.org/subpoenas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5BB4-E3C7-497E-A739-CA56D6B737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IETF Trust Issues: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ubpoena received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22DC-9A4F-488C-9399-59FBFA24A3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86132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330066"/>
                </a:solidFill>
                <a:latin typeface="Arial"/>
              </a:rPr>
              <a:t>Questions During Open Mic</a:t>
            </a:r>
            <a:br>
              <a:rPr sz="3600"/>
            </a:b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93C2-7890-4240-AD87-8BE4B9975D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0" y="236232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330066"/>
                </a:solidFill>
                <a:latin typeface="Arial"/>
              </a:rPr>
              <a:t>Auxillary Information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EBFB-3D60-47A9-8EBE-8E4A6FAF13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What is the IETF Trust ?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The IETF Trust was founded by CNRI and the Internet Society (AKA the Settlor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iaoc.ietf.org/docs/IETF-Trust-Agreement-Executed-12-15-05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Also see BCP 78 / RFC 537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It exists to hold intellectual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 property of the IETF </a:t>
            </a:r>
            <a:r>
              <a:rPr b="0" lang="ja-JP" sz="2400" spc="-1" strike="noStrike">
                <a:solidFill>
                  <a:srgbClr val="000000"/>
                </a:solidFill>
                <a:latin typeface="TimesNewRomanPS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for the advancement of the science and technology associated with the Internet and related technology.</a:t>
            </a:r>
            <a:r>
              <a:rPr b="0" lang="ja-JP" sz="2400" spc="-1" strike="noStrike">
                <a:solidFill>
                  <a:srgbClr val="000000"/>
                </a:solidFill>
                <a:latin typeface="TimesNewRomanPS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It has a legal existence as a Trust in the Commonwealth of Virgin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There are 9 Trustees, the members of the IAO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NewRomanPSMT"/>
              </a:rPr>
              <a:t>The Trustees have a fiduciary duty to protect the IETF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500" spc="-1" strike="noStrike">
                <a:solidFill>
                  <a:srgbClr val="000000"/>
                </a:solidFill>
                <a:latin typeface="TimesNewRomanPSMT"/>
              </a:rPr>
              <a:t>s property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0192-7E6C-4915-BEC0-4B3B88E3CA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330066"/>
                </a:solidFill>
                <a:latin typeface="Arial"/>
              </a:rPr>
              <a:t>The IETF Trust Legal Provision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PSMT"/>
              </a:rPr>
              <a:t>The IETF Trust  is currently operating under Trust Legal Provisions (TLP) 4.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PSMT"/>
              </a:rPr>
              <a:t>Effective Date: December 15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PSMT"/>
              </a:rPr>
              <a:t>These can be found 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ttp://trustee.ietf.org/docs/IETF-Trust-License-Policy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71288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B17A-6E44-40F0-AB3F-5015645612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21:20:26Z</dcterms:created>
  <dc:creator>Marshall Eubanks</dc:creator>
  <dc:description>Summary of Trustee actions between March and July, 2009 </dc:description>
  <cp:keywords/>
  <dc:language>en-US</dc:language>
  <cp:lastModifiedBy>Robert M. Hinden</cp:lastModifiedBy>
  <cp:lastPrinted>2012-08-01T15:47:29Z</cp:lastPrinted>
  <dcterms:modified xsi:type="dcterms:W3CDTF">2012-08-01T20:08:08Z</dcterms:modified>
  <cp:revision>11</cp:revision>
  <dc:subject>IETF 75 ISOC BoT</dc:subject>
  <dc:title>IETF Trust Chair Report </dc:title>
</cp:coreProperties>
</file>