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278240" y="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8DBCB-A263-4262-8014-C69276933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D1CAC-F96B-459E-8E57-EDCACF359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E7E9E-B9BA-48CA-BC5B-5D8A3C56D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CA38F-0683-4B4F-A947-6788B1F78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E8B61-F771-40D1-A5DF-6D94C67B2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CC25D-0445-4FC6-ABD5-BC9C08F10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CF5B9-1FCD-4C67-B7FE-2399AE1D6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C2CD4-F2ED-4FE3-88A1-294CDAAE1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5C11E-8771-4791-BEE6-2F139131D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C3712-BA52-4D0C-B868-F4E4FDA0D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F1C98-B096-4C1D-9906-963F22240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DAA60-A973-47F4-86B3-F98E15438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A2C03-6B60-4F42-94EB-289AA9E92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EF7AA-B022-46B3-9919-A83FDFCC3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679B0-D6B7-42E0-BEFD-863D47052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10A09-EE76-4DD4-AEF4-B7944358B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4F57B-22C1-4032-8463-D4360BC26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0992-5FF9-4E8F-8B4F-7B22FFD8E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D1F3-8D57-4AF3-998F-1540AFDB4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18EA-0BB5-4DCE-B833-C3701B6F8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8026-9AAA-4938-A0DC-B1A4811F5E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2A1B-9716-4782-9B67-55AE32F3BB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2A0C-B664-464F-86E9-95C2BBA52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6383-38E7-4EF6-A389-FF66B6270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6712-1C39-4D9F-AD7C-EAFC3F1C6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5314-296B-4963-8452-EA6E7A3AE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B584-D915-4CE0-8C89-0D68D93D4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FB77-0B60-4DE6-9C07-8738E1400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F539-5497-439E-9578-62BE58EB3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0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87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EA3F6-9E0F-4D9B-867F-73DC570CF5C3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108160"/>
            <a:ext cx="91440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 Nominating Committee (NomCom)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943280" y="3733920"/>
            <a:ext cx="61722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hew Lepin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com-chair@ietf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mCom Process: RFC 3777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503280" y="1417680"/>
            <a:ext cx="90694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Com is the process by which we select our leaders (i.e., IESG, IAB, IA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Com consists of 10 voting members randomly selected from a pool of volunt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Com gathers feedback from the IETF community in order to assemble a slate of candidates that meets the needs of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we ensure our leadership is fair, balanced and possessing the skills / experience required to serve effective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Pos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503280" y="166068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the IESG, IAB, and IAOC serve two year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year the NomCom is responsible for half the IAB, one position on the IAOC, and one Area Director for each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Only one General Area AD (IETF Chair), this is the year we consider the IETF c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list of open positions can be found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ietf.org/group/nomcom/201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You Can Help: Part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503280" y="1336680"/>
            <a:ext cx="906948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 to serve on the Nom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 diverse NomCom representative of the entire IETF community is importa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ier to gather feedback from the entire IE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likely to reach decisions that are best for the entire IE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, diverse volunteer pool yields representative Nom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must have attended 3 of last 5 IE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 to volunteer is Sunday, August 5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unteer P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503280" y="1552680"/>
            <a:ext cx="906948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urrently(*) have 109 volunt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were 120 volunteers last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reatly appreciate everyone who has volunteered so far 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not all backgrounds/experience are equally well repres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n't need to be an IETF graybeard to serve on the Nom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*) : As of Tuesday at 5:00pm Vancou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You Can Help: Par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503280" y="166068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e talented individuals for leadership positions on the IESG, IAB, and IA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nominations is likely in Septe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e individuals that you believe are well suited for IETF leadersh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may nominate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expertise / qualifications for these leadership positions can be found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ietf.org/group/nomcom/201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You Can Help: Part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03280" y="166068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 to the Nom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ill be a call for feedback on specific nominees in Octob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expect we will use RFC 5680 (i.e., open li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eedback on what issues NomCom should consider in filling a particular position is welcome at any tim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mCom takes very seriously the confidentiality of all feedback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503280" y="4932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03280" y="166068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bout the NomCom in general can be found in RFC 3777 or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ietf.org/nom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 specific to this year's NomCom is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ietf.org/group/nomcom/201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't hesitate to email me with questions, concerns, or input for the NomC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com-chair@ietf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2:32Z</dcterms:created>
  <dc:creator/>
  <dc:description/>
  <dc:language>en-US</dc:language>
  <cp:lastModifiedBy>Russell Housley</cp:lastModifiedBy>
  <dcterms:modified xsi:type="dcterms:W3CDTF">2012-08-01T17:44:52Z</dcterms:modified>
  <cp:revision>3</cp:revision>
  <dc:subject/>
  <dc:title>PowerPoint Presentation</dc:title>
</cp:coreProperties>
</file>