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278240" y="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919B8-A84F-49FB-8DDA-360A13AA7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2BC59-5099-4239-9DE3-0CEFC1B00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13DFE-1A8A-46A7-BADB-7701CF8D5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B1006-CA81-4129-890B-6B173F43B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7E405-EFCE-477E-AA1F-7D1B578C2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C7450-12FC-4349-BE6F-BB6DE59AE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DD46A-EBE2-4E60-ABC3-B5E30A800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0FB02-51AC-42BA-9ED7-863A814D7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25BC6-95B5-4E98-A06D-CC0718282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557DD-FE27-4B91-A67A-A4DF78442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3D538-67A6-4A31-962A-B28BAE0C6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6E04F-CBC6-4ABA-B541-BC096B4AC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E7344-F99C-4B7E-8525-7C2E6C115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1C1F6-75A8-40AC-AE7B-57DAB78DA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72611-822F-4628-9B78-49D780BAB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0575E-E990-42A3-B362-EE65F21CA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E8D5D-7D85-4E65-AE77-10EFB1A86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AE47-1E9D-4D27-B067-BDABD3B23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02B0-1D53-4E6C-BD5B-AC7CDC138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493D-6E8B-452F-8725-891CA6DEB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92F2-1125-4EC6-BB0F-136248E12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2D8B-AD8F-48E3-8C32-B31383D145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CE68-2727-4B4A-89F8-551FB1BA8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72CD-CE56-48B8-AC78-A14C9323F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2F24-CF9E-4781-A104-201B0BFBB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DC41-BB02-484E-BFAC-A4E4CCD82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780E-878E-4B01-9CED-E8275C001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C358-3039-4228-8274-AA50498E3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5104-3B25-4617-B8D3-1A66D8DA3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0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87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93317-CF60-4505-A526-4576467C19D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108160"/>
            <a:ext cx="91440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 Nominating Committee (NomCom)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943280" y="3733920"/>
            <a:ext cx="61722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hew Lepin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com-chair@ietf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mCom Process: RFC 3777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503280" y="1417680"/>
            <a:ext cx="90694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Com is the process by which we select our leaders (i.e., IESG, IAB, IA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Com consists of 10 voting members randomly selected from a pool of volunt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Com gathers feedback from the IETF community in order to assemble a slate of candidates that meets the needs of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we ensure our leadership is fair, balanced and possessing the skills / experience required to serve effective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Pos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503280" y="166068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the IESG, IAB, and IAOC serve two year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year the NomCom is responsible for half the IAB, one position on the IAOC, and one Area Director for each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Only one General Area AD (IETF Chair), this is the year we consider the IETF c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list of open positions can be found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ietf.org/group/nomcom/201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You Can Help: Part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503280" y="1336680"/>
            <a:ext cx="906948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 to serve on the Nom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 diverse NomCom representative of the entire IETF community is importa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ier to gather feedback from the entire IE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likely to reach decisions that are best for the entire IE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, diverse volunteer pool yields representative Nom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must have attended 3 of last 5 IE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 to volunteer is Sunday, August 5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unteer P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503280" y="1552680"/>
            <a:ext cx="906948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urrently(*) have 109 volunt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were 120 volunteers last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reatly appreciate everyone who has volunteered so far 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not all backgrounds/experience are equally well repres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n't need to be an IETF graybeard to serve on the Nom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*) : As of Tuesday at 5:00pm Vancou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You Can Help: Par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503280" y="166068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e talented individuals for leadership positions on the IESG, IAB, and IA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nominations is likely in Septe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e individuals that you believe are well suited for IETF leadersh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may nominate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expertise / qualifications for these leadership positions can be found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ietf.org/group/nomcom/201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You Can Help: Part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03280" y="166068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 to the Nom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ill be a call for feedback on specific nominees in Octob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expect we will use RFC 5680 (i.e., open li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eedback on what issues NomCom should consider in filling a particular position is welcome at any tim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mCom takes very seriously the confidentiality of all feedback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03280" y="166068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bout the NomCom in general can be found in RFC 3777 or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ietf.org/nom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 specific to this year's NomCom is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ietf.org/group/nomcom/201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't hesitate to email me with questions, concerns, or input for the NomC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com-chair@ietf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2:32Z</dcterms:created>
  <dc:creator/>
  <dc:description/>
  <dc:language>en-US</dc:language>
  <cp:lastModifiedBy>Russell Housley</cp:lastModifiedBy>
  <dcterms:modified xsi:type="dcterms:W3CDTF">2012-08-01T17:44:52Z</dcterms:modified>
  <cp:revision>3</cp:revision>
  <dc:subject/>
  <dc:title>PowerPoint Presentation</dc:title>
</cp:coreProperties>
</file>