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1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168720" cy="4777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7"/>
          </p:nvPr>
        </p:nvSpPr>
        <p:spPr>
          <a:xfrm>
            <a:off x="4143240" y="-360"/>
            <a:ext cx="3168720" cy="4777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257480" y="720360"/>
            <a:ext cx="4798800" cy="3598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move the slid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0000" cy="43182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8"/>
          </p:nvPr>
        </p:nvSpPr>
        <p:spPr>
          <a:xfrm>
            <a:off x="0" y="9119880"/>
            <a:ext cx="3168720" cy="4777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9"/>
          </p:nvPr>
        </p:nvSpPr>
        <p:spPr>
          <a:xfrm>
            <a:off x="4143240" y="9119880"/>
            <a:ext cx="3168720" cy="4777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1B5E723-5DFF-4530-8099-7794F85E75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4143240" y="9120240"/>
            <a:ext cx="3168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4D3A6DB-5B8B-481C-A73F-DFD3334166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body"/>
          </p:nvPr>
        </p:nvSpPr>
        <p:spPr>
          <a:xfrm>
            <a:off x="731880" y="4560840"/>
            <a:ext cx="585144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icture 3" descr=""/>
          <p:cNvPicPr/>
          <p:nvPr/>
        </p:nvPicPr>
        <p:blipFill>
          <a:blip r:embed="rId1"/>
          <a:stretch/>
        </p:blipFill>
        <p:spPr>
          <a:xfrm>
            <a:off x="1562040" y="3362400"/>
            <a:ext cx="4210200" cy="2895480"/>
          </a:xfrm>
          <a:prstGeom prst="rect">
            <a:avLst/>
          </a:prstGeom>
          <a:ln w="0">
            <a:noFill/>
          </a:ln>
        </p:spPr>
      </p:pic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6F363-3EEA-40C1-94E1-F6BDA9BC5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22040"/>
            <a:ext cx="6856560" cy="12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02300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F8A64-F5B6-4B9C-A62F-2916EFB8C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22040"/>
            <a:ext cx="6856560" cy="12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0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3520" y="1719360"/>
            <a:ext cx="40150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23000"/>
            <a:ext cx="40150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3520" y="4023000"/>
            <a:ext cx="40150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98691-6257-4ADE-9AF0-D8F3B6D25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22040"/>
            <a:ext cx="6856560" cy="12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24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280" y="1719360"/>
            <a:ext cx="264924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1360" y="1719360"/>
            <a:ext cx="264924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023000"/>
            <a:ext cx="264924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280" y="4023000"/>
            <a:ext cx="264924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1360" y="4023000"/>
            <a:ext cx="264924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4E040-69DB-41EF-88B4-3EF301379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6B738-5F5B-4EBC-B145-DEBDB9167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22040"/>
            <a:ext cx="6856560" cy="12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8160" cy="44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94CE3-E98E-45AB-9300-060B4B686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22040"/>
            <a:ext cx="6856560" cy="12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8160" cy="44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FEAB3-54BC-48BB-89A5-B754D8A39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22040"/>
            <a:ext cx="6856560" cy="12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080" cy="44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3520" y="1719360"/>
            <a:ext cx="4015080" cy="44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29C9D-4E89-4D95-956B-10BAE064A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22040"/>
            <a:ext cx="6856560" cy="12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24362-1BF3-46D8-8E9D-50449B069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22040"/>
            <a:ext cx="6856560" cy="59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0016B-47E7-4E10-9A9A-0003CC356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22040"/>
            <a:ext cx="6856560" cy="12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0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719360"/>
            <a:ext cx="4015080" cy="44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023000"/>
            <a:ext cx="40150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7EEE0-5667-429D-AB3D-9AF12987F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2040"/>
            <a:ext cx="6856560" cy="12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8160" cy="44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F766B-66DF-4C04-816B-A27851A85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22040"/>
            <a:ext cx="6856560" cy="12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080" cy="44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719360"/>
            <a:ext cx="40150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3520" y="4023000"/>
            <a:ext cx="40150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1D3C0-00B1-4BFC-8347-5BF195D30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22040"/>
            <a:ext cx="6856560" cy="12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0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3520" y="1719360"/>
            <a:ext cx="40150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02300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37972-58AF-43FC-AF6B-52DDF9E4E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22040"/>
            <a:ext cx="6856560" cy="12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02300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9257B-7750-4889-A1AA-10A7A84F2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22040"/>
            <a:ext cx="6856560" cy="12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0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3520" y="1719360"/>
            <a:ext cx="40150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023000"/>
            <a:ext cx="40150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3520" y="4023000"/>
            <a:ext cx="40150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4E0F3-68BB-46A5-8161-26B681391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22040"/>
            <a:ext cx="6856560" cy="12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24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280" y="1719360"/>
            <a:ext cx="264924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1360" y="1719360"/>
            <a:ext cx="264924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023000"/>
            <a:ext cx="264924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280" y="4023000"/>
            <a:ext cx="264924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1360" y="4023000"/>
            <a:ext cx="264924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4DC49-6ADD-4662-9AA9-F7D01ECA5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2040"/>
            <a:ext cx="6856560" cy="12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8160" cy="44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FEB91-A69A-4949-BE9B-9831AEB64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22040"/>
            <a:ext cx="6856560" cy="12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080" cy="44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3520" y="1719360"/>
            <a:ext cx="4015080" cy="44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CDB36-D87F-4BE6-B582-132189498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2040"/>
            <a:ext cx="6856560" cy="12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154EF-61B1-4CDF-8A85-DD5B739B6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22040"/>
            <a:ext cx="6856560" cy="59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26AB1-C2CD-4C36-83AF-D8E7A9729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22040"/>
            <a:ext cx="6856560" cy="12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0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3520" y="1719360"/>
            <a:ext cx="4015080" cy="44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023000"/>
            <a:ext cx="40150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B389E-6A0A-4B0A-A2EF-DF9C6CE59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22040"/>
            <a:ext cx="6856560" cy="12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080" cy="44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3520" y="1719360"/>
            <a:ext cx="40150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3520" y="4023000"/>
            <a:ext cx="40150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380D3-66B0-4C6E-B3BD-406DA067F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22040"/>
            <a:ext cx="6856560" cy="12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0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3520" y="1719360"/>
            <a:ext cx="40150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2300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57422-31C6-4096-AA33-64D9A113A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1"/>
          <p:cNvSpPr/>
          <p:nvPr/>
        </p:nvSpPr>
        <p:spPr>
          <a:xfrm>
            <a:off x="7391520" y="0"/>
            <a:ext cx="144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122040"/>
            <a:ext cx="6856560" cy="12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8160" cy="44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7200" y="6248160"/>
            <a:ext cx="21319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2132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B98FAF6-7E3C-4BF7-A76A-320A421A6CD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7" descr=""/>
          <p:cNvPicPr/>
          <p:nvPr/>
        </p:nvPicPr>
        <p:blipFill>
          <a:blip r:embed="rId2"/>
          <a:stretch/>
        </p:blipFill>
        <p:spPr>
          <a:xfrm>
            <a:off x="7391520" y="228600"/>
            <a:ext cx="1523880" cy="871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Line 1"/>
          <p:cNvSpPr/>
          <p:nvPr/>
        </p:nvSpPr>
        <p:spPr>
          <a:xfrm>
            <a:off x="7315200" y="1066680"/>
            <a:ext cx="144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15720" y="465120"/>
            <a:ext cx="6779880" cy="21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457200" y="6248160"/>
            <a:ext cx="21319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2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C7AE72-4B7E-4113-A668-08E2B8A591B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6"/>
          <p:cNvSpPr/>
          <p:nvPr/>
        </p:nvSpPr>
        <p:spPr>
          <a:xfrm>
            <a:off x="304920" y="2819520"/>
            <a:ext cx="822960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Picture 7" descr=""/>
          <p:cNvPicPr/>
          <p:nvPr/>
        </p:nvPicPr>
        <p:blipFill>
          <a:blip r:embed="rId2"/>
          <a:stretch/>
        </p:blipFill>
        <p:spPr>
          <a:xfrm>
            <a:off x="7391520" y="2971800"/>
            <a:ext cx="1523880" cy="871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5"/>
          <p:cNvSpPr/>
          <p:nvPr/>
        </p:nvSpPr>
        <p:spPr>
          <a:xfrm>
            <a:off x="6553080" y="6248520"/>
            <a:ext cx="21322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DFCAF8D-2D43-40D8-A720-C2FDE57E664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RL “Bob” Morgan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6" name="Text Box 2"/>
          <p:cNvSpPr/>
          <p:nvPr/>
        </p:nvSpPr>
        <p:spPr>
          <a:xfrm>
            <a:off x="250920" y="1446120"/>
            <a:ext cx="7292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 12 July 2012, a long time IETF contributor and online Identity pioneer passed away. We already miss his wit, compassion, and wisdo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Text Box 3"/>
          <p:cNvSpPr/>
          <p:nvPr/>
        </p:nvSpPr>
        <p:spPr>
          <a:xfrm>
            <a:off x="357120" y="5943600"/>
            <a:ext cx="855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Aft>
                <a:spcPts val="624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igrated to the cloud -- https://spaces.internet2.edu/display/rlbob/Ho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Picture 4" descr=""/>
          <p:cNvPicPr/>
          <p:nvPr/>
        </p:nvPicPr>
        <p:blipFill>
          <a:blip r:embed="rId1"/>
          <a:stretch/>
        </p:blipFill>
        <p:spPr>
          <a:xfrm>
            <a:off x="228600" y="2971800"/>
            <a:ext cx="5016600" cy="27432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"/>
          <p:cNvPicPr/>
          <p:nvPr/>
        </p:nvPicPr>
        <p:blipFill>
          <a:blip r:embed="rId2"/>
          <a:stretch/>
        </p:blipFill>
        <p:spPr>
          <a:xfrm>
            <a:off x="4705200" y="2971800"/>
            <a:ext cx="4210200" cy="28954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3T05:41:50Z</dcterms:created>
  <dc:creator>Harald Tveit Alvestrand</dc:creator>
  <dc:description/>
  <dc:language>en-US</dc:language>
  <cp:lastModifiedBy>Russell Housley</cp:lastModifiedBy>
  <dcterms:modified xsi:type="dcterms:W3CDTF">2012-08-01T17:29:28Z</dcterms:modified>
  <cp:revision>180</cp:revision>
  <dc:subject/>
  <dc:title>Welcome to the Plenary</dc:title>
</cp:coreProperties>
</file>