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1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168720" cy="477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4143240" y="-360"/>
            <a:ext cx="3168720" cy="477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257480" y="720360"/>
            <a:ext cx="47988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9119880"/>
            <a:ext cx="3168720" cy="477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4143240" y="9119880"/>
            <a:ext cx="3168720" cy="477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CB9DB1-212A-42C9-9F4B-E13C26FB3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4143240" y="912024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F5BD61-AF56-4107-B744-77552BF24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562040" y="3362400"/>
            <a:ext cx="4210200" cy="2895480"/>
          </a:xfrm>
          <a:prstGeom prst="rect">
            <a:avLst/>
          </a:prstGeom>
          <a:ln w="0">
            <a:noFill/>
          </a:ln>
        </p:spPr>
      </p:pic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9C71-F39D-4F5E-8681-7702964A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65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00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4D90-FFA4-43DB-AA42-38F6ED47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65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2DFF-5B8E-4ACC-AF94-C94B971B9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65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71936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171936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00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402300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402300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36B7-3199-4AD0-9A5F-C9487664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2E68-0E9F-48FE-9C86-934D38EC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65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81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E321-15CE-4138-8117-394164A0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65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816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1C16-EC24-40D2-956C-0FC2D825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65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F27C-40CB-4CB0-A9EC-9A199D73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65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7ADB-C5EC-4C58-85F7-8D015171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22040"/>
            <a:ext cx="6856560" cy="59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63FE-FD39-4241-926C-88C63A6A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65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975E-7848-4FBE-84C6-D46D91AB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65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81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1541-C90F-4DA3-B265-8BAE6A1C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65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352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8E89-A023-4432-9435-5C6A95AE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65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300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C9A7-2809-4E5C-AF13-809C3485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65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2300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7B3B-2AC8-4874-A89A-3305187B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65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352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A91B-E261-4802-93C8-286F69419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65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280" y="171936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1360" y="171936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2300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280" y="402300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1360" y="402300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27FC-4D3F-43F1-BEE6-6DE9807F8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65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816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386C-3C87-4B01-BD7A-3A40CF29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65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8408-C120-434C-A552-540FDDB8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65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E91B-851C-4A58-ABAF-EFAFA0F1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22040"/>
            <a:ext cx="6856560" cy="59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0612-3924-4A92-918C-F5D7F330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65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76B9-BFB0-48F1-9812-CBCB6CD3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65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58EC-D2A9-492C-9890-96E18379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65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00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1040-BF70-4634-BF65-D41E92B6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7391520" y="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65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816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C16CA7-86A0-4265-ABE6-9D103B2AFB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1"/>
          <p:cNvSpPr/>
          <p:nvPr/>
        </p:nvSpPr>
        <p:spPr>
          <a:xfrm>
            <a:off x="7315200" y="1066680"/>
            <a:ext cx="144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5720" y="465120"/>
            <a:ext cx="677988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3E623-C04F-408B-8D23-B88AF30F20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>
            <a:off x="304920" y="2819520"/>
            <a:ext cx="8229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391520" y="2971800"/>
            <a:ext cx="1523880" cy="87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2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5775D3-4502-49DA-897D-C3E2F9EBD7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L “Bob” Morgan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250920" y="1446120"/>
            <a:ext cx="729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12 July 2012, a long time IETF contributor and online Identity pioneer passed away. We already miss his wit, compassion, and wisd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57120" y="5943600"/>
            <a:ext cx="85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grated to the cloud -- https://spaces.internet2.edu/display/rlbob/H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5016600" cy="2743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4705200" y="2971800"/>
            <a:ext cx="4210200" cy="289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5:41:50Z</dcterms:created>
  <dc:creator>Harald Tveit Alvestrand</dc:creator>
  <dc:description/>
  <dc:language>en-US</dc:language>
  <cp:lastModifiedBy>Russell Housley</cp:lastModifiedBy>
  <dcterms:modified xsi:type="dcterms:W3CDTF">2012-08-01T17:29:28Z</dcterms:modified>
  <cp:revision>180</cp:revision>
  <dc:subject/>
  <dc:title>Welcome to the Plenary</dc:title>
</cp:coreProperties>
</file>