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84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8D06F-BD29-4149-A6FF-C4AA5B8E21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27824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D878-9E79-4A21-B5B5-79C31085C0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1A64F-E791-46FA-A317-69ECDFAFFC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D724A-7BEE-4269-9218-DB618550C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BABE-257E-44DF-94F0-8BB52320D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50A6-5F5C-406C-B21F-5CA6A22B6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A07D-ECAD-4DB7-BDB1-BB89C9EDD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5C3C-5ABE-43B8-9BC8-44E4BB3EF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3C7C-210F-4975-97B8-B949283F2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85CE-7957-423D-AD8D-5D87798EF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B00B-31F0-444A-A321-F6B50E6BE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9FEE-2302-4F59-9C73-997C938CE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EB04-F0F8-4DFA-9AFC-CAFCFFAB2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826D-563C-46F9-A7FA-FE6D12B4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2D56-950D-432B-9D31-B4A4BA806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AAD2-F032-408A-B4FE-9E4722F90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96E003-3258-41C7-A029-50F7AD9C49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2"/>
          <p:cNvSpPr/>
          <p:nvPr/>
        </p:nvSpPr>
        <p:spPr>
          <a:xfrm>
            <a:off x="7227720" y="6886440"/>
            <a:ext cx="2341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5440" y="2941560"/>
            <a:ext cx="9263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draft-carpenter-flow-label-balancing-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0960"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Brian Carp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Sheng Jiang (Speak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Willy Tar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July/August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8534520" cy="129528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IPv6 Flow Label for Server Load Balancing -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Draf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3280" y="1494000"/>
            <a:ext cx="9066240" cy="52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revious draft (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ft-carpenter-v6ops-label-balance) was split into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1. draft-carpenter-flow-label-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describes use of the flow label for server load balancing, completely based on the existing standard (RFC64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 indent="-6094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2. draft-tarreau-extend-flow-label-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proposes an extended model to support session persistence, requiring application layer changes. Not discussed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227720" y="6886440"/>
            <a:ext cx="2341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E737-4171-4AC7-8DBE-7FC7C4516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traight Connector 34"/>
          <p:cNvSpPr/>
          <p:nvPr/>
        </p:nvSpPr>
        <p:spPr>
          <a:xfrm flipH="1">
            <a:off x="2602080" y="3855960"/>
            <a:ext cx="144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 flipH="1">
            <a:off x="7248600" y="2637000"/>
            <a:ext cx="1440" cy="121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2980800" y="2712960"/>
            <a:ext cx="180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70"/>
          <p:cNvSpPr/>
          <p:nvPr/>
        </p:nvSpPr>
        <p:spPr>
          <a:xfrm flipH="1">
            <a:off x="8392680" y="6218280"/>
            <a:ext cx="180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69"/>
          <p:cNvSpPr/>
          <p:nvPr/>
        </p:nvSpPr>
        <p:spPr>
          <a:xfrm flipH="1">
            <a:off x="664056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68"/>
          <p:cNvSpPr/>
          <p:nvPr/>
        </p:nvSpPr>
        <p:spPr>
          <a:xfrm flipH="1">
            <a:off x="488808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67"/>
          <p:cNvSpPr/>
          <p:nvPr/>
        </p:nvSpPr>
        <p:spPr>
          <a:xfrm flipH="1">
            <a:off x="3059280" y="6218280"/>
            <a:ext cx="144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66"/>
          <p:cNvSpPr/>
          <p:nvPr/>
        </p:nvSpPr>
        <p:spPr>
          <a:xfrm flipH="1">
            <a:off x="1306080" y="6218280"/>
            <a:ext cx="180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41"/>
          <p:cNvSpPr/>
          <p:nvPr/>
        </p:nvSpPr>
        <p:spPr>
          <a:xfrm flipH="1">
            <a:off x="8545680" y="4998960"/>
            <a:ext cx="144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traight Connector 40"/>
          <p:cNvSpPr/>
          <p:nvPr/>
        </p:nvSpPr>
        <p:spPr>
          <a:xfrm flipH="1">
            <a:off x="6488280" y="4998960"/>
            <a:ext cx="144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traight Connector 38"/>
          <p:cNvSpPr/>
          <p:nvPr/>
        </p:nvSpPr>
        <p:spPr>
          <a:xfrm flipH="1">
            <a:off x="4049280" y="4998960"/>
            <a:ext cx="180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>
            <a:off x="1535040" y="499896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Straight Connector 33"/>
          <p:cNvSpPr/>
          <p:nvPr/>
        </p:nvSpPr>
        <p:spPr>
          <a:xfrm flipH="1">
            <a:off x="7326360" y="3855960"/>
            <a:ext cx="1440" cy="1143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320" y="122400"/>
            <a:ext cx="9065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Scenario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>
            <a:off x="316080" y="1112760"/>
            <a:ext cx="9372600" cy="1685880"/>
          </a:xfrm>
          <a:custGeom>
            <a:avLst/>
            <a:gdLst>
              <a:gd name="textAreaLeft" fmla="*/ 1291680 w 9372600"/>
              <a:gd name="textAreaRight" fmla="*/ 7414560 w 9372600"/>
              <a:gd name="textAreaTop" fmla="*/ 254520 h 1685880"/>
              <a:gd name="textAreaBottom" fmla="*/ 1353240 h 1685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678040" y="1722600"/>
            <a:ext cx="4419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Pv6 Clients in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373480" y="6446880"/>
            <a:ext cx="144756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6259680" y="4084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L3/L4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211560" y="5303880"/>
            <a:ext cx="1828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16280" y="2941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gress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7859880" y="5303880"/>
            <a:ext cx="1600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LS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20640" y="5303880"/>
            <a:ext cx="1828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26160" y="5303880"/>
            <a:ext cx="1600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LS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459080" y="4084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L3/L4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12596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84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77072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20640" y="6446880"/>
            <a:ext cx="14479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Straight Connector 21"/>
          <p:cNvSpPr/>
          <p:nvPr/>
        </p:nvSpPr>
        <p:spPr>
          <a:xfrm>
            <a:off x="1459080" y="4998960"/>
            <a:ext cx="71625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traight Connector 22"/>
          <p:cNvSpPr/>
          <p:nvPr/>
        </p:nvSpPr>
        <p:spPr>
          <a:xfrm>
            <a:off x="620640" y="6218280"/>
            <a:ext cx="8763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23"/>
          <p:cNvSpPr/>
          <p:nvPr/>
        </p:nvSpPr>
        <p:spPr>
          <a:xfrm>
            <a:off x="1992240" y="3855960"/>
            <a:ext cx="594360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31"/>
          <p:cNvSpPr/>
          <p:nvPr/>
        </p:nvSpPr>
        <p:spPr>
          <a:xfrm flipV="1">
            <a:off x="2677320" y="385560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73"/>
          <p:cNvSpPr/>
          <p:nvPr/>
        </p:nvSpPr>
        <p:spPr>
          <a:xfrm>
            <a:off x="3897360" y="3017880"/>
            <a:ext cx="25146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3333cc"/>
                </a:solidFill>
                <a:latin typeface="Arial"/>
              </a:rPr>
              <a:t>DNS-based</a:t>
            </a:r>
            <a:br>
              <a:rPr sz="1800"/>
            </a:b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3333cc"/>
                </a:solidFill>
                <a:latin typeface="Arial"/>
              </a:rPr>
              <a:t>←load splitting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7250040" y="538020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0" y="652320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77"/>
          <p:cNvSpPr/>
          <p:nvPr/>
        </p:nvSpPr>
        <p:spPr>
          <a:xfrm>
            <a:off x="2525760" y="5303880"/>
            <a:ext cx="7621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9"/>
          <p:cNvSpPr/>
          <p:nvPr/>
        </p:nvSpPr>
        <p:spPr>
          <a:xfrm>
            <a:off x="6183360" y="2941560"/>
            <a:ext cx="22860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gress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049640" y="3932280"/>
            <a:ext cx="1828800" cy="914400"/>
          </a:xfrm>
          <a:prstGeom prst="wedgeRoundRectCallout">
            <a:avLst>
              <a:gd name="adj1" fmla="val 69615"/>
              <a:gd name="adj2" fmla="val -109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ssible flow labe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ounded Rectangular Callout 45"/>
          <p:cNvSpPr/>
          <p:nvPr/>
        </p:nvSpPr>
        <p:spPr>
          <a:xfrm>
            <a:off x="4049640" y="3932280"/>
            <a:ext cx="1828800" cy="914400"/>
          </a:xfrm>
          <a:prstGeom prst="wedgeRoundRectCallout">
            <a:avLst>
              <a:gd name="adj1" fmla="val -67462"/>
              <a:gd name="adj2" fmla="val -109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Possible flow labe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9AE4-A951-46A0-AE88-5FDB8FE174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600" spc="-1" strike="noStrike">
                <a:solidFill>
                  <a:srgbClr val="3333cc"/>
                </a:solidFill>
                <a:latin typeface="Arial"/>
              </a:rPr>
              <a:t>Core of </a:t>
            </a:r>
            <a:r>
              <a:rPr b="0" lang="en-GB" sz="3600" spc="-1" strike="noStrike">
                <a:solidFill>
                  <a:srgbClr val="3333cc"/>
                </a:solidFill>
                <a:latin typeface="Arial"/>
                <a:ea typeface="Courier New"/>
              </a:rPr>
              <a:t>draft-carpenter-flow-label-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17680"/>
            <a:ext cx="9066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cording to RFC 6437, the flow label SHOULD be set to a suitable (uniformly distributed) value a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on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3/L4 load balanc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not present, fall back to current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present, but not a known value, apply the usual load balancing algorithm to select the server and remember the flow label &lt;-&gt; server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32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low label is present and known, use it to select the proper server. Thus,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equent packets of flow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load balancing can depend on 2 tupl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{source address, flow label}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more efficient for ASICs than 5 tup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 balancer can also benefit by using 2 tuple as input of hash algorithm rather than 5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54C1-50B5-49A8-8F3F-ED3ACBF94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4400" spc="-1" strike="noStrike">
                <a:solidFill>
                  <a:srgbClr val="3333cc"/>
                </a:solidFill>
                <a:latin typeface="Arial"/>
              </a:rPr>
              <a:t>Possibl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906624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4120" indent="-2898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gnificant simplification for packets with IPv6 extension h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98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uming that 80-90% of IPv6 users reach the net without a proxy, large sites will be able to off-load most of their load balancing into ASIC-based LBs or even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2920" indent="-257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ss router sets flow label if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2898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10-20% of sessions will have persistence issues (multiple ports or source addresses) and will follow the normal route via the L7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2920" indent="-25704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FB2A-454F-4250-9E15-C7D2B7145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600" spc="-1" strike="noStrike">
                <a:solidFill>
                  <a:srgbClr val="3333cc"/>
                </a:solidFill>
                <a:latin typeface="Arial"/>
              </a:rPr>
              <a:t>Next steps for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Arial"/>
                <a:ea typeface="Courier New"/>
              </a:rPr>
              <a:t>draft-carpenter-flow-label-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828800"/>
            <a:ext cx="9066240" cy="51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uthors believe it describes a scenario that is consistent with existing standards and could be attractive in some deplo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is ready for Informational RF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5A16-F99A-4F66-AECD-AD6463258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8:50:26Z</dcterms:created>
  <dc:creator/>
  <dc:description/>
  <dc:language>en-US</dc:language>
  <cp:lastModifiedBy>brian</cp:lastModifiedBy>
  <dcterms:modified xsi:type="dcterms:W3CDTF">2012-07-26T09:36:23Z</dcterms:modified>
  <cp:revision>189</cp:revision>
  <dc:subject/>
  <dc:title>Flow Label status 2011-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UZqg7fMdhoLi3f3W61+BYi1zOCc3bFX41u/Jn2/n1snProjA6+TUCh8NMLWaritvKAhrFOvC
FuDRaAtiPFNwOIkX1hPoNZRPb892NYlWolJjAUfaGy6/rZv0RTTfrQaMOZidzQ+zDM/at939
2pD9zpJxTQ13eNlKrFuQpP20RvtmB2TPSb2koXCeXADOeifCBV65BBeLZJHeASqp2INCqaRe
m9aVrxIifqy8WckwLEzqM</vt:lpwstr>
  </property>
  <property fmtid="{D5CDD505-2E9C-101B-9397-08002B2CF9AE}" pid="3" name="_ms_pID_7253431">
    <vt:lpwstr>xDYjmJgrNrlw9jnNH55WchAuta7U3o+fpgrWXCpY4+xG1VgzoNN
k/gG467DQDdJBtLs96co6tl0GMctZwfb7Lu/tPVhDv11RZrmKXqK2qLWZIoq6Do/QAwfeAQ6
DnA=</vt:lpwstr>
  </property>
  <property fmtid="{D5CDD505-2E9C-101B-9397-08002B2CF9AE}" pid="4" name="sflag">
    <vt:lpwstr>1332379146</vt:lpwstr>
  </property>
</Properties>
</file>