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84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35AB-58B4-4FF3-A7E8-CD9A61006B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27824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017EF-EBD8-4E5B-96FC-3E08EEF4F2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48DDD-983C-4617-AC4F-148BE5E362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EC946-970A-43FA-A93E-2724BF813B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B6A1-BEC9-4A6D-A56C-F449CE045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5C69-1CBE-4AB9-B7A5-14CACA24B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AFFA-8EFD-4ACC-880F-EE2929B90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642F-616B-4D0C-BEA3-C9BA4D8BB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E335-915C-4EAA-B4FA-E6437BC63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84E0-7F2B-42DC-8875-EC9600DAE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9F23-1616-4EA7-8563-1D9362652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DCFC-D3E4-43EB-A558-3B44ABAD3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8480-1399-4CEA-AEF3-C82827FD3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31B2-7EF4-44B5-99CB-3997CBCD9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651D-B923-4C70-AD8E-F08CE268D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50DD-53E7-49C5-956E-13E56BEB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BDC3AD-2129-40B6-88D0-E0698B7A15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2"/>
          <p:cNvSpPr/>
          <p:nvPr/>
        </p:nvSpPr>
        <p:spPr>
          <a:xfrm>
            <a:off x="7227720" y="6886440"/>
            <a:ext cx="2341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5440" y="2941560"/>
            <a:ext cx="9263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draft-carpenter-flow-label-balancing-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0960"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Brian Carp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Sheng Jiang (Spe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Willy Tar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July/August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8534520" cy="129528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IPv6 Flow Label for Server Load Balancing -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Draf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3280" y="1494000"/>
            <a:ext cx="9066240" cy="52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revious draft (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ft-carpenter-v6ops-label-balance) was split into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1. draft-carpenter-flow-label-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describes use of the flow label for server load balancing, completely based on the existing standard (RFC64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2. draft-tarreau-extend-flow-label-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proposes an extended model to support session persistence, requiring application layer changes. Not discuss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227720" y="6886440"/>
            <a:ext cx="2341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0668-B24B-4B8D-9E83-A5E5999616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traight Connector 34"/>
          <p:cNvSpPr/>
          <p:nvPr/>
        </p:nvSpPr>
        <p:spPr>
          <a:xfrm flipH="1">
            <a:off x="2602080" y="3855960"/>
            <a:ext cx="144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 flipH="1">
            <a:off x="7248600" y="2637000"/>
            <a:ext cx="1440" cy="121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2980800" y="2712960"/>
            <a:ext cx="180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70"/>
          <p:cNvSpPr/>
          <p:nvPr/>
        </p:nvSpPr>
        <p:spPr>
          <a:xfrm flipH="1">
            <a:off x="8392680" y="6218280"/>
            <a:ext cx="180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69"/>
          <p:cNvSpPr/>
          <p:nvPr/>
        </p:nvSpPr>
        <p:spPr>
          <a:xfrm flipH="1">
            <a:off x="664056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68"/>
          <p:cNvSpPr/>
          <p:nvPr/>
        </p:nvSpPr>
        <p:spPr>
          <a:xfrm flipH="1">
            <a:off x="488808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67"/>
          <p:cNvSpPr/>
          <p:nvPr/>
        </p:nvSpPr>
        <p:spPr>
          <a:xfrm flipH="1">
            <a:off x="305928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66"/>
          <p:cNvSpPr/>
          <p:nvPr/>
        </p:nvSpPr>
        <p:spPr>
          <a:xfrm flipH="1">
            <a:off x="1306080" y="6218280"/>
            <a:ext cx="180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41"/>
          <p:cNvSpPr/>
          <p:nvPr/>
        </p:nvSpPr>
        <p:spPr>
          <a:xfrm flipH="1">
            <a:off x="8545680" y="4998960"/>
            <a:ext cx="144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traight Connector 40"/>
          <p:cNvSpPr/>
          <p:nvPr/>
        </p:nvSpPr>
        <p:spPr>
          <a:xfrm flipH="1">
            <a:off x="6488280" y="4998960"/>
            <a:ext cx="144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traight Connector 38"/>
          <p:cNvSpPr/>
          <p:nvPr/>
        </p:nvSpPr>
        <p:spPr>
          <a:xfrm flipH="1">
            <a:off x="4049280" y="4998960"/>
            <a:ext cx="180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>
            <a:off x="1535040" y="499896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Straight Connector 33"/>
          <p:cNvSpPr/>
          <p:nvPr/>
        </p:nvSpPr>
        <p:spPr>
          <a:xfrm flipH="1">
            <a:off x="7326360" y="3855960"/>
            <a:ext cx="144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320" y="122400"/>
            <a:ext cx="9065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Scenario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>
            <a:off x="316080" y="1112760"/>
            <a:ext cx="9372600" cy="1685880"/>
          </a:xfrm>
          <a:custGeom>
            <a:avLst/>
            <a:gdLst>
              <a:gd name="textAreaLeft" fmla="*/ 1291680 w 9372600"/>
              <a:gd name="textAreaRight" fmla="*/ 7414560 w 9372600"/>
              <a:gd name="textAreaTop" fmla="*/ 254520 h 1685880"/>
              <a:gd name="textAreaBottom" fmla="*/ 1353240 h 1685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678040" y="1722600"/>
            <a:ext cx="4419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Pv6 Clients in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373480" y="6446880"/>
            <a:ext cx="144756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6259680" y="4084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L3/L4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211560" y="5303880"/>
            <a:ext cx="1828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16280" y="2941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gress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7859880" y="5303880"/>
            <a:ext cx="1600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LS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20640" y="5303880"/>
            <a:ext cx="1828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26160" y="5303880"/>
            <a:ext cx="1600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LS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459080" y="4084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L3/L4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12596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84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77072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206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Straight Connector 21"/>
          <p:cNvSpPr/>
          <p:nvPr/>
        </p:nvSpPr>
        <p:spPr>
          <a:xfrm>
            <a:off x="1459080" y="4998960"/>
            <a:ext cx="71625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traight Connector 22"/>
          <p:cNvSpPr/>
          <p:nvPr/>
        </p:nvSpPr>
        <p:spPr>
          <a:xfrm>
            <a:off x="620640" y="6218280"/>
            <a:ext cx="8763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23"/>
          <p:cNvSpPr/>
          <p:nvPr/>
        </p:nvSpPr>
        <p:spPr>
          <a:xfrm>
            <a:off x="1992240" y="3855960"/>
            <a:ext cx="59436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31"/>
          <p:cNvSpPr/>
          <p:nvPr/>
        </p:nvSpPr>
        <p:spPr>
          <a:xfrm flipV="1">
            <a:off x="2677320" y="385560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73"/>
          <p:cNvSpPr/>
          <p:nvPr/>
        </p:nvSpPr>
        <p:spPr>
          <a:xfrm>
            <a:off x="3897360" y="3017880"/>
            <a:ext cx="25146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3333cc"/>
                </a:solidFill>
                <a:latin typeface="Arial"/>
              </a:rPr>
              <a:t>DNS-based</a:t>
            </a:r>
            <a:br>
              <a:rPr sz="1800"/>
            </a:b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3333cc"/>
                </a:solidFill>
                <a:latin typeface="Arial"/>
              </a:rPr>
              <a:t>←load splitting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7250040" y="538020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0" y="652320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77"/>
          <p:cNvSpPr/>
          <p:nvPr/>
        </p:nvSpPr>
        <p:spPr>
          <a:xfrm>
            <a:off x="2525760" y="530388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9"/>
          <p:cNvSpPr/>
          <p:nvPr/>
        </p:nvSpPr>
        <p:spPr>
          <a:xfrm>
            <a:off x="6183360" y="2941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gress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049640" y="3932280"/>
            <a:ext cx="1828800" cy="914400"/>
          </a:xfrm>
          <a:prstGeom prst="wedgeRoundRectCallout">
            <a:avLst>
              <a:gd name="adj1" fmla="val 69615"/>
              <a:gd name="adj2" fmla="val -109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ssible flow labe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ounded Rectangular Callout 45"/>
          <p:cNvSpPr/>
          <p:nvPr/>
        </p:nvSpPr>
        <p:spPr>
          <a:xfrm>
            <a:off x="4049640" y="3932280"/>
            <a:ext cx="1828800" cy="914400"/>
          </a:xfrm>
          <a:prstGeom prst="wedgeRoundRectCallout">
            <a:avLst>
              <a:gd name="adj1" fmla="val -67462"/>
              <a:gd name="adj2" fmla="val -109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Possible flow labe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B077-EB06-4170-BFC9-B17D8A254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600" spc="-1" strike="noStrike">
                <a:solidFill>
                  <a:srgbClr val="3333cc"/>
                </a:solidFill>
                <a:latin typeface="Arial"/>
              </a:rPr>
              <a:t>Core of </a:t>
            </a:r>
            <a:r>
              <a:rPr b="0" lang="en-GB" sz="3600" spc="-1" strike="noStrike">
                <a:solidFill>
                  <a:srgbClr val="3333cc"/>
                </a:solidFill>
                <a:latin typeface="Arial"/>
                <a:ea typeface="Courier New"/>
              </a:rPr>
              <a:t>draft-carpenter-flow-label-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17680"/>
            <a:ext cx="9066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cording to RFC 6437, the flow label SHOULD be set to a suitable (uniformly distributed) value a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on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3/L4 load balanc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not present, fall back to current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present, but not a known value, apply the usual load balancing algorithm to select the server and remember the flow label &lt;-&gt; server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present and known, use it to select the proper server. Thus,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equent packets of flow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load balancing can depend on 2 tupl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{source address, flow label}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more efficient for ASICs than 5 tup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 balancer can also benefit by using 2 tuple as input of hash algorithm rather than 5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7583-5DA0-4BE4-861F-D23784C25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Possibl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90662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4120" indent="-2898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gnificant simplification for packets with IPv6 extension h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98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uming that 80-90% of IPv6 users reach the net without a proxy, large sites will be able to off-load most of their load balancing into ASIC-based LBs or even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2920" indent="-257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ss router sets flow label if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2898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10-20% of sessions will have persistence issues (multiple ports or source addresses) and will follow the normal route via the L7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2920" indent="-25704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816A-B86C-4470-838A-5204EE6EB9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600" spc="-1" strike="noStrike">
                <a:solidFill>
                  <a:srgbClr val="3333cc"/>
                </a:solidFill>
                <a:latin typeface="Arial"/>
              </a:rPr>
              <a:t>Next steps for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Arial"/>
                <a:ea typeface="Courier New"/>
              </a:rPr>
              <a:t>draft-carpenter-flow-label-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828800"/>
            <a:ext cx="9066240" cy="51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uthors believe it describes a scenario that is consistent with existing standards and could be attractive in some deplo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is ready for Informational RF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64BE-707E-42D3-A2F2-FF6EE85D4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8:50:26Z</dcterms:created>
  <dc:creator/>
  <dc:description/>
  <dc:language>en-US</dc:language>
  <cp:lastModifiedBy>brian</cp:lastModifiedBy>
  <dcterms:modified xsi:type="dcterms:W3CDTF">2012-07-26T09:36:23Z</dcterms:modified>
  <cp:revision>189</cp:revision>
  <dc:subject/>
  <dc:title>Flow Label status 2011-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UZqg7fMdhoLi3f3W61+BYi1zOCc3bFX41u/Jn2/n1snProjA6+TUCh8NMLWaritvKAhrFOvC
FuDRaAtiPFNwOIkX1hPoNZRPb892NYlWolJjAUfaGy6/rZv0RTTfrQaMOZidzQ+zDM/at939
2pD9zpJxTQ13eNlKrFuQpP20RvtmB2TPSb2koXCeXADOeifCBV65BBeLZJHeASqp2INCqaRe
m9aVrxIifqy8WckwLEzqM</vt:lpwstr>
  </property>
  <property fmtid="{D5CDD505-2E9C-101B-9397-08002B2CF9AE}" pid="3" name="_ms_pID_7253431">
    <vt:lpwstr>xDYjmJgrNrlw9jnNH55WchAuta7U3o+fpgrWXCpY4+xG1VgzoNN
k/gG467DQDdJBtLs96co6tl0GMctZwfb7Lu/tPVhDv11RZrmKXqK2qLWZIoq6Do/QAwfeAQ6
DnA=</vt:lpwstr>
  </property>
  <property fmtid="{D5CDD505-2E9C-101B-9397-08002B2CF9AE}" pid="4" name="sflag">
    <vt:lpwstr>1332379146</vt:lpwstr>
  </property>
</Properties>
</file>