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28A-2542-4C47-9192-AFF59E08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7C0-203C-41AC-B1D3-CD08EC3B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1B4-7E35-4729-A532-6E9ADC1A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332-F603-4485-B72C-FEADCD5D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A84-9240-45C5-A659-D9D40A6F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939-E9B8-4582-9A8B-3DC84E27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AEC-1B0C-4F1A-92F4-01A5604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A1A-BF50-4E00-AE35-34BF9135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637-C00F-4579-A24D-AB4DC5C9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DB7-C99A-4190-B763-C65013C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D1C-2640-4AD1-9B54-5FE0B8B9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DE9-7BB3-4FEC-B64E-31BABFB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D846-FAEA-4088-B385-B14A6EA76A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l2vpn-vpls-pim-sn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ier Dornon (Alcatel-Luc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draft originally authored by Suresh Boddapati, Venu Hemige, Ray Qiu &amp; Yetik Serb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01 expired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rrected by Olivier Dornon, Jayant Kotalwar, Jeffrey Z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 from data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Prox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 with Join 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some clar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orked the Join/Prune forward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/split-off some topics for furth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M-B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P/LDP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topic on interaction with igmp-snooping (RFC454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ding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on some more example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 about forwarding J/P messages only to relevant upstream ports in snooping mode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’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gmp snooping (RFC45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st the spirit of “snoop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feedback from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get inv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nd contributions are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 feedback from providers and oper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8:36:17Z</dcterms:created>
  <dc:creator>dornono</dc:creator>
  <dc:description/>
  <dc:language>en-US</dc:language>
  <cp:lastModifiedBy>dornono</cp:lastModifiedBy>
  <dcterms:modified xsi:type="dcterms:W3CDTF">2012-07-31T15:00:09Z</dcterms:modified>
  <cp:revision>8</cp:revision>
  <dc:subject/>
  <dc:title>draft-ietf-l2vpn-vpls-pim-snooping</dc:title>
</cp:coreProperties>
</file>