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F27-755B-4C70-B40F-128C327B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52F-FD66-4BEB-8CBC-F873A98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407-431F-4224-A8DE-B40534D7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322-47DD-4782-BEF9-8086EEC9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25D-1503-44FD-9C99-6EBD42E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6A8-5A40-4134-808B-75B0949D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DF5-5556-4139-9010-290A63C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B5E-C027-4948-A9C9-A957C957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BC4-5CB5-4008-983C-111FFD9A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6CE-579C-4AD1-959C-68A5105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F8B-88FA-4011-9C22-737AACEC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16B-7568-497C-BD5B-A6EE838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FD7-AF3E-445F-BABF-AFB2B66347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l2vpn-vpls-pim-sn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ier Dornon (Alcatel-Luc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raft originally authored by Suresh Boddapati, Venu Hemige, Ray Qiu &amp; Yetik Serb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1 expired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rrected by Olivier Dornon, Jayant Kotalwar, Jeffrey Z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from data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Prox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 with Join 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some clar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orked the Join/Prune forward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/split-off some topics for furth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M-B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P/LDP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opic on interaction with igmp-snooping (RFC45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 some more exampl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about forwarding J/P messages only to relevant upstream ports in snooping mod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’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gmp snooping (RFC45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st the spirit of “snoop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feedback from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get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nd contributions are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feedback from providers and oper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8:36:17Z</dcterms:created>
  <dc:creator>dornono</dc:creator>
  <dc:description/>
  <dc:language>en-US</dc:language>
  <cp:lastModifiedBy>dornono</cp:lastModifiedBy>
  <dcterms:modified xsi:type="dcterms:W3CDTF">2012-07-31T15:00:09Z</dcterms:modified>
  <cp:revision>8</cp:revision>
  <dc:subject/>
  <dc:title>draft-ietf-l2vpn-vpls-pim-snooping</dc:title>
</cp:coreProperties>
</file>