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9374-7F8D-4C07-A450-D1F5CE300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AED8-DC75-495C-B492-A2246F6E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5E68-DA0B-4B6C-BB81-827125EDA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D627-708F-4831-BB29-6339FA956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6A09-5209-4129-8491-9A7F7A97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662E-5879-43BA-9146-49840E1D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B0C3-ED2D-4163-81B7-68C472E8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9641-7183-4A81-936A-ED56E79F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9AAB-2540-469C-9D2E-0AA83C13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21AD-BA48-46BC-B1DF-86C0CBAF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FBC4-4D34-424A-B128-B70AC2C3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D865-BA3E-43D5-8CF6-07E1F85F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A289-3AE7-445C-9E36-B81102595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02.1aq and 802.1Qbp Support over EVPN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-allan-l2vpn-spb-evpn-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e Allan, Jeff Tantsura, Don Fedyk, Ali Sajas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802.1aq SPB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aq is a routed Ethernet solution that has been specified by the I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-IS aspects documented in RFC 63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modes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BV (VLAN mode) – Based on the 802.1ad (QinQ) data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to scale to ~100 bri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BM (MAC mode) – Based on the 802.1ah (MACinMAC) data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to scale to ~1000 bri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PBM, all control functionality has been collapsed into a single protocol (IS-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no M/RSTP, no MVRP/MMRP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80000" y="6019920"/>
            <a:ext cx="521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is draft focuses on SPB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important to understand about SPB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ompute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ogous to M-OS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still 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shortest path instead of rooted spanning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cast and multicast frames follow the same path between any two points in a given B-V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deterministic tie break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uses loop prevention AND loop mit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uses edge based load sp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VLANs are mapped to Backbone V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-allan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uple as much as possible the different EVPN served Ethernet “Island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e the amount of state in any given “island” vis-à-vis th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set of “islands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uple network design, engineering &amp; operation, full CP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local topology changes out of BGP to maximize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the amount of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ble to tie together SPBM-islands, 802.1Qbp islands, 802.1ah PBB-MESs/PBBNs etc. into a common L2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 to the sum of all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e clear we are not discussing one BIG broadcast domain, we are discussing LOTs of small and medium sized broadcast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3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BM and EV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51480" y="1793880"/>
            <a:ext cx="136512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1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B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96920" y="2376360"/>
            <a:ext cx="1963800" cy="1495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1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BB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78440" y="4786200"/>
            <a:ext cx="1963800" cy="149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1Q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05120" y="2708280"/>
            <a:ext cx="384192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98680" y="582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79480" y="4869000"/>
            <a:ext cx="1963800" cy="1496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1a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05120" y="4619520"/>
            <a:ext cx="51120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02000" y="5202360"/>
            <a:ext cx="51264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37160" y="5202360"/>
            <a:ext cx="51120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5400" y="4454640"/>
            <a:ext cx="511200" cy="41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89360" y="2957400"/>
            <a:ext cx="51264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48080" y="3622680"/>
            <a:ext cx="51264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5800" y="2541600"/>
            <a:ext cx="51264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70240" y="1876320"/>
            <a:ext cx="682920" cy="5828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G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03440" y="2452680"/>
            <a:ext cx="2389320" cy="2749680"/>
          </a:xfrm>
          <a:custGeom>
            <a:avLst/>
            <a:gdLst/>
            <a:ahLst/>
            <a:rect l="l" t="t" r="r" b="b"/>
            <a:pathLst>
              <a:path w="1343" h="1588">
                <a:moveTo>
                  <a:pt x="0" y="340"/>
                </a:moveTo>
                <a:lnTo>
                  <a:pt x="637" y="0"/>
                </a:lnTo>
                <a:lnTo>
                  <a:pt x="1343" y="158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81240" y="2452680"/>
            <a:ext cx="1436760" cy="2749680"/>
          </a:xfrm>
          <a:custGeom>
            <a:avLst/>
            <a:gdLst/>
            <a:ahLst/>
            <a:rect l="l" t="t" r="r" b="b"/>
            <a:pathLst>
              <a:path w="807" h="1588">
                <a:moveTo>
                  <a:pt x="0" y="768"/>
                </a:moveTo>
                <a:lnTo>
                  <a:pt x="807" y="0"/>
                </a:lnTo>
                <a:lnTo>
                  <a:pt x="324" y="158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46400" y="2452680"/>
            <a:ext cx="2181240" cy="2166840"/>
          </a:xfrm>
          <a:custGeom>
            <a:avLst/>
            <a:gdLst/>
            <a:ahLst/>
            <a:rect l="l" t="t" r="r" b="b"/>
            <a:pathLst>
              <a:path w="1226" h="1252">
                <a:moveTo>
                  <a:pt x="0" y="1252"/>
                </a:moveTo>
                <a:lnTo>
                  <a:pt x="776" y="0"/>
                </a:lnTo>
                <a:lnTo>
                  <a:pt x="1226" y="164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46440" y="2460600"/>
            <a:ext cx="1758960" cy="2158920"/>
          </a:xfrm>
          <a:custGeom>
            <a:avLst/>
            <a:gdLst/>
            <a:ahLst/>
            <a:rect l="l" t="t" r="r" b="b"/>
            <a:pathLst>
              <a:path w="989" h="1247">
                <a:moveTo>
                  <a:pt x="989" y="1247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09560" y="4454640"/>
            <a:ext cx="597240" cy="4982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86640" y="4537080"/>
            <a:ext cx="596880" cy="4986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35160" y="4786200"/>
            <a:ext cx="1266840" cy="582840"/>
          </a:xfrm>
          <a:custGeom>
            <a:avLst/>
            <a:gdLst/>
            <a:ahLst/>
            <a:rect l="l" t="t" r="r" b="b"/>
            <a:pathLst>
              <a:path w="712" h="336">
                <a:moveTo>
                  <a:pt x="376" y="0"/>
                </a:moveTo>
                <a:lnTo>
                  <a:pt x="0" y="23"/>
                </a:lnTo>
                <a:lnTo>
                  <a:pt x="712" y="3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48360" y="4703760"/>
            <a:ext cx="1622520" cy="665280"/>
          </a:xfrm>
          <a:custGeom>
            <a:avLst/>
            <a:gdLst/>
            <a:ahLst/>
            <a:rect l="l" t="t" r="r" b="b"/>
            <a:pathLst>
              <a:path w="912" h="384">
                <a:moveTo>
                  <a:pt x="432" y="0"/>
                </a:moveTo>
                <a:lnTo>
                  <a:pt x="912" y="144"/>
                </a:lnTo>
                <a:lnTo>
                  <a:pt x="0" y="384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91440" y="3622680"/>
            <a:ext cx="51084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34040" y="3124080"/>
            <a:ext cx="51300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43920" y="3124080"/>
            <a:ext cx="42696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47040" y="3290760"/>
            <a:ext cx="596880" cy="4986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0" y="0"/>
                </a:moveTo>
                <a:lnTo>
                  <a:pt x="336" y="0"/>
                </a:lnTo>
                <a:lnTo>
                  <a:pt x="144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0797200">
            <a:off x="6911640" y="3205080"/>
            <a:ext cx="169920" cy="5079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74000" y="2541600"/>
            <a:ext cx="596880" cy="4986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11520" y="2459160"/>
            <a:ext cx="1879920" cy="1412640"/>
          </a:xfrm>
          <a:custGeom>
            <a:avLst/>
            <a:gdLst/>
            <a:ahLst/>
            <a:rect l="l" t="t" r="r" b="b"/>
            <a:pathLst>
              <a:path w="1056" h="816">
                <a:moveTo>
                  <a:pt x="1056" y="816"/>
                </a:moveTo>
                <a:lnTo>
                  <a:pt x="0" y="0"/>
                </a:lnTo>
                <a:lnTo>
                  <a:pt x="912" y="52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6800" y="2125800"/>
            <a:ext cx="598320" cy="5000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48080" y="2625840"/>
            <a:ext cx="426960" cy="996840"/>
          </a:xfrm>
          <a:custGeom>
            <a:avLst/>
            <a:gdLst/>
            <a:ahLst/>
            <a:rect l="l" t="t" r="r" b="b"/>
            <a:pathLst>
              <a:path w="240" h="576">
                <a:moveTo>
                  <a:pt x="240" y="192"/>
                </a:moveTo>
                <a:lnTo>
                  <a:pt x="0" y="0"/>
                </a:lnTo>
                <a:lnTo>
                  <a:pt x="96" y="5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988320" y="3040200"/>
            <a:ext cx="171360" cy="1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878600" y="5985000"/>
            <a:ext cx="42732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01840" y="6213600"/>
            <a:ext cx="42696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44640" y="1870200"/>
            <a:ext cx="42696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782720" y="613728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7649640" y="590868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964200" y="1717560"/>
            <a:ext cx="42732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659640" y="1870200"/>
            <a:ext cx="304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25520" y="22510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1295280"/>
            <a:ext cx="598320" cy="5000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18288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he draft doc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s of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plane interworking between ISIS-SPB and EV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-VID DF 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of ISIS-SPB LSAs to BGP NLRI and vice ve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lane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-Tag stripping &amp; insertion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cast splicing (future ver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ah/802.1aq/802.1Qbp inter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s onto the existing PBB-EVPN d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s from th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G adoption (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6T21:03:12Z</dcterms:created>
  <dc:creator>DavAllan</dc:creator>
  <dc:description/>
  <dc:language>en-US</dc:language>
  <cp:lastModifiedBy>DavAllan</cp:lastModifiedBy>
  <dcterms:modified xsi:type="dcterms:W3CDTF">2012-07-06T23:13:50Z</dcterms:modified>
  <cp:revision>3</cp:revision>
  <dc:subject/>
  <dc:title>802.1aq and 802.1Qbp Support over EVPN draft-allan-l2vpn-spb-evpn-00</dc:title>
</cp:coreProperties>
</file>