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638-3A60-4CEA-8302-6AC9FE15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165-85D9-479E-BB83-D4EAE1A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84E-A609-4A6C-A1C8-4836E017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DDA-AE43-43FC-918F-D1A735A9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5B2-313D-4ED4-8EFE-9DFB7D5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1E2-57DD-4754-8C49-DFA5389D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B2D-AE49-417C-BA5E-E65B6107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379-C325-4520-AEF0-015FE589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B90-9068-4404-B778-FECD86E3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41A-67C7-49C5-9587-C4DEB8C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802-0F47-47FF-B772-378CDE8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C2D-62E3-4490-9341-DF687C3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6B1C-E58C-417D-B273-ED39964F6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.1aq and 802.1Qbp Support over EVP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allan-l2vpn-spb-evpn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e Allan, Jeff Tantsura, Don Fedyk, Ali Saj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802.1aq SP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aq is a routed Ethernet solution that has been specified by the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-IS aspects documented in RFC 6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BV (VLAN mode) – Based on the 802.1ad (QinQ) data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to scale to ~100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BM (MAC mode) – Based on the 802.1ah (MACinMAC) data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to scale to ~1000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BM, all control functionality has been collapsed into a single protocol (IS-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no M/RSTP, no MVRP/MMRP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0000" y="601992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s draft focuses on SP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mportant to understand about SPB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mpute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ous to M-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till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shortest path instead of rooted spanning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and multicast frames follow the same path between any two points in a given B-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deterministic tie br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loop prevention AND loop mi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edge based load sp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VLANs are mapped to Backbone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allan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e as much as possible the different EVPN served Ethernet “Isla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amount of state in any given “island” vis-à-vis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et of “island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uple network design, engineering &amp; operation, full CP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local topology changes out of BGP to maximize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amount of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tie together SPBM-islands, 802.1Qbp islands, 802.1ah PBB-MESs/PBBNs etc. into a common L2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to the sum of all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lear we are not discussing one BIG broadcast domain, we are discussing LOTs of small and medium sized broadcas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3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BM and E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51480" y="1793880"/>
            <a:ext cx="136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6920" y="2376360"/>
            <a:ext cx="1963800" cy="149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78440" y="4786200"/>
            <a:ext cx="1963800" cy="149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5120" y="2708280"/>
            <a:ext cx="384192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9868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79480" y="4869000"/>
            <a:ext cx="1963800" cy="149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5120" y="4619520"/>
            <a:ext cx="51120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02000" y="5202360"/>
            <a:ext cx="5126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37160" y="5202360"/>
            <a:ext cx="5112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4454640"/>
            <a:ext cx="51120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9360" y="2957400"/>
            <a:ext cx="51264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8080" y="3622680"/>
            <a:ext cx="5126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5800" y="2541600"/>
            <a:ext cx="5126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0240" y="1876320"/>
            <a:ext cx="682920" cy="5828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03440" y="2452680"/>
            <a:ext cx="2389320" cy="2749680"/>
          </a:xfrm>
          <a:custGeom>
            <a:avLst/>
            <a:gdLst/>
            <a:ahLst/>
            <a:rect l="l" t="t" r="r" b="b"/>
            <a:pathLst>
              <a:path w="1343" h="1588">
                <a:moveTo>
                  <a:pt x="0" y="340"/>
                </a:moveTo>
                <a:lnTo>
                  <a:pt x="637" y="0"/>
                </a:lnTo>
                <a:lnTo>
                  <a:pt x="1343" y="158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81240" y="2452680"/>
            <a:ext cx="1436760" cy="2749680"/>
          </a:xfrm>
          <a:custGeom>
            <a:avLst/>
            <a:gdLst/>
            <a:ahLst/>
            <a:rect l="l" t="t" r="r" b="b"/>
            <a:pathLst>
              <a:path w="807" h="1588">
                <a:moveTo>
                  <a:pt x="0" y="768"/>
                </a:moveTo>
                <a:lnTo>
                  <a:pt x="807" y="0"/>
                </a:lnTo>
                <a:lnTo>
                  <a:pt x="324" y="158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6400" y="2452680"/>
            <a:ext cx="2181240" cy="2166840"/>
          </a:xfrm>
          <a:custGeom>
            <a:avLst/>
            <a:gdLst/>
            <a:ahLst/>
            <a:rect l="l" t="t" r="r" b="b"/>
            <a:pathLst>
              <a:path w="1226" h="1252">
                <a:moveTo>
                  <a:pt x="0" y="1252"/>
                </a:moveTo>
                <a:lnTo>
                  <a:pt x="776" y="0"/>
                </a:lnTo>
                <a:lnTo>
                  <a:pt x="1226" y="16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46440" y="2460600"/>
            <a:ext cx="1758960" cy="2158920"/>
          </a:xfrm>
          <a:custGeom>
            <a:avLst/>
            <a:gdLst/>
            <a:ahLst/>
            <a:rect l="l" t="t" r="r" b="b"/>
            <a:pathLst>
              <a:path w="989" h="1247">
                <a:moveTo>
                  <a:pt x="989" y="124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9560" y="4454640"/>
            <a:ext cx="597240" cy="498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86640" y="4537080"/>
            <a:ext cx="596880" cy="49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5160" y="4786200"/>
            <a:ext cx="1266840" cy="582840"/>
          </a:xfrm>
          <a:custGeom>
            <a:avLst/>
            <a:gdLst/>
            <a:ahLst/>
            <a:rect l="l" t="t" r="r" b="b"/>
            <a:pathLst>
              <a:path w="712" h="336">
                <a:moveTo>
                  <a:pt x="376" y="0"/>
                </a:moveTo>
                <a:lnTo>
                  <a:pt x="0" y="23"/>
                </a:lnTo>
                <a:lnTo>
                  <a:pt x="712" y="3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48360" y="4703760"/>
            <a:ext cx="1622520" cy="66528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432" y="0"/>
                </a:moveTo>
                <a:lnTo>
                  <a:pt x="912" y="144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91440" y="3622680"/>
            <a:ext cx="5108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34040" y="3124080"/>
            <a:ext cx="51300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3920" y="3124080"/>
            <a:ext cx="42696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47040" y="3290760"/>
            <a:ext cx="596880" cy="4986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lnTo>
                  <a:pt x="336" y="0"/>
                </a:lnTo>
                <a:lnTo>
                  <a:pt x="14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797200">
            <a:off x="6911640" y="3205080"/>
            <a:ext cx="169920" cy="507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74000" y="2541600"/>
            <a:ext cx="596880" cy="49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1520" y="2459160"/>
            <a:ext cx="1879920" cy="141264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1056" y="816"/>
                </a:moveTo>
                <a:lnTo>
                  <a:pt x="0" y="0"/>
                </a:lnTo>
                <a:lnTo>
                  <a:pt x="912" y="52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6800" y="2125800"/>
            <a:ext cx="598320" cy="5000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48080" y="2625840"/>
            <a:ext cx="426960" cy="99684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192"/>
                </a:moveTo>
                <a:lnTo>
                  <a:pt x="0" y="0"/>
                </a:lnTo>
                <a:lnTo>
                  <a:pt x="96" y="5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988320" y="3040200"/>
            <a:ext cx="171360" cy="1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78600" y="5985000"/>
            <a:ext cx="4273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1840" y="6213600"/>
            <a:ext cx="4269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4640" y="1870200"/>
            <a:ext cx="4269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782720" y="61372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649640" y="5908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64200" y="1717560"/>
            <a:ext cx="42732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59640" y="187020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25520" y="2251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295280"/>
            <a:ext cx="598320" cy="5000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18288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draft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lane interworking between ISIS-SPB and E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VID DF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ISIS-SPB LSAs to BGP NLRI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lan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Tag stripping &amp; inser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splicing (future ver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ah/802.1aq/802.1Qbp inter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onto the existing PBB-EVPN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adoption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21:03:12Z</dcterms:created>
  <dc:creator>DavAllan</dc:creator>
  <dc:description/>
  <dc:language>en-US</dc:language>
  <cp:lastModifiedBy>DavAllan</cp:lastModifiedBy>
  <dcterms:modified xsi:type="dcterms:W3CDTF">2012-07-06T23:13:50Z</dcterms:modified>
  <cp:revision>3</cp:revision>
  <dc:subject/>
  <dc:title>802.1aq and 802.1Qbp Support over EVPN draft-allan-l2vpn-spb-evpn-00</dc:title>
</cp:coreProperties>
</file>