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7034213" cy="9334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034400" cy="93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9560" cy="466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984120" y="0"/>
            <a:ext cx="3049560" cy="466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84400" y="699840"/>
            <a:ext cx="4667040" cy="3500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Heavy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703440" y="4433760"/>
            <a:ext cx="5628960" cy="42004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865720"/>
            <a:ext cx="3049560" cy="4669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984120" y="8865720"/>
            <a:ext cx="3049560" cy="4669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26D9C2EE-323E-4E54-97F1-1D2E2B13CD6E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984480" y="8866080"/>
            <a:ext cx="30495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3C9D88A9-3D70-48B8-AE90-CF1EA060A4C3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67040" cy="350028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03440" y="4433760"/>
            <a:ext cx="562896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67040" cy="350028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03440" y="4433760"/>
            <a:ext cx="562896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25" name="灯片编号占位符 3"/>
          <p:cNvSpPr/>
          <p:nvPr/>
        </p:nvSpPr>
        <p:spPr>
          <a:xfrm>
            <a:off x="3984480" y="8866080"/>
            <a:ext cx="30495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8DE025FF-7BCA-47B3-9384-4B72AF4AEDEC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984480" y="8866080"/>
            <a:ext cx="30495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7A7A232D-2B6A-45F0-81D4-DC63651C3898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67040" cy="350028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38160" y="4435200"/>
            <a:ext cx="5159520" cy="41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16A0-5ACE-4B59-B784-8BEA4F4F3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37666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9622-D1EA-4A29-8D9C-5BF08B1E3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2196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2196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F4E1-516E-42A8-BAB5-FF246B303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87360" y="12193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69800" y="12193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37666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87360" y="37666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69800" y="37666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1777-C3B0-4998-8D9F-87F4ED944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B9B24-4126-4DFB-BB48-06C489C41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F8CEF-C860-451E-9D75-47197A5A7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B172C-0A31-4A3B-8029-5A6D7566F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2196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A33DE-4490-44DD-B9F7-66AA0B1A5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FEBEB-F9F9-4D95-9240-6AEDBAABE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69600" y="95400"/>
            <a:ext cx="792468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8EDEE-3958-4F03-ABCA-B75D5326B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2196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0492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B40F2-6595-4D71-9858-DC4E26F5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6448-F873-4C26-A411-7E03F201E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2196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2196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19095-31AB-462A-A65B-7239710C9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2196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04920" y="37666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98F73-A9DB-4998-86DB-10CCD9929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04920" y="37666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69118-C042-415B-A929-D18C30F85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2196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2196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14137-7DB1-4A12-9248-F6EAC0413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087360" y="12193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69800" y="12193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04920" y="37666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087360" y="37666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69800" y="37666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990BB-1C5C-4EF5-9329-033B6827A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6881-993D-4129-BBD8-863408653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2196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142E-4B2A-42CA-9943-91CC495E0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6984-723E-4220-B027-60D75E1DF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69600" y="95400"/>
            <a:ext cx="792468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8C4C-D9E8-466B-BDCA-B689EAFA0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2196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E75E-2418-4C89-AEFE-F59E7C730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2196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2196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3CA6-64C7-4099-B81E-7530C719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2196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37666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D8AD-098E-4AC8-8377-35674B8A9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Heavy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f1ab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7934400" y="6662880"/>
            <a:ext cx="12189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097FA-0790-48F6-895B-ABBE9B08AD01}" type="slidenum">
              <a:rPr b="0" lang="zh-CN" sz="1000" spc="-1" strike="noStrike">
                <a:solidFill>
                  <a:srgbClr val="ffffff"/>
                </a:solidFill>
                <a:latin typeface="Franklin Gothic Book"/>
                <a:ea typeface="宋体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15840" y="6662880"/>
            <a:ext cx="8812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286680"/>
                <a:tab algn="r" pos="863136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Franklin Gothic Book"/>
              </a:rPr>
              <a:t>Copyright © 2004 Juniper Networks, Inc. </a:t>
            </a:r>
            <a:r>
              <a:rPr b="0" lang="de-DE" sz="800" spc="-1" strike="noStrike">
                <a:solidFill>
                  <a:srgbClr val="ffffff"/>
                </a:solidFill>
                <a:latin typeface="Franklin Gothic Book"/>
              </a:rPr>
              <a:t>	</a:t>
            </a:r>
            <a:r>
              <a:rPr b="0" lang="de-DE" sz="800" spc="-1" strike="noStrike">
                <a:solidFill>
                  <a:srgbClr val="ffffff"/>
                </a:solidFill>
                <a:latin typeface="Franklin Gothic Book"/>
              </a:rPr>
              <a:t>Proprietary and Confidential</a:t>
            </a:r>
            <a:r>
              <a:rPr b="0" lang="de-DE" sz="800" spc="-1" strike="noStrike">
                <a:solidFill>
                  <a:srgbClr val="ffffff"/>
                </a:solidFill>
                <a:latin typeface="Franklin Gothic Book"/>
              </a:rPr>
              <a:t>	</a:t>
            </a:r>
            <a:r>
              <a:rPr b="0" lang="de-DE" sz="800" spc="-1" strike="noStrike">
                <a:solidFill>
                  <a:srgbClr val="ffffff"/>
                </a:solidFill>
                <a:latin typeface="Franklin Gothic Book"/>
              </a:rPr>
              <a:t>www.juniper.net </a:t>
            </a:r>
            <a:endParaRPr b="1" lang="en-US" sz="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Line 10"/>
          <p:cNvSpPr/>
          <p:nvPr/>
        </p:nvSpPr>
        <p:spPr>
          <a:xfrm>
            <a:off x="770040" y="988920"/>
            <a:ext cx="7634160" cy="0"/>
          </a:xfrm>
          <a:prstGeom prst="line">
            <a:avLst/>
          </a:prstGeom>
          <a:ln w="44280">
            <a:solidFill>
              <a:srgbClr val="9fa0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9E000-B946-4870-978C-7B64D0B8DD44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2nd IETF - Taipe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81599-3310-4D08-8369-FE3E77BC8D6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8"/>
          <p:cNvSpPr/>
          <p:nvPr/>
        </p:nvSpPr>
        <p:spPr>
          <a:xfrm>
            <a:off x="0" y="6578640"/>
            <a:ext cx="808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29200"/>
                <a:tab algn="ctr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Franklin Gothic Book"/>
              </a:rPr>
              <a:t>Copyright © 2004 Juniper Networks, Inc. </a:t>
            </a:r>
            <a:r>
              <a:rPr b="0" lang="de-DE" sz="800" spc="-1" strike="noStrike">
                <a:solidFill>
                  <a:srgbClr val="ffffff"/>
                </a:solidFill>
                <a:latin typeface="Franklin Gothic Book"/>
              </a:rPr>
              <a:t>	</a:t>
            </a:r>
            <a:r>
              <a:rPr b="0" lang="de-DE" sz="800" spc="-1" strike="noStrike">
                <a:solidFill>
                  <a:srgbClr val="ffffff"/>
                </a:solidFill>
                <a:latin typeface="Franklin Gothic Book"/>
              </a:rPr>
              <a:t>Proprietary and Confidential</a:t>
            </a:r>
            <a:r>
              <a:rPr b="0" lang="de-DE" sz="800" spc="-1" strike="noStrike">
                <a:solidFill>
                  <a:srgbClr val="ffffff"/>
                </a:solidFill>
                <a:latin typeface="Franklin Gothic Book"/>
              </a:rPr>
              <a:t>	</a:t>
            </a:r>
            <a:r>
              <a:rPr b="0" lang="de-DE" sz="800" spc="-1" strike="noStrike">
                <a:solidFill>
                  <a:srgbClr val="ffffff"/>
                </a:solidFill>
                <a:latin typeface="Franklin Gothic Book"/>
              </a:rPr>
              <a:t>www.juniper.net </a:t>
            </a:r>
            <a:endParaRPr b="1" lang="en-US" sz="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7924680" y="6572160"/>
            <a:ext cx="12193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A8420-21AC-4DA7-9BAE-A6BF2D180AB2}" type="slidenum">
              <a:rPr b="0" lang="zh-CN" sz="1000" spc="-1" strike="noStrike">
                <a:solidFill>
                  <a:srgbClr val="ffffff"/>
                </a:solidFill>
                <a:latin typeface="Franklin Gothic Book"/>
                <a:ea typeface="宋体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Heavy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0492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f1ab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18070-3A76-4779-B07D-BF5A20F10F16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2nd IETF - Taipe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60FE8-C1DD-4CCD-99E9-C2FC5C7381C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E2DC2-F8B6-4D1F-929B-C77B36FC074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3200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4th IETF - Vancouver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990720"/>
            <a:ext cx="87631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3173b"/>
                </a:solidFill>
                <a:latin typeface="Franklin Gothic Heavy"/>
                <a:ea typeface="宋体"/>
              </a:rPr>
              <a:t>VPLS PE Model with E-Tree Support</a:t>
            </a: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599840" y="4024080"/>
            <a:ext cx="6553080" cy="10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7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Yuanlong Jiang, Lucy Yong, Manuel Paul, Frederic Jounay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Florin Balus, Wim Henderickx, Ali Sajassi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8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0047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Rectangle 9"/>
          <p:cNvSpPr/>
          <p:nvPr/>
        </p:nvSpPr>
        <p:spPr>
          <a:xfrm>
            <a:off x="1475280" y="2819520"/>
            <a:ext cx="630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Heavy"/>
                <a:ea typeface="宋体"/>
              </a:rPr>
              <a:t>draft-jiang-l2vpn-vpls-etree-pe-06.txt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BE191-9344-4F72-8A38-04EA215A7EB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Changes in draft-06</a:t>
            </a: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Add the support of BGP VPLS, with basic texts originated from draft-jiang-l2vpn-etree-bgp-00: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27920" indent="-280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Keep the procedures in line with RFC 4761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Add a section on the E-Tree OAM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27920" indent="-280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Same functions as RFC 6136 apply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27920" indent="-280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Root VLAN is proposed for segment OAM frames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Rewrite PW processing in the Compatible Mode, so that no VLAN translation is needed ther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Data plane processing for PW was straightened ou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Some clarifications on the usage of PE models in the 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Appendix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And 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more improvements on text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27920" indent="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27920" indent="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3" name="页脚占位符 4"/>
          <p:cNvSpPr/>
          <p:nvPr/>
        </p:nvSpPr>
        <p:spPr>
          <a:xfrm>
            <a:off x="3200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4th IETF - Vancouver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22B14-59DA-461C-9108-870DB9E42ED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Discussions</a:t>
            </a: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30492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Three different approaches proposed for E-Tree support in VPLS hitherto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Dual VLANs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Multi-PWs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Control Word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Lots of E-Tree discussions on L2VPN mailing list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Quite a few misunderstandings clarified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For multi-PWs, OAM poses as a challenge to overcome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For Control Word, needs to install E-Tree attributes in the FIB or some specially tailored implementation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For Dual VLANs, no showstopper was found yet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页脚占位符 4"/>
          <p:cNvSpPr/>
          <p:nvPr/>
        </p:nvSpPr>
        <p:spPr>
          <a:xfrm>
            <a:off x="3200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4th IETF - Vancouver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1CB6C-7641-450E-B484-11D6CD0C4C8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Discussions (cont.)</a:t>
            </a: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Requirements of E-Tree services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Services specified in MEF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Same paradigm followed by BBF and ITU-T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Both req. and framework progressing as working document in L2VPN WG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Solutions for E-Tree services in other SDO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Asymmetric VLAN mechanism was already defined for Ethernet networks in IEEE 802.1, and also adopted by ITU-T SG-15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BBF only supports E-Tree in MPLS scenario with a single root attached PE at present, awaiting IETF solution progress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页脚占位符 4"/>
          <p:cNvSpPr/>
          <p:nvPr/>
        </p:nvSpPr>
        <p:spPr>
          <a:xfrm>
            <a:off x="3200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4th IETF - Vancouver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B44E7-06C9-46E9-A262-5D77044D866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Questions</a:t>
            </a: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Solicit consensus of the WG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Shall we following other SDOs in using asymmetric VLAN mechanism for E-Tree solution?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Polling for WG adoption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Can we use this I-D as a baseline?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页脚占位符 4"/>
          <p:cNvSpPr/>
          <p:nvPr/>
        </p:nvSpPr>
        <p:spPr>
          <a:xfrm>
            <a:off x="3200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4th IETF - Vancouver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C79EB-5483-4E13-8792-17E7A2CB3A3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7" name="Text Box 2"/>
          <p:cNvSpPr/>
          <p:nvPr/>
        </p:nvSpPr>
        <p:spPr>
          <a:xfrm>
            <a:off x="2523960" y="2346480"/>
            <a:ext cx="4419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99"/>
                </a:solidFill>
                <a:latin typeface="Times New Roman"/>
                <a:ea typeface="黑体"/>
              </a:rPr>
              <a:t>      </a:t>
            </a:r>
            <a:endParaRPr b="1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3190680" y="2359080"/>
            <a:ext cx="266328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4000" spc="-1" strike="noStrike">
                <a:solidFill>
                  <a:srgbClr val="93173b"/>
                </a:solidFill>
                <a:latin typeface="FrutigerNext LT Medium"/>
                <a:ea typeface="MS PGothic"/>
              </a:rPr>
              <a:t>Thank You</a:t>
            </a:r>
            <a:endParaRPr b="1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页脚占位符 4"/>
          <p:cNvSpPr/>
          <p:nvPr/>
        </p:nvSpPr>
        <p:spPr>
          <a:xfrm>
            <a:off x="3200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4th IETF - Vancouver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23:56:14Z</dcterms:created>
  <dc:creator>JYL</dc:creator>
  <dc:description/>
  <cp:keywords>E-Tree</cp:keywords>
  <dc:language>en-US</dc:language>
  <cp:lastModifiedBy>Giles Heron</cp:lastModifiedBy>
  <dcterms:modified xsi:type="dcterms:W3CDTF">2012-08-01T18:16:27Z</dcterms:modified>
  <cp:revision>1377</cp:revision>
  <dc:subject/>
  <dc:title>PE Model for E-Tre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s_pID_725343">
    <vt:lpwstr>(2)48+zDb7Jvy1m7Bv9opD00Wmj4QT5o7azo9TWHo45mDrX1GQFWb8eX/UN4ujHJUfEC/uewq+f
xok/msjtGWUkzkkddGyUuqfN1tQ7h9bojCxgdz6KVaEySxYb8/p2Gn0QsA61lkq778xJlHti
zMoJAjpz9sSX/bPcL0dr5udkohNi3pK+TqwnZZiRt3AD2DUiSjcfU3s/U0TXYpT01a1IinBk
7Jv9xwHoP0w6oESP7S</vt:lpwstr>
  </property>
  <property fmtid="{D5CDD505-2E9C-101B-9397-08002B2CF9AE}" pid="3" name="_ms_pID_7253431">
    <vt:lpwstr>G7sCm/QUgNP9VfJy37u8hUH8UiWtBCzJZbki4rQ4NMvlLdTiYp05rR
X49HdXwOBSx55PXTdpsSsrA+Lx6BPEVBc49e+OXflJ/0JvNAFyh+OZYr1nWpOXuEQugGgais
G7eheX0IZDgnzjvwj8Sv/e89folNEJzue0O7aejZRrhlUEyGhbP7jQWqo1OgoeCfszsLP9NK
k+RvA4zOkZmmk0g/</vt:lpwstr>
  </property>
  <property fmtid="{D5CDD505-2E9C-101B-9397-08002B2CF9AE}" pid="4" name="sflag">
    <vt:lpwstr>1343350071</vt:lpwstr>
  </property>
</Properties>
</file>