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34213" cy="9334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34400" cy="9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956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84120" y="0"/>
            <a:ext cx="304956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4400" y="699840"/>
            <a:ext cx="4667040" cy="35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65720"/>
            <a:ext cx="304956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84120" y="8865720"/>
            <a:ext cx="304956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FD33091-EECB-4353-95D1-A7BAC811245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E21B313-D523-4BCB-A03F-8346DD7AD5D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402C0B2-E5EA-4152-BE08-92E30B52732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F41E11A-A0F9-42E1-8D06-59F4B783C6F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8160" y="4435200"/>
            <a:ext cx="515952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F5F-3AA0-4052-A0B8-25DABDD6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FE8-1385-4F71-8E75-B613E575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AA7-1C05-42D0-9196-BFA05674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736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98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736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98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9FB-2BD1-4194-A30F-0038B6AB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F8DE-6EB1-477F-8299-52B766DC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27B4-DEEE-4925-BFE7-F38A74D8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2997-E4C7-4542-A3FC-B45BEEE1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EA1D-D63E-46BA-8A21-FB51A3B7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5964-3A6B-471C-BEB8-20ED63A9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69600" y="95400"/>
            <a:ext cx="7924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8F02-B9D9-4FBD-B6AC-B8C3FA63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6C14-9549-43EF-8BFF-C0961F36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250-5CA8-4E44-968F-08450924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676E-6D79-444F-B47F-2678B4AE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2824-87AD-46C7-BFC9-50D4F268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372D-2475-42E0-AEDC-1B2F751E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081C-F3E9-4C67-97C5-C7951EC3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8736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98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8736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98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37BC-B2AD-4CBF-B910-8C84F34F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2E4-4639-4A45-ACE5-592FC138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D8F-A54A-452A-9B97-A90600A5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B89-2775-48BC-92AE-9A0B655F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69600" y="95400"/>
            <a:ext cx="7924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8CB-99C5-4E16-8880-20E03116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737-8A9D-4C51-8CAD-E417D9B2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CC1-66D0-42CF-B6B7-84B5617A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61F-834C-4FEC-9421-9D464274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7934400" y="6662880"/>
            <a:ext cx="12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C3A0-91A7-48AA-A99C-77D6B4E2980E}" type="slidenum">
              <a:rPr b="0" lang="zh-CN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15840" y="6662880"/>
            <a:ext cx="881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286680"/>
                <a:tab algn="r" pos="863136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Copyright © 2004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www.juniper.net </a:t>
            </a:r>
            <a:endParaRPr b="1" lang="en-US" sz="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Line 10"/>
          <p:cNvSpPr/>
          <p:nvPr/>
        </p:nvSpPr>
        <p:spPr>
          <a:xfrm>
            <a:off x="770040" y="988920"/>
            <a:ext cx="7634160" cy="0"/>
          </a:xfrm>
          <a:prstGeom prst="line">
            <a:avLst/>
          </a:prstGeom>
          <a:ln w="44280">
            <a:solidFill>
              <a:srgbClr val="9fa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B780-454A-403F-B6BF-D78328541ACF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397A-9348-4609-B12C-0AFB2DC63F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6578640"/>
            <a:ext cx="808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29200"/>
                <a:tab algn="ctr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Copyright © 2004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www.juniper.net </a:t>
            </a:r>
            <a:endParaRPr b="1" lang="en-US" sz="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7924680" y="657216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A952-9932-48D0-A3B1-C12FCC9894DC}" type="slidenum">
              <a:rPr b="0" lang="zh-CN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D314-6B8C-4BAA-B4A3-10B3CEDE696C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7BBE-BBC0-46AA-9564-7F35D6C937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4CF0-B9CE-4092-82D4-8A648783D4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4th IETF - Vancouver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173b"/>
                </a:solidFill>
                <a:latin typeface="Franklin Gothic Heavy"/>
                <a:ea typeface="宋体"/>
              </a:rPr>
              <a:t>VPLS PE Model with E-Tree Suppor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99840" y="4024080"/>
            <a:ext cx="655308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Yuanlong Jiang, Lucy Yong, Manuel Paul, Frederic Jounay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lorin Balus, Wim Henderickx, Ali Sajass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47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475280" y="2819520"/>
            <a:ext cx="63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draft-jiang-l2vpn-vpls-etree-pe-06.tx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63A8-F251-4FBB-A4D8-C3F7485150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hanges in draft-06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dd the support of BGP VPLS, with basic texts originated from draft-jiang-l2vpn-etree-bgp-00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Keep the procedures in line with RFC 4761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dd a section on the E-Tree OA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ame functions as RFC 6136 app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Root VLAN is proposed for segment OAM fram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Rewrite PW processing in the Compatible Mode, so that no VLAN translation is needed ther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ata plane processing for PW was straightened ou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ome clarifications on the usage of PE models in the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ppendi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ore improvements on tex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4th IETF - Vancouver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62EE-96CA-4BC9-BD97-F1E1B5B2F7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scussions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Three different approaches proposed for E-Tree support in VPLS hitherto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ual VLAN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ulti-PW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Control Word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Lots of E-Tree discussions on L2VPN mailing list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Quite a few misunderstandings clarified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or multi-PWs, OAM poses as a challenge to overcome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or Control Word, needs to install E-Tree attributes in the FIB or some specially tailored implementation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or Dual VLANs, no showstopper was found yet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4th IETF - Vancouver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5549-A437-485E-A03B-CD982812FD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scussions (cont.)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Requirements of E-Tree servic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ervices specified in MEF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ame paradigm followed by BBF and ITU-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Both req. and framework progressing as working document in L2VPN WG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olutions for E-Tree services in other SDO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symmetric VLAN mechanism was already defined for Ethernet networks in IEEE 802.1, and also adopted by ITU-T SG-15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BBF only supports E-Tree in MPLS scenario with a single root attached PE at present, awaiting IETF solution progres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4th IETF - Vancouver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F046-C30F-42A7-B79E-251FE98276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olicit consensus of the WG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hall we following other SDOs in using asymmetric VLAN mechanism for E-Tree solution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Polling for WG adoptio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Can we use this I-D as a baseline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4th IETF - Vancouver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C25C-139E-4CDD-A97F-D111E395C9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2523960" y="2346480"/>
            <a:ext cx="4419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Times New Roman"/>
                <a:ea typeface="黑体"/>
              </a:rPr>
              <a:t>     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190680" y="2359080"/>
            <a:ext cx="2663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000" spc="-1" strike="noStrike">
                <a:solidFill>
                  <a:srgbClr val="93173b"/>
                </a:solidFill>
                <a:latin typeface="FrutigerNext LT Medium"/>
                <a:ea typeface="MS PGothic"/>
              </a:rPr>
              <a:t>Thank You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4th IETF - Vancouver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23:56:14Z</dcterms:created>
  <dc:creator>JYL</dc:creator>
  <dc:description/>
  <cp:keywords>E-Tree</cp:keywords>
  <dc:language>en-US</dc:language>
  <cp:lastModifiedBy>Giles Heron</cp:lastModifiedBy>
  <dcterms:modified xsi:type="dcterms:W3CDTF">2012-08-01T18:16:27Z</dcterms:modified>
  <cp:revision>1377</cp:revision>
  <dc:subject/>
  <dc:title>PE Model for E-Tr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48+zDb7Jvy1m7Bv9opD00Wmj4QT5o7azo9TWHo45mDrX1GQFWb8eX/UN4ujHJUfEC/uewq+f
xok/msjtGWUkzkkddGyUuqfN1tQ7h9bojCxgdz6KVaEySxYb8/p2Gn0QsA61lkq778xJlHti
zMoJAjpz9sSX/bPcL0dr5udkohNi3pK+TqwnZZiRt3AD2DUiSjcfU3s/U0TXYpT01a1IinBk
7Jv9xwHoP0w6oESP7S</vt:lpwstr>
  </property>
  <property fmtid="{D5CDD505-2E9C-101B-9397-08002B2CF9AE}" pid="3" name="_ms_pID_7253431">
    <vt:lpwstr>G7sCm/QUgNP9VfJy37u8hUH8UiWtBCzJZbki4rQ4NMvlLdTiYp05rR
X49HdXwOBSx55PXTdpsSsrA+Lx6BPEVBc49e+OXflJ/0JvNAFyh+OZYr1nWpOXuEQugGgais
G7eheX0IZDgnzjvwj8Sv/e89folNEJzue0O7aejZRrhlUEyGhbP7jQWqo1OgoeCfszsLP9NK
k+RvA4zOkZmmk0g/</vt:lpwstr>
  </property>
  <property fmtid="{D5CDD505-2E9C-101B-9397-08002B2CF9AE}" pid="4" name="sflag">
    <vt:lpwstr>1343350071</vt:lpwstr>
  </property>
</Properties>
</file>