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F012-B8E4-4321-842C-FAF00CE99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make the point that the split in content matches the two parts on the previous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9A6-494A-4F08-8C65-4A9E6C7A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058-20FD-4D90-B463-C996BF8A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62E-AC4D-4F00-993F-E9A03496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D24-F777-41F0-8204-345FDB36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CDE-DF96-4F52-BFE9-77AE9FAB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A3C-702D-42D7-8B22-B95D3069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043-D39C-4794-A0EF-C12A022D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803-FD46-402C-90DE-FF51939A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DEC-E07F-450F-94A8-6E486E86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DA98-7C4E-477D-A8F1-2FCE6966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587-9C6F-47D8-8144-F7641A8D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46B-EB7E-476B-851A-684FA454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CF34-3CA6-4D19-98C5-310E19AEE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P Architecture Document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TF 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30th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nce Fuller / Noel Chiap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In An ‘Architecture Document’ Anyw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ixed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assuming it should co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troduction to the entire LISP system – what all the major components are, and how they interact (such an overview is also architect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Architectural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high-level architectural perspectives which have proven useful for thinking about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other architectural aspects of LISP (e.g. its namespa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al review of the LISP system (analysis of various aspects of the system; e.g. its scalability, security, robustness, et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P Architecture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ded to fulfil Charter requirement for “Architecture descrip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if the WG likes the approach these I-Ds take, of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Document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to the amount of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ft-chiappa-lisp-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al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ft-chiappa-lisp-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everyone who wants to know about LISP will likely want to read, the second is a bit more spec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’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ment Philoso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P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Functional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pp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ment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Discovery/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’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 of L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al Perspectiv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see next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al Aspec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see next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Discovery/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al’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al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other Packet-Switching Layer –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SP can (and should) be seen as a packet switching system, layered on top of IPvN, with all the usual technical issues of such systems (e.g. neighbour liven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'Double-Ended' Approach –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SP requires a box at both ends (unlike approaches like NAT), but this has advantages,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al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ritic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eed for a Mapp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iggybacking of Control on User Data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nts? Reac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eople OK with these documents as a base for fulfilling the Charter requir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, do people like the general concept of the contents of these docu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is there anything we ought to cover that’s not lis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ne</cp:lastModifiedBy>
  <dcterms:modified xsi:type="dcterms:W3CDTF">2012-07-20T18:22:06Z</dcterms:modified>
  <cp:revision>8</cp:revision>
  <dc:subject/>
  <dc:title>PowerPoint Presentation</dc:title>
</cp:coreProperties>
</file>