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5B4E-C159-41C7-8192-A2344E240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make the point that the split in content matches the two parts on the previous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138-A453-4098-AAB5-F58D5261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69B-8637-4399-9250-65EDF40E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76C-33C0-41A6-9FEB-EBC4FA31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DFC-B1FB-4CC6-88A5-7DDA8E82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3DB-6A56-401E-8543-5C310B9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7BC-B720-4882-9651-561C8B8D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EE1-9A5B-49F5-83AB-1A0ED256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6A9-D6E1-428D-91A2-9BA2CE31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A5A-1D27-4D57-AEFF-2CB4B930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7E0-36E4-47C1-9683-F167B815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467-B45C-49DB-901C-10AB99BE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A79-54C3-47E3-BA70-BB87A2BD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5D5E-261A-4F21-90F1-D50A983DE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P Architecture Document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 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30th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nce Fuller / Noel Chiap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In An ‘Architecture Document’ Anyw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xed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assuming it should co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troduction to the entire LISP system – what all the major components are, and how they interact (such an overview is also architect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rchitectural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high-level architectural perspectives which have proven useful for thinking about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other architectural aspects of LISP (e.g. its namespa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al review of the LISP system (analysis of various aspects of the system; e.g. its scalability, security, robustness, et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P Architecture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ded to fulfil Charter requirement for “Architecture descrip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if the WG likes the approach these I-Ds take, of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Document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the amount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-chiappa-lisp-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al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-chiappa-lisp-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everyone who wants to know about LISP will likely want to read, the second is a bit more spe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’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 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P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Functional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pp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Discovery/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’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 of L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al Perspectiv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see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al Aspec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see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Discovery/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’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al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other Packet-Switching Layer –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P can (and should) be seen as a packet switching system, layered on top of IPvN, with all the usual technical issues of such systems (e.g. neighbour liven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'Double-Ended' Approach –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P requires a box at both ends (unlike approaches like NAT), but this has advantages,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a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itic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eed for a Mapp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iggybacking of Control on User Data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s? Reac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eople OK with these documents as a base for fulfilling the Charter requir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, do people like the general concept of the contents of these docu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s there anything we ought to cover that’s not lis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ne</cp:lastModifiedBy>
  <dcterms:modified xsi:type="dcterms:W3CDTF">2012-07-20T18:22:06Z</dcterms:modified>
  <cp:revision>8</cp:revision>
  <dc:subject/>
  <dc:title>PowerPoint Presentation</dc:title>
</cp:coreProperties>
</file>