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5F83-1650-47D1-805D-331D723CE36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4760" y="685440"/>
            <a:ext cx="484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8DCB-DEDA-4DE9-9FBA-BDEFE05E9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A826-D0D6-434A-8ED0-2455330EB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F2A0-9E0D-4BA8-A2C1-92BA86BEE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1035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080" y="4476960"/>
            <a:ext cx="1035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1DDF-0438-4695-AB4E-97A401C87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2400" y="161460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080" y="447696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2400" y="447696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6882-1754-463F-90EF-08A97A693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333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7720" y="1614600"/>
            <a:ext cx="333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28360" y="1614600"/>
            <a:ext cx="333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080" y="4476960"/>
            <a:ext cx="333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7720" y="4476960"/>
            <a:ext cx="333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28360" y="4476960"/>
            <a:ext cx="333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BD29-E4EB-4129-9882-D2DDBC3F52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080" y="1614600"/>
            <a:ext cx="1035360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spcBef>
                <a:spcPts val="488"/>
              </a:spcBef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6C21-C3CF-48A5-A680-21A29505F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10353600" cy="54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7A38-F9EB-4B4C-8ED7-593C727AE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5052240" cy="54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2400" y="1614600"/>
            <a:ext cx="5052240" cy="54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2671-02F9-4AD2-81CB-03D213690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56FE-F175-439E-A833-09A64C985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080" y="820800"/>
            <a:ext cx="10353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spcBef>
                <a:spcPts val="488"/>
              </a:spcBef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CB12-C0F1-40B8-B4CC-05204AE23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2400" y="1614600"/>
            <a:ext cx="5052240" cy="54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080" y="447696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2504-8DF6-4C9A-9277-050B97930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5052240" cy="54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2400" y="161460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2400" y="447696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8251-895C-4763-B0B8-0F720B8D7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2400" y="161460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080" y="4476960"/>
            <a:ext cx="1035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6826-9453-4781-B0FF-19BC63705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7080" y="1614600"/>
            <a:ext cx="10353600" cy="54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marL="369720" indent="-369720">
              <a:lnSpc>
                <a:spcPct val="99000"/>
              </a:lnSpc>
              <a:spcBef>
                <a:spcPts val="488"/>
              </a:spcBef>
              <a:buClr>
                <a:srgbClr val="210377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306360">
              <a:lnSpc>
                <a:spcPct val="99000"/>
              </a:lnSpc>
              <a:spcBef>
                <a:spcPts val="488"/>
              </a:spcBef>
              <a:buClr>
                <a:srgbClr val="210377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247680">
              <a:lnSpc>
                <a:spcPct val="99000"/>
              </a:lnSpc>
              <a:spcBef>
                <a:spcPts val="488"/>
              </a:spcBef>
              <a:buClr>
                <a:srgbClr val="210377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741320" indent="-247320">
              <a:lnSpc>
                <a:spcPct val="99000"/>
              </a:lnSpc>
              <a:spcBef>
                <a:spcPts val="488"/>
              </a:spcBef>
              <a:buClr>
                <a:srgbClr val="210377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239920" indent="-247680">
              <a:lnSpc>
                <a:spcPct val="99000"/>
              </a:lnSpc>
              <a:spcBef>
                <a:spcPts val="488"/>
              </a:spcBef>
              <a:buClr>
                <a:srgbClr val="210377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239920" indent="-247680">
              <a:lnSpc>
                <a:spcPct val="99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239920" indent="-247680">
              <a:lnSpc>
                <a:spcPct val="99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62600" y="7281720"/>
            <a:ext cx="2492280" cy="268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9191-C387-4ECC-A703-CFA93F3D8F49}" type="slidenum">
              <a:rPr b="0" lang="en-GB" sz="11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559400" y="7318440"/>
            <a:ext cx="3384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473040"/>
            <a:ext cx="10693440" cy="177840"/>
          </a:xfrm>
          <a:prstGeom prst="rect">
            <a:avLst/>
          </a:prstGeom>
          <a:solidFill>
            <a:srgbClr val="b5dcf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349000"/>
            <a:ext cx="9088560" cy="1621080"/>
          </a:xfrm>
          <a:prstGeom prst="rect">
            <a:avLst/>
          </a:prstGeom>
          <a:noFill/>
          <a:ln w="0">
            <a:noFill/>
          </a:ln>
        </p:spPr>
        <p:txBody>
          <a:bodyPr lIns="97920" rIns="129240" tIns="51120" bIns="5112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8801280"/>
                <a:tab algn="l" pos="9290160"/>
                <a:tab algn="l" pos="9779040"/>
                <a:tab algn="l" pos="10267920"/>
                <a:tab algn="l" pos="10756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Verdana"/>
              </a:rPr>
              <a:t>Updates on draft-ietf-manet-nhdp-se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662960" y="7281720"/>
            <a:ext cx="2492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CA3A-1380-463A-9F87-D62F2DB88998}" type="slidenum">
              <a:rPr b="0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473040"/>
            <a:ext cx="10693440" cy="177840"/>
          </a:xfrm>
          <a:prstGeom prst="rect">
            <a:avLst/>
          </a:prstGeom>
          <a:solidFill>
            <a:srgbClr val="b5dcf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4237200"/>
            <a:ext cx="10693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95000"/>
              </a:lnSpc>
              <a:spcBef>
                <a:spcPts val="1962"/>
              </a:spcBef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Verdana"/>
                <a:ea typeface="Verdana"/>
              </a:rPr>
              <a:t>Ulrich Herberg</a:t>
            </a:r>
            <a:br>
              <a:rPr sz="2000"/>
            </a:br>
            <a:r>
              <a:rPr b="0" lang="en-US" sz="2000" spc="-1" strike="noStrike">
                <a:solidFill>
                  <a:srgbClr val="2d2db9"/>
                </a:solidFill>
                <a:latin typeface="Verdana"/>
                <a:ea typeface="Verdana"/>
              </a:rPr>
              <a:t>Thomas Cl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129240" tIns="51120" bIns="5112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  <a:tab algn="l" pos="10756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Updates on draft-ietf-manet-nhdp-sec-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662960" y="7281720"/>
            <a:ext cx="2492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F716-D166-4A02-A19E-D769A6D53E3E}" type="slidenum">
              <a:rPr b="0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473040"/>
            <a:ext cx="10693440" cy="177840"/>
          </a:xfrm>
          <a:prstGeom prst="rect">
            <a:avLst/>
          </a:prstGeom>
          <a:solidFill>
            <a:srgbClr val="b5dcf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27080" y="1614600"/>
            <a:ext cx="1036296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itorial updates (update terminology to RFC66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ided *against* specifying address IC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Reason: Not possible to protect against *negative* advertisement of addresses (i.e., a route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advertising addresses of a neighbor, or with a zero link qual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Only limited use ca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5553000" y="1879560"/>
            <a:ext cx="184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129240" tIns="51120" bIns="5112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  <a:tab algn="l" pos="10756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Discussion (comment by Chris Dearlo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662960" y="7281720"/>
            <a:ext cx="2492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D209-C0A5-4D4A-90BE-25DB66930698}" type="slidenum">
              <a:rPr b="0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473040"/>
            <a:ext cx="10693440" cy="177840"/>
          </a:xfrm>
          <a:prstGeom prst="rect">
            <a:avLst/>
          </a:prstGeom>
          <a:solidFill>
            <a:srgbClr val="b5dcf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27080" y="1614600"/>
            <a:ext cx="1036296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 for adding ICVs to RFC5444 packets (in addition to HELLO message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 of the nhdp-sec auth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We strongly support specifying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But: we prefer in another document, becau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Other protocols that do not use NHDP may want to use packet ICVs as wel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553000" y="1879560"/>
            <a:ext cx="184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129240" tIns="51120" bIns="5112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  <a:tab algn="l" pos="10756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662960" y="7281720"/>
            <a:ext cx="2492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0799-C1F9-4B2B-B3AB-88CC28D163C3}" type="slidenum">
              <a:rPr b="0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473040"/>
            <a:ext cx="10693440" cy="177840"/>
          </a:xfrm>
          <a:prstGeom prst="rect">
            <a:avLst/>
          </a:prstGeom>
          <a:solidFill>
            <a:srgbClr val="b5dcf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27080" y="1614600"/>
            <a:ext cx="1036296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WG LC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00:45:47Z</dcterms:created>
  <dc:creator/>
  <dc:description/>
  <cp:keywords/>
  <dc:language>en-US</dc:language>
  <cp:lastModifiedBy>Ulrich Herberg</cp:lastModifiedBy>
  <cp:lastPrinted>2011-07-21T17:29:14Z</cp:lastPrinted>
  <dcterms:modified xsi:type="dcterms:W3CDTF">2012-07-30T01:07:09Z</dcterms:modified>
  <cp:revision>264</cp:revision>
  <dc:subject/>
  <dc:title>MANET Cryptographical Signature TLV Definition draft-herberg-manet-packetbb-sec-01</dc:title>
</cp:coreProperties>
</file>