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0272-A33C-4A4C-9439-A9C3ED1E46A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4760" y="685440"/>
            <a:ext cx="4848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05D5-4980-472F-BFC8-D19FB516B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004760" y="685800"/>
            <a:ext cx="484848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64C2-DA91-405E-916A-7205A7AFE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E8B2-E96C-4419-A655-D6E71F5CE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080" y="1614600"/>
            <a:ext cx="1035360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080" y="4476960"/>
            <a:ext cx="1035360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5036-FE81-45BB-A0C1-2C2244CCC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80" y="161460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2400" y="161460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080" y="447696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32400" y="447696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8BD0-A948-4131-8F4F-1EB0193B6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080" y="1614600"/>
            <a:ext cx="333360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7720" y="1614600"/>
            <a:ext cx="333360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28360" y="1614600"/>
            <a:ext cx="333360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080" y="4476960"/>
            <a:ext cx="333360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7720" y="4476960"/>
            <a:ext cx="333360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28360" y="4476960"/>
            <a:ext cx="333360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2603-4B39-4413-BA97-904BF0A484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080" y="1614600"/>
            <a:ext cx="1035360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spcBef>
                <a:spcPts val="488"/>
              </a:spcBef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1B02-090D-43EE-A88B-2A8274071F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080" y="1614600"/>
            <a:ext cx="10353600" cy="54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326B-EEE4-4D5E-B115-3BED3530B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80" y="1614600"/>
            <a:ext cx="5052240" cy="54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32400" y="1614600"/>
            <a:ext cx="5052240" cy="54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454A-96DE-47EF-AD33-BB030E7C8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F66A-64DB-419F-95CF-2DBF7750A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080" y="820800"/>
            <a:ext cx="10353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spcBef>
                <a:spcPts val="488"/>
              </a:spcBef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39FD-5203-4AAD-AA97-5D7A29140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080" y="161460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2400" y="1614600"/>
            <a:ext cx="5052240" cy="54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080" y="447696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0F79-4553-43F1-91C9-121A5E2C5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080" y="1614600"/>
            <a:ext cx="5052240" cy="54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32400" y="161460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32400" y="447696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B43D-D318-462A-AE8B-C035BB028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080" y="161460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32400" y="1614600"/>
            <a:ext cx="505224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080" y="4476960"/>
            <a:ext cx="10353600" cy="2613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indent="0">
              <a:lnSpc>
                <a:spcPct val="99000"/>
              </a:lnSpc>
              <a:spcBef>
                <a:spcPts val="488"/>
              </a:spcBef>
              <a:buNone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2F2B-5797-4362-AEA5-3F878FA7F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7080" y="1614600"/>
            <a:ext cx="10353600" cy="54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rmAutofit/>
          </a:bodyPr>
          <a:p>
            <a:pPr marL="369720" indent="-369720">
              <a:lnSpc>
                <a:spcPct val="99000"/>
              </a:lnSpc>
              <a:spcBef>
                <a:spcPts val="488"/>
              </a:spcBef>
              <a:buClr>
                <a:srgbClr val="210377"/>
              </a:buClr>
              <a:buFont typeface="Wingdings" charset="2"/>
              <a:buChar char="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306360">
              <a:lnSpc>
                <a:spcPct val="99000"/>
              </a:lnSpc>
              <a:spcBef>
                <a:spcPts val="488"/>
              </a:spcBef>
              <a:buClr>
                <a:srgbClr val="210377"/>
              </a:buClr>
              <a:buFont typeface="Wingdings" charset="2"/>
              <a:buChar char="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247680">
              <a:lnSpc>
                <a:spcPct val="99000"/>
              </a:lnSpc>
              <a:spcBef>
                <a:spcPts val="488"/>
              </a:spcBef>
              <a:buClr>
                <a:srgbClr val="210377"/>
              </a:buClr>
              <a:buFont typeface="Wingdings" charset="2"/>
              <a:buChar char="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741320" indent="-247320">
              <a:lnSpc>
                <a:spcPct val="99000"/>
              </a:lnSpc>
              <a:spcBef>
                <a:spcPts val="488"/>
              </a:spcBef>
              <a:buClr>
                <a:srgbClr val="210377"/>
              </a:buClr>
              <a:buFont typeface="Wingdings" charset="2"/>
              <a:buChar char="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239920" indent="-247680">
              <a:lnSpc>
                <a:spcPct val="99000"/>
              </a:lnSpc>
              <a:spcBef>
                <a:spcPts val="488"/>
              </a:spcBef>
              <a:buClr>
                <a:srgbClr val="210377"/>
              </a:buClr>
              <a:buFont typeface="Wingdings" charset="2"/>
              <a:buChar char="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239920" indent="-247680">
              <a:lnSpc>
                <a:spcPct val="99000"/>
              </a:lnSpc>
              <a:spcBef>
                <a:spcPts val="4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239920" indent="-247680">
              <a:lnSpc>
                <a:spcPct val="99000"/>
              </a:lnSpc>
              <a:spcBef>
                <a:spcPts val="4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62600" y="7281720"/>
            <a:ext cx="2492280" cy="268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120" bIns="51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C040-419C-4750-B730-58B80B8E1592}" type="slidenum">
              <a:rPr b="0" lang="en-GB" sz="11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559400" y="7318440"/>
            <a:ext cx="3384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473040"/>
            <a:ext cx="10693440" cy="177840"/>
          </a:xfrm>
          <a:prstGeom prst="rect">
            <a:avLst/>
          </a:prstGeom>
          <a:solidFill>
            <a:srgbClr val="b5dcf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349000"/>
            <a:ext cx="9088560" cy="1621080"/>
          </a:xfrm>
          <a:prstGeom prst="rect">
            <a:avLst/>
          </a:prstGeom>
          <a:noFill/>
          <a:ln w="0">
            <a:noFill/>
          </a:ln>
        </p:spPr>
        <p:txBody>
          <a:bodyPr lIns="97920" rIns="129240" tIns="51120" bIns="5112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8801280"/>
                <a:tab algn="l" pos="9290160"/>
                <a:tab algn="l" pos="9779040"/>
                <a:tab algn="l" pos="10267920"/>
                <a:tab algn="l" pos="107568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Verdana"/>
              </a:rPr>
              <a:t>Updates on draft-ietf-manet-nhdp-se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662960" y="7281720"/>
            <a:ext cx="24922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51120" bIns="51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8087-B14E-4637-AE8E-64691136A849}" type="slidenum">
              <a:rPr b="0" lang="en-US" sz="11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473040"/>
            <a:ext cx="10693440" cy="177840"/>
          </a:xfrm>
          <a:prstGeom prst="rect">
            <a:avLst/>
          </a:prstGeom>
          <a:solidFill>
            <a:srgbClr val="b5dcf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4237200"/>
            <a:ext cx="10693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95000"/>
              </a:lnSpc>
              <a:spcBef>
                <a:spcPts val="1962"/>
              </a:spcBef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b9"/>
                </a:solidFill>
                <a:latin typeface="Verdana"/>
                <a:ea typeface="Verdana"/>
              </a:rPr>
              <a:t>Ulrich Herberg</a:t>
            </a:r>
            <a:br>
              <a:rPr sz="2000"/>
            </a:br>
            <a:r>
              <a:rPr b="0" lang="en-US" sz="2000" spc="-1" strike="noStrike">
                <a:solidFill>
                  <a:srgbClr val="2d2db9"/>
                </a:solidFill>
                <a:latin typeface="Verdana"/>
                <a:ea typeface="Verdana"/>
              </a:rPr>
              <a:t>Thomas Cl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129240" tIns="51120" bIns="5112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  <a:tab algn="l" pos="10756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Updates on draft-ietf-manet-nhdp-sec-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662960" y="7281720"/>
            <a:ext cx="24922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51120" bIns="51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2E73-30B1-47F5-9235-2F99C84CC163}" type="slidenum">
              <a:rPr b="0" lang="en-US" sz="11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473040"/>
            <a:ext cx="10693440" cy="177840"/>
          </a:xfrm>
          <a:prstGeom prst="rect">
            <a:avLst/>
          </a:prstGeom>
          <a:solidFill>
            <a:srgbClr val="b5dcf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27080" y="1614600"/>
            <a:ext cx="1036296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4064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ditorial updates (update terminology to RFC662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ided *against* specifying address ICV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Reason: Not possible to protect against *negative* advertisement of addresses (i.e., a route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no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advertising addresses of a neighbor, or with a zero link quali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Only limited use ca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5553000" y="1879560"/>
            <a:ext cx="184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129240" tIns="51120" bIns="5112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  <a:tab algn="l" pos="10756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Discussion (comment by Chris Dearlov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662960" y="7281720"/>
            <a:ext cx="24922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51120" bIns="51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7918-AA30-416C-9B67-2CAE4C9DBB03}" type="slidenum">
              <a:rPr b="0" lang="en-US" sz="11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473040"/>
            <a:ext cx="10693440" cy="177840"/>
          </a:xfrm>
          <a:prstGeom prst="rect">
            <a:avLst/>
          </a:prstGeom>
          <a:solidFill>
            <a:srgbClr val="b5dcf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27080" y="1614600"/>
            <a:ext cx="1036296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4064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 for adding ICVs to RFC5444 packets (in addition to HELLO messages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 of the nhdp-sec autho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We strongly support specifying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But: we prefer in another document, becau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ヒラギノ角ゴ ProN W3"/>
              </a:rPr>
              <a:t>Other protocols that do not use NHDP may want to use packet ICVs as wel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5553000" y="1879560"/>
            <a:ext cx="184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080" y="820800"/>
            <a:ext cx="10353600" cy="619200"/>
          </a:xfrm>
          <a:prstGeom prst="rect">
            <a:avLst/>
          </a:prstGeom>
          <a:noFill/>
          <a:ln w="0">
            <a:noFill/>
          </a:ln>
        </p:spPr>
        <p:txBody>
          <a:bodyPr lIns="97920" rIns="129240" tIns="51120" bIns="5112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  <a:tab algn="l" pos="10756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662960" y="7281720"/>
            <a:ext cx="24922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51120" bIns="51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B8CC-DB5E-4BB1-B6E3-AAE43208530D}" type="slidenum">
              <a:rPr b="0" lang="en-US" sz="11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473040"/>
            <a:ext cx="10693440" cy="177840"/>
          </a:xfrm>
          <a:prstGeom prst="rect">
            <a:avLst/>
          </a:prstGeom>
          <a:solidFill>
            <a:srgbClr val="b5dcf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27080" y="1614600"/>
            <a:ext cx="1036296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4064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WG LC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368280">
              <a:lnSpc>
                <a:spcPct val="101000"/>
              </a:lnSpc>
              <a:spcBef>
                <a:spcPts val="488"/>
              </a:spcBef>
              <a:spcAft>
                <a:spcPts val="1800"/>
              </a:spcAft>
              <a:buClr>
                <a:srgbClr val="210377"/>
              </a:buClr>
              <a:buFont typeface="Wingdings" charset="2"/>
              <a:buChar char="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724960"/>
                <a:tab algn="l" pos="9448920"/>
                <a:tab algn="l" pos="10172880"/>
                <a:tab algn="l" pos="10553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00:45:47Z</dcterms:created>
  <dc:creator/>
  <dc:description/>
  <cp:keywords/>
  <dc:language>en-US</dc:language>
  <cp:lastModifiedBy>Ulrich Herberg</cp:lastModifiedBy>
  <cp:lastPrinted>2011-07-21T17:29:14Z</cp:lastPrinted>
  <dcterms:modified xsi:type="dcterms:W3CDTF">2012-07-30T01:07:09Z</dcterms:modified>
  <cp:revision>264</cp:revision>
  <dc:subject/>
  <dc:title>MANET Cryptographical Signature TLV Definition draft-herberg-manet-packetbb-sec-01</dc:title>
</cp:coreProperties>
</file>